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explode.wav" ContentType="audio/x-wav"/>
  <Override PartName="/ppt/media/suction.wav" ContentType="audio/x-wav"/>
  <Override PartName="/ppt/media/image7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356-6F8B-44C3-B0B5-EC6F4A51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1AD-6341-4198-B6E8-D43ECD08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E9B-FC72-4178-A111-43890149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78C-46E3-4768-AFBF-C3B48B59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C54D-5D1B-480B-8F5A-84FBDAF0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61F9-AF0A-4C29-9A35-F88F19F2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6E0D-CE5D-441B-AEBA-11B31F6C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2DE0-A973-46A8-8890-810DCAD2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0DE8-5C40-4819-937F-8F07D0EB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5408-CF6E-4DF9-A2FF-4976C5A7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99C1-4CB6-4B92-B172-7911395C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099-16F4-4542-9353-0436B25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B08F-6F4E-4CE3-8010-D4C3721A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660A-902D-4CF3-8B4D-6EB4BE7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920E-91FB-492B-8B02-0F274FDF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92F8-E48B-49F8-B7A4-3857D42C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7800-10DA-44E5-A582-3A17070C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4DE-06E9-4E3C-972E-17D6E554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109-5572-4C9D-AEFB-CA538137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1E9-CA7D-4836-9442-D0AD2ED4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0A6-BCFB-4402-B326-B7503C85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76B-C960-40B1-8D61-A6B3070A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51D-2A09-4315-8B75-3DCE7880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514-F5A4-419F-AD04-9959D52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0263-29BF-49E4-8198-592243BA1E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BC07-1CA9-4F3F-8A8A-351FDFB4D3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467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2209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    m-7=1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2 + p = 4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4m = 6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-380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q/8 = 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209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2438280"/>
            <a:ext cx="6043680" cy="1757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2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lving 2-Step Equation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4419720"/>
            <a:ext cx="15940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addition or subtract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multiplication or divis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3809880"/>
          <a:ext cx="1800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9880"/>
                    <a:ext cx="1800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486400" y="3657600"/>
          <a:ext cx="173340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1733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62120" y="5029200"/>
          <a:ext cx="16509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029200"/>
                    <a:ext cx="1650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638680" y="5029200"/>
          <a:ext cx="1600200" cy="95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5029200"/>
                    <a:ext cx="16002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02640" y="220680"/>
            <a:ext cx="63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solve 2-step equations with inte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581280"/>
            <a:ext cx="473040" cy="357480"/>
          </a:xfrm>
          <a:custGeom>
            <a:avLst/>
            <a:gdLst/>
            <a:ahLst/>
            <a:rect l="l" t="t" r="r" b="b"/>
            <a:pathLst>
              <a:path w="1315" h="993">
                <a:moveTo>
                  <a:pt x="1042" y="10319"/>
                </a:moveTo>
                <a:cubicBezTo>
                  <a:pt x="987" y="10337"/>
                  <a:pt x="1059" y="10383"/>
                  <a:pt x="1067" y="10443"/>
                </a:cubicBezTo>
                <a:cubicBezTo>
                  <a:pt x="1081" y="10548"/>
                  <a:pt x="1055" y="10641"/>
                  <a:pt x="1091" y="10740"/>
                </a:cubicBezTo>
              </a:path>
              <a:path w="1315" h="993">
                <a:moveTo>
                  <a:pt x="1563" y="9996"/>
                </a:moveTo>
                <a:cubicBezTo>
                  <a:pt x="1472" y="9962"/>
                  <a:pt x="1364" y="9959"/>
                  <a:pt x="1265" y="9971"/>
                </a:cubicBezTo>
                <a:cubicBezTo>
                  <a:pt x="1149" y="9985"/>
                  <a:pt x="1030" y="9993"/>
                  <a:pt x="918" y="10021"/>
                </a:cubicBezTo>
                <a:cubicBezTo>
                  <a:pt x="805" y="10049"/>
                  <a:pt x="707" y="10068"/>
                  <a:pt x="620" y="10145"/>
                </a:cubicBezTo>
                <a:cubicBezTo>
                  <a:pt x="530" y="10224"/>
                  <a:pt x="440" y="10319"/>
                  <a:pt x="422" y="10443"/>
                </a:cubicBezTo>
                <a:cubicBezTo>
                  <a:pt x="402" y="10579"/>
                  <a:pt x="473" y="10680"/>
                  <a:pt x="571" y="10765"/>
                </a:cubicBezTo>
                <a:cubicBezTo>
                  <a:pt x="662" y="10845"/>
                  <a:pt x="822" y="10919"/>
                  <a:pt x="943" y="10939"/>
                </a:cubicBezTo>
                <a:cubicBezTo>
                  <a:pt x="1034" y="10954"/>
                  <a:pt x="1158" y="10900"/>
                  <a:pt x="1240" y="10864"/>
                </a:cubicBezTo>
                <a:cubicBezTo>
                  <a:pt x="1399" y="10795"/>
                  <a:pt x="1546" y="10720"/>
                  <a:pt x="1637" y="10567"/>
                </a:cubicBezTo>
                <a:cubicBezTo>
                  <a:pt x="1679" y="10497"/>
                  <a:pt x="1754" y="10356"/>
                  <a:pt x="1736" y="10269"/>
                </a:cubicBezTo>
                <a:cubicBezTo>
                  <a:pt x="1718" y="10182"/>
                  <a:pt x="1682" y="10125"/>
                  <a:pt x="1637" y="10046"/>
                </a:cubicBezTo>
                <a:cubicBezTo>
                  <a:pt x="1621" y="10017"/>
                  <a:pt x="1580" y="9945"/>
                  <a:pt x="1538" y="9947"/>
                </a:cubicBezTo>
                <a:cubicBezTo>
                  <a:pt x="1503" y="9947"/>
                  <a:pt x="1485" y="9951"/>
                  <a:pt x="1463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2200" y="4187880"/>
            <a:ext cx="2482920" cy="1911240"/>
          </a:xfrm>
          <a:custGeom>
            <a:avLst/>
            <a:gdLst/>
            <a:ahLst/>
            <a:rect l="l" t="t" r="r" b="b"/>
            <a:pathLst>
              <a:path w="6897" h="5310">
                <a:moveTo>
                  <a:pt x="3249" y="12005"/>
                </a:moveTo>
                <a:cubicBezTo>
                  <a:pt x="3352" y="11989"/>
                  <a:pt x="3440" y="11959"/>
                  <a:pt x="3547" y="11956"/>
                </a:cubicBezTo>
                <a:cubicBezTo>
                  <a:pt x="3628" y="11954"/>
                  <a:pt x="3652" y="11945"/>
                  <a:pt x="3721" y="11931"/>
                </a:cubicBezTo>
              </a:path>
              <a:path w="6897" h="5310">
                <a:moveTo>
                  <a:pt x="3423" y="11782"/>
                </a:moveTo>
                <a:cubicBezTo>
                  <a:pt x="3423" y="11865"/>
                  <a:pt x="3463" y="11925"/>
                  <a:pt x="3473" y="12005"/>
                </a:cubicBezTo>
                <a:cubicBezTo>
                  <a:pt x="3482" y="12076"/>
                  <a:pt x="3473" y="12157"/>
                  <a:pt x="3473" y="12229"/>
                </a:cubicBezTo>
              </a:path>
              <a:path w="6897" h="5310">
                <a:moveTo>
                  <a:pt x="4018" y="11708"/>
                </a:moveTo>
                <a:cubicBezTo>
                  <a:pt x="4018" y="11791"/>
                  <a:pt x="4010" y="11854"/>
                  <a:pt x="3994" y="11931"/>
                </a:cubicBezTo>
                <a:cubicBezTo>
                  <a:pt x="3994" y="11964"/>
                  <a:pt x="3994" y="11980"/>
                  <a:pt x="3994" y="12005"/>
                </a:cubicBezTo>
                <a:cubicBezTo>
                  <a:pt x="4090" y="12029"/>
                  <a:pt x="4230" y="12004"/>
                  <a:pt x="4341" y="11981"/>
                </a:cubicBezTo>
              </a:path>
              <a:path w="6897" h="5310">
                <a:moveTo>
                  <a:pt x="4440" y="11633"/>
                </a:moveTo>
                <a:cubicBezTo>
                  <a:pt x="4440" y="11745"/>
                  <a:pt x="4424" y="11846"/>
                  <a:pt x="4415" y="11956"/>
                </a:cubicBezTo>
                <a:cubicBezTo>
                  <a:pt x="4406" y="12073"/>
                  <a:pt x="4399" y="12220"/>
                  <a:pt x="4440" y="12328"/>
                </a:cubicBezTo>
              </a:path>
              <a:path w="6897" h="5310">
                <a:moveTo>
                  <a:pt x="3026" y="12626"/>
                </a:moveTo>
                <a:cubicBezTo>
                  <a:pt x="3152" y="12626"/>
                  <a:pt x="3273" y="12606"/>
                  <a:pt x="3398" y="12601"/>
                </a:cubicBezTo>
                <a:cubicBezTo>
                  <a:pt x="3720" y="12587"/>
                  <a:pt x="4044" y="12588"/>
                  <a:pt x="4366" y="12576"/>
                </a:cubicBezTo>
                <a:cubicBezTo>
                  <a:pt x="4539" y="12569"/>
                  <a:pt x="4714" y="12576"/>
                  <a:pt x="4887" y="12576"/>
                </a:cubicBezTo>
              </a:path>
              <a:path w="6897" h="5310">
                <a:moveTo>
                  <a:pt x="4390" y="12799"/>
                </a:moveTo>
                <a:cubicBezTo>
                  <a:pt x="4331" y="12799"/>
                  <a:pt x="4255" y="12792"/>
                  <a:pt x="4217" y="12849"/>
                </a:cubicBezTo>
                <a:cubicBezTo>
                  <a:pt x="4188" y="12893"/>
                  <a:pt x="4219" y="12964"/>
                  <a:pt x="4266" y="12973"/>
                </a:cubicBezTo>
                <a:cubicBezTo>
                  <a:pt x="4297" y="12979"/>
                  <a:pt x="4452" y="12983"/>
                  <a:pt x="4465" y="12948"/>
                </a:cubicBezTo>
                <a:cubicBezTo>
                  <a:pt x="4486" y="12891"/>
                  <a:pt x="4465" y="12842"/>
                  <a:pt x="4415" y="12824"/>
                </a:cubicBezTo>
                <a:cubicBezTo>
                  <a:pt x="4407" y="12824"/>
                  <a:pt x="4398" y="12824"/>
                  <a:pt x="4390" y="12824"/>
                </a:cubicBezTo>
              </a:path>
              <a:path w="6897" h="5310">
                <a:moveTo>
                  <a:pt x="4936" y="12105"/>
                </a:moveTo>
                <a:cubicBezTo>
                  <a:pt x="5045" y="12097"/>
                  <a:pt x="5151" y="12061"/>
                  <a:pt x="5259" y="12055"/>
                </a:cubicBezTo>
                <a:cubicBezTo>
                  <a:pt x="5330" y="12051"/>
                  <a:pt x="5374" y="12021"/>
                  <a:pt x="5432" y="11981"/>
                </a:cubicBezTo>
              </a:path>
              <a:path w="6897" h="5310">
                <a:moveTo>
                  <a:pt x="5209" y="11906"/>
                </a:moveTo>
                <a:cubicBezTo>
                  <a:pt x="5209" y="12034"/>
                  <a:pt x="5206" y="12157"/>
                  <a:pt x="5234" y="12278"/>
                </a:cubicBezTo>
                <a:cubicBezTo>
                  <a:pt x="5234" y="12286"/>
                  <a:pt x="5234" y="12295"/>
                  <a:pt x="5234" y="12303"/>
                </a:cubicBezTo>
              </a:path>
              <a:path w="6897" h="5310">
                <a:moveTo>
                  <a:pt x="6028" y="11733"/>
                </a:moveTo>
                <a:cubicBezTo>
                  <a:pt x="6049" y="11832"/>
                  <a:pt x="6021" y="11925"/>
                  <a:pt x="6003" y="12030"/>
                </a:cubicBezTo>
                <a:cubicBezTo>
                  <a:pt x="6003" y="12055"/>
                  <a:pt x="6003" y="12063"/>
                  <a:pt x="6003" y="12080"/>
                </a:cubicBezTo>
                <a:cubicBezTo>
                  <a:pt x="6139" y="12080"/>
                  <a:pt x="6267" y="12086"/>
                  <a:pt x="6400" y="12055"/>
                </a:cubicBezTo>
                <a:cubicBezTo>
                  <a:pt x="6468" y="12039"/>
                  <a:pt x="6480" y="12024"/>
                  <a:pt x="6524" y="11981"/>
                </a:cubicBezTo>
              </a:path>
              <a:path w="6897" h="5310">
                <a:moveTo>
                  <a:pt x="6524" y="11757"/>
                </a:moveTo>
                <a:cubicBezTo>
                  <a:pt x="6451" y="11881"/>
                  <a:pt x="6428" y="11959"/>
                  <a:pt x="6424" y="12105"/>
                </a:cubicBezTo>
                <a:cubicBezTo>
                  <a:pt x="6422" y="12196"/>
                  <a:pt x="6424" y="12287"/>
                  <a:pt x="6424" y="12378"/>
                </a:cubicBezTo>
              </a:path>
              <a:path w="6897" h="5310">
                <a:moveTo>
                  <a:pt x="5383" y="12576"/>
                </a:moveTo>
                <a:cubicBezTo>
                  <a:pt x="5673" y="12546"/>
                  <a:pt x="5960" y="12568"/>
                  <a:pt x="6251" y="12551"/>
                </a:cubicBezTo>
                <a:cubicBezTo>
                  <a:pt x="6415" y="12541"/>
                  <a:pt x="6654" y="12479"/>
                  <a:pt x="6821" y="12526"/>
                </a:cubicBezTo>
                <a:cubicBezTo>
                  <a:pt x="6851" y="12556"/>
                  <a:pt x="6865" y="12561"/>
                  <a:pt x="6896" y="12526"/>
                </a:cubicBezTo>
              </a:path>
              <a:path w="6897" h="5310">
                <a:moveTo>
                  <a:pt x="5854" y="12626"/>
                </a:moveTo>
                <a:cubicBezTo>
                  <a:pt x="5878" y="12758"/>
                  <a:pt x="5934" y="12885"/>
                  <a:pt x="5953" y="13022"/>
                </a:cubicBezTo>
                <a:cubicBezTo>
                  <a:pt x="5961" y="13081"/>
                  <a:pt x="5972" y="13140"/>
                  <a:pt x="5978" y="13196"/>
                </a:cubicBezTo>
                <a:cubicBezTo>
                  <a:pt x="5978" y="13221"/>
                  <a:pt x="5978" y="13229"/>
                  <a:pt x="6003" y="13221"/>
                </a:cubicBezTo>
              </a:path>
              <a:path w="6897" h="5310">
                <a:moveTo>
                  <a:pt x="6573" y="12898"/>
                </a:moveTo>
                <a:cubicBezTo>
                  <a:pt x="6630" y="12926"/>
                  <a:pt x="6723" y="13037"/>
                  <a:pt x="6772" y="13097"/>
                </a:cubicBezTo>
                <a:cubicBezTo>
                  <a:pt x="6804" y="13137"/>
                  <a:pt x="6877" y="13234"/>
                  <a:pt x="6846" y="13295"/>
                </a:cubicBezTo>
                <a:cubicBezTo>
                  <a:pt x="6804" y="13378"/>
                  <a:pt x="6695" y="13441"/>
                  <a:pt x="6598" y="13395"/>
                </a:cubicBezTo>
                <a:cubicBezTo>
                  <a:pt x="6555" y="13375"/>
                  <a:pt x="6345" y="13246"/>
                  <a:pt x="6325" y="13196"/>
                </a:cubicBezTo>
                <a:cubicBezTo>
                  <a:pt x="6299" y="13130"/>
                  <a:pt x="6380" y="12968"/>
                  <a:pt x="6424" y="12923"/>
                </a:cubicBezTo>
                <a:cubicBezTo>
                  <a:pt x="6473" y="12874"/>
                  <a:pt x="6564" y="12808"/>
                  <a:pt x="6623" y="12774"/>
                </a:cubicBezTo>
                <a:cubicBezTo>
                  <a:pt x="6639" y="12766"/>
                  <a:pt x="6656" y="12758"/>
                  <a:pt x="6672" y="12750"/>
                </a:cubicBezTo>
                <a:cubicBezTo>
                  <a:pt x="6672" y="12654"/>
                  <a:pt x="6623" y="12619"/>
                  <a:pt x="6524" y="12601"/>
                </a:cubicBezTo>
                <a:cubicBezTo>
                  <a:pt x="6442" y="12586"/>
                  <a:pt x="6396" y="12613"/>
                  <a:pt x="6325" y="12626"/>
                </a:cubicBezTo>
                <a:cubicBezTo>
                  <a:pt x="6273" y="12635"/>
                  <a:pt x="6202" y="12667"/>
                  <a:pt x="6176" y="12725"/>
                </a:cubicBezTo>
                <a:cubicBezTo>
                  <a:pt x="6164" y="12752"/>
                  <a:pt x="6263" y="12886"/>
                  <a:pt x="6276" y="12898"/>
                </a:cubicBezTo>
                <a:cubicBezTo>
                  <a:pt x="6316" y="12918"/>
                  <a:pt x="6322" y="12927"/>
                  <a:pt x="6350" y="12923"/>
                </a:cubicBezTo>
              </a:path>
              <a:path w="6897" h="5310">
                <a:moveTo>
                  <a:pt x="2530" y="11857"/>
                </a:moveTo>
                <a:cubicBezTo>
                  <a:pt x="2459" y="11762"/>
                  <a:pt x="2519" y="11895"/>
                  <a:pt x="2530" y="11956"/>
                </a:cubicBezTo>
                <a:cubicBezTo>
                  <a:pt x="2557" y="12105"/>
                  <a:pt x="2610" y="12259"/>
                  <a:pt x="2629" y="12402"/>
                </a:cubicBezTo>
                <a:cubicBezTo>
                  <a:pt x="2629" y="12427"/>
                  <a:pt x="2629" y="12435"/>
                  <a:pt x="2629" y="12452"/>
                </a:cubicBezTo>
                <a:cubicBezTo>
                  <a:pt x="2565" y="12443"/>
                  <a:pt x="2400" y="12431"/>
                  <a:pt x="2381" y="12378"/>
                </a:cubicBezTo>
                <a:cubicBezTo>
                  <a:pt x="2449" y="12445"/>
                  <a:pt x="2543" y="12541"/>
                  <a:pt x="2629" y="12576"/>
                </a:cubicBezTo>
                <a:cubicBezTo>
                  <a:pt x="2720" y="12613"/>
                  <a:pt x="2766" y="12452"/>
                  <a:pt x="2803" y="12402"/>
                </a:cubicBezTo>
                <a:cubicBezTo>
                  <a:pt x="2811" y="12394"/>
                  <a:pt x="2820" y="12386"/>
                  <a:pt x="2828" y="12378"/>
                </a:cubicBezTo>
              </a:path>
              <a:path w="6897" h="5310">
                <a:moveTo>
                  <a:pt x="3150" y="12874"/>
                </a:moveTo>
                <a:cubicBezTo>
                  <a:pt x="3085" y="12845"/>
                  <a:pt x="2934" y="12754"/>
                  <a:pt x="2853" y="12799"/>
                </a:cubicBezTo>
                <a:cubicBezTo>
                  <a:pt x="2805" y="12826"/>
                  <a:pt x="2747" y="12920"/>
                  <a:pt x="2753" y="12973"/>
                </a:cubicBezTo>
                <a:cubicBezTo>
                  <a:pt x="2766" y="13085"/>
                  <a:pt x="3009" y="13056"/>
                  <a:pt x="3076" y="13047"/>
                </a:cubicBezTo>
                <a:cubicBezTo>
                  <a:pt x="3189" y="13032"/>
                  <a:pt x="3225" y="12960"/>
                  <a:pt x="3299" y="12923"/>
                </a:cubicBezTo>
                <a:cubicBezTo>
                  <a:pt x="3314" y="13015"/>
                  <a:pt x="3361" y="13102"/>
                  <a:pt x="3373" y="13196"/>
                </a:cubicBezTo>
                <a:cubicBezTo>
                  <a:pt x="3380" y="13247"/>
                  <a:pt x="3377" y="13346"/>
                  <a:pt x="3398" y="13395"/>
                </a:cubicBezTo>
                <a:cubicBezTo>
                  <a:pt x="3406" y="13403"/>
                  <a:pt x="3415" y="13411"/>
                  <a:pt x="3423" y="13419"/>
                </a:cubicBezTo>
              </a:path>
              <a:path w="6897" h="5310">
                <a:moveTo>
                  <a:pt x="3646" y="13122"/>
                </a:moveTo>
                <a:cubicBezTo>
                  <a:pt x="3646" y="13219"/>
                  <a:pt x="3675" y="13261"/>
                  <a:pt x="3721" y="13345"/>
                </a:cubicBezTo>
                <a:cubicBezTo>
                  <a:pt x="3745" y="13390"/>
                  <a:pt x="3760" y="13409"/>
                  <a:pt x="3795" y="13444"/>
                </a:cubicBezTo>
                <a:cubicBezTo>
                  <a:pt x="3877" y="13375"/>
                  <a:pt x="3936" y="13327"/>
                  <a:pt x="3969" y="13221"/>
                </a:cubicBezTo>
                <a:cubicBezTo>
                  <a:pt x="3969" y="13213"/>
                  <a:pt x="3969" y="13204"/>
                  <a:pt x="3969" y="13196"/>
                </a:cubicBezTo>
                <a:cubicBezTo>
                  <a:pt x="3996" y="13313"/>
                  <a:pt x="4008" y="13425"/>
                  <a:pt x="4043" y="13543"/>
                </a:cubicBezTo>
                <a:cubicBezTo>
                  <a:pt x="4064" y="13613"/>
                  <a:pt x="4088" y="13696"/>
                  <a:pt x="4093" y="13767"/>
                </a:cubicBezTo>
                <a:cubicBezTo>
                  <a:pt x="4096" y="13806"/>
                  <a:pt x="4068" y="13930"/>
                  <a:pt x="4018" y="13940"/>
                </a:cubicBezTo>
                <a:cubicBezTo>
                  <a:pt x="3894" y="13966"/>
                  <a:pt x="3889" y="13928"/>
                  <a:pt x="3845" y="13841"/>
                </a:cubicBezTo>
              </a:path>
              <a:path w="6897" h="5310">
                <a:moveTo>
                  <a:pt x="4465" y="13072"/>
                </a:moveTo>
                <a:cubicBezTo>
                  <a:pt x="4573" y="13028"/>
                  <a:pt x="4676" y="13023"/>
                  <a:pt x="4787" y="12998"/>
                </a:cubicBezTo>
              </a:path>
              <a:path w="6897" h="5310">
                <a:moveTo>
                  <a:pt x="4514" y="13345"/>
                </a:moveTo>
                <a:cubicBezTo>
                  <a:pt x="4570" y="13334"/>
                  <a:pt x="4631" y="13332"/>
                  <a:pt x="4688" y="13320"/>
                </a:cubicBezTo>
                <a:cubicBezTo>
                  <a:pt x="4716" y="13314"/>
                  <a:pt x="4896" y="13310"/>
                  <a:pt x="4911" y="13295"/>
                </a:cubicBezTo>
                <a:cubicBezTo>
                  <a:pt x="4911" y="13287"/>
                  <a:pt x="4911" y="13279"/>
                  <a:pt x="4911" y="13271"/>
                </a:cubicBezTo>
              </a:path>
              <a:path w="6897" h="5310">
                <a:moveTo>
                  <a:pt x="3150" y="13692"/>
                </a:moveTo>
                <a:cubicBezTo>
                  <a:pt x="3125" y="13692"/>
                  <a:pt x="3117" y="13692"/>
                  <a:pt x="3101" y="13692"/>
                </a:cubicBezTo>
                <a:cubicBezTo>
                  <a:pt x="3119" y="13749"/>
                  <a:pt x="3291" y="13717"/>
                  <a:pt x="3349" y="13717"/>
                </a:cubicBezTo>
                <a:cubicBezTo>
                  <a:pt x="3580" y="13717"/>
                  <a:pt x="3785" y="13748"/>
                  <a:pt x="4018" y="13717"/>
                </a:cubicBezTo>
                <a:cubicBezTo>
                  <a:pt x="4160" y="13698"/>
                  <a:pt x="4254" y="13694"/>
                  <a:pt x="4390" y="13717"/>
                </a:cubicBezTo>
              </a:path>
              <a:path w="6897" h="5310">
                <a:moveTo>
                  <a:pt x="3919" y="13940"/>
                </a:moveTo>
                <a:cubicBezTo>
                  <a:pt x="3898" y="13838"/>
                  <a:pt x="3822" y="13808"/>
                  <a:pt x="3721" y="13791"/>
                </a:cubicBezTo>
                <a:cubicBezTo>
                  <a:pt x="3608" y="13772"/>
                  <a:pt x="3530" y="13828"/>
                  <a:pt x="3473" y="13915"/>
                </a:cubicBezTo>
                <a:cubicBezTo>
                  <a:pt x="3419" y="13999"/>
                  <a:pt x="3449" y="14069"/>
                  <a:pt x="3547" y="14089"/>
                </a:cubicBezTo>
                <a:cubicBezTo>
                  <a:pt x="3677" y="14115"/>
                  <a:pt x="3704" y="13992"/>
                  <a:pt x="3795" y="13940"/>
                </a:cubicBezTo>
                <a:cubicBezTo>
                  <a:pt x="3844" y="13912"/>
                  <a:pt x="3911" y="13875"/>
                  <a:pt x="3919" y="13891"/>
                </a:cubicBezTo>
                <a:cubicBezTo>
                  <a:pt x="3909" y="14017"/>
                  <a:pt x="3894" y="14135"/>
                  <a:pt x="3894" y="14263"/>
                </a:cubicBezTo>
                <a:cubicBezTo>
                  <a:pt x="3894" y="14331"/>
                  <a:pt x="3856" y="14485"/>
                  <a:pt x="3919" y="14461"/>
                </a:cubicBezTo>
                <a:cubicBezTo>
                  <a:pt x="3927" y="14445"/>
                  <a:pt x="3936" y="14428"/>
                  <a:pt x="3944" y="14412"/>
                </a:cubicBezTo>
              </a:path>
              <a:path w="6897" h="5310">
                <a:moveTo>
                  <a:pt x="5829" y="13568"/>
                </a:moveTo>
                <a:cubicBezTo>
                  <a:pt x="6017" y="13534"/>
                  <a:pt x="6177" y="13497"/>
                  <a:pt x="6375" y="13494"/>
                </a:cubicBezTo>
                <a:cubicBezTo>
                  <a:pt x="6545" y="13491"/>
                  <a:pt x="6703" y="13488"/>
                  <a:pt x="6871" y="13469"/>
                </a:cubicBezTo>
              </a:path>
              <a:path w="6897" h="5310">
                <a:moveTo>
                  <a:pt x="6548" y="13841"/>
                </a:moveTo>
                <a:cubicBezTo>
                  <a:pt x="6533" y="13795"/>
                  <a:pt x="6497" y="13618"/>
                  <a:pt x="6424" y="13618"/>
                </a:cubicBezTo>
                <a:cubicBezTo>
                  <a:pt x="6362" y="13618"/>
                  <a:pt x="6199" y="13666"/>
                  <a:pt x="6152" y="13717"/>
                </a:cubicBezTo>
                <a:cubicBezTo>
                  <a:pt x="6096" y="13777"/>
                  <a:pt x="6122" y="13868"/>
                  <a:pt x="6176" y="13915"/>
                </a:cubicBezTo>
                <a:cubicBezTo>
                  <a:pt x="6263" y="13991"/>
                  <a:pt x="6424" y="13925"/>
                  <a:pt x="6499" y="13866"/>
                </a:cubicBezTo>
                <a:cubicBezTo>
                  <a:pt x="6560" y="13818"/>
                  <a:pt x="6606" y="13775"/>
                  <a:pt x="6648" y="13717"/>
                </a:cubicBezTo>
                <a:cubicBezTo>
                  <a:pt x="6622" y="13795"/>
                  <a:pt x="6585" y="13904"/>
                  <a:pt x="6598" y="13990"/>
                </a:cubicBezTo>
                <a:cubicBezTo>
                  <a:pt x="6610" y="14068"/>
                  <a:pt x="6639" y="14172"/>
                  <a:pt x="6648" y="14238"/>
                </a:cubicBezTo>
                <a:cubicBezTo>
                  <a:pt x="6660" y="14322"/>
                  <a:pt x="6629" y="14336"/>
                  <a:pt x="6648" y="14412"/>
                </a:cubicBezTo>
              </a:path>
              <a:path w="6897" h="5310">
                <a:moveTo>
                  <a:pt x="2480" y="12774"/>
                </a:moveTo>
                <a:cubicBezTo>
                  <a:pt x="2476" y="12788"/>
                  <a:pt x="2431" y="12741"/>
                  <a:pt x="2505" y="12849"/>
                </a:cubicBezTo>
                <a:cubicBezTo>
                  <a:pt x="2572" y="12947"/>
                  <a:pt x="2644" y="13029"/>
                  <a:pt x="2679" y="13146"/>
                </a:cubicBezTo>
                <a:cubicBezTo>
                  <a:pt x="2735" y="13334"/>
                  <a:pt x="2772" y="13475"/>
                  <a:pt x="2877" y="13643"/>
                </a:cubicBezTo>
                <a:cubicBezTo>
                  <a:pt x="2980" y="13809"/>
                  <a:pt x="3110" y="13933"/>
                  <a:pt x="3225" y="14089"/>
                </a:cubicBezTo>
                <a:cubicBezTo>
                  <a:pt x="3336" y="14240"/>
                  <a:pt x="3423" y="14397"/>
                  <a:pt x="3547" y="14536"/>
                </a:cubicBezTo>
                <a:cubicBezTo>
                  <a:pt x="3644" y="14645"/>
                  <a:pt x="3765" y="14724"/>
                  <a:pt x="3894" y="14784"/>
                </a:cubicBezTo>
                <a:cubicBezTo>
                  <a:pt x="3921" y="14720"/>
                  <a:pt x="3953" y="14651"/>
                  <a:pt x="3994" y="14585"/>
                </a:cubicBezTo>
                <a:cubicBezTo>
                  <a:pt x="4061" y="14477"/>
                  <a:pt x="4136" y="14400"/>
                  <a:pt x="4118" y="14263"/>
                </a:cubicBezTo>
                <a:cubicBezTo>
                  <a:pt x="4100" y="14132"/>
                  <a:pt x="4016" y="14038"/>
                  <a:pt x="3919" y="13965"/>
                </a:cubicBezTo>
                <a:cubicBezTo>
                  <a:pt x="3794" y="13871"/>
                  <a:pt x="3664" y="13797"/>
                  <a:pt x="3547" y="13692"/>
                </a:cubicBezTo>
                <a:cubicBezTo>
                  <a:pt x="3438" y="13594"/>
                  <a:pt x="3321" y="13502"/>
                  <a:pt x="3200" y="13419"/>
                </a:cubicBezTo>
                <a:cubicBezTo>
                  <a:pt x="3112" y="13358"/>
                  <a:pt x="2993" y="13282"/>
                  <a:pt x="2927" y="13196"/>
                </a:cubicBezTo>
                <a:cubicBezTo>
                  <a:pt x="2881" y="13137"/>
                  <a:pt x="2845" y="13061"/>
                  <a:pt x="2803" y="12998"/>
                </a:cubicBezTo>
                <a:cubicBezTo>
                  <a:pt x="2706" y="12855"/>
                  <a:pt x="2743" y="12993"/>
                  <a:pt x="2778" y="12849"/>
                </a:cubicBezTo>
              </a:path>
              <a:path w="6897" h="5310">
                <a:moveTo>
                  <a:pt x="1191" y="13965"/>
                </a:moveTo>
                <a:cubicBezTo>
                  <a:pt x="1182" y="13902"/>
                  <a:pt x="1227" y="13761"/>
                  <a:pt x="1315" y="13717"/>
                </a:cubicBezTo>
                <a:cubicBezTo>
                  <a:pt x="1393" y="13678"/>
                  <a:pt x="1429" y="13825"/>
                  <a:pt x="1439" y="13866"/>
                </a:cubicBezTo>
                <a:cubicBezTo>
                  <a:pt x="1447" y="13896"/>
                  <a:pt x="1439" y="13934"/>
                  <a:pt x="1439" y="13965"/>
                </a:cubicBezTo>
                <a:cubicBezTo>
                  <a:pt x="1491" y="13957"/>
                  <a:pt x="1545" y="13913"/>
                  <a:pt x="1588" y="13965"/>
                </a:cubicBezTo>
                <a:cubicBezTo>
                  <a:pt x="1634" y="14020"/>
                  <a:pt x="1683" y="14095"/>
                  <a:pt x="1687" y="14163"/>
                </a:cubicBezTo>
                <a:cubicBezTo>
                  <a:pt x="1692" y="14244"/>
                  <a:pt x="1653" y="14282"/>
                  <a:pt x="1588" y="14312"/>
                </a:cubicBezTo>
                <a:cubicBezTo>
                  <a:pt x="1558" y="14326"/>
                  <a:pt x="1491" y="14356"/>
                  <a:pt x="1463" y="14362"/>
                </a:cubicBezTo>
                <a:cubicBezTo>
                  <a:pt x="1414" y="14373"/>
                  <a:pt x="1370" y="14337"/>
                  <a:pt x="1315" y="14337"/>
                </a:cubicBezTo>
                <a:cubicBezTo>
                  <a:pt x="1307" y="14337"/>
                  <a:pt x="1298" y="14337"/>
                  <a:pt x="1290" y="14337"/>
                </a:cubicBezTo>
              </a:path>
              <a:path w="6897" h="5310">
                <a:moveTo>
                  <a:pt x="1712" y="13519"/>
                </a:moveTo>
                <a:cubicBezTo>
                  <a:pt x="1643" y="13504"/>
                  <a:pt x="1571" y="13494"/>
                  <a:pt x="1488" y="13494"/>
                </a:cubicBezTo>
                <a:cubicBezTo>
                  <a:pt x="1305" y="13494"/>
                  <a:pt x="1161" y="13582"/>
                  <a:pt x="1042" y="13717"/>
                </a:cubicBezTo>
                <a:cubicBezTo>
                  <a:pt x="958" y="13812"/>
                  <a:pt x="901" y="13940"/>
                  <a:pt x="893" y="14064"/>
                </a:cubicBezTo>
                <a:cubicBezTo>
                  <a:pt x="885" y="14196"/>
                  <a:pt x="885" y="14333"/>
                  <a:pt x="918" y="14461"/>
                </a:cubicBezTo>
                <a:cubicBezTo>
                  <a:pt x="959" y="14620"/>
                  <a:pt x="1085" y="14722"/>
                  <a:pt x="1240" y="14759"/>
                </a:cubicBezTo>
                <a:cubicBezTo>
                  <a:pt x="1392" y="14795"/>
                  <a:pt x="1590" y="14772"/>
                  <a:pt x="1736" y="14709"/>
                </a:cubicBezTo>
                <a:cubicBezTo>
                  <a:pt x="1846" y="14661"/>
                  <a:pt x="1982" y="14580"/>
                  <a:pt x="2059" y="14486"/>
                </a:cubicBezTo>
                <a:cubicBezTo>
                  <a:pt x="2147" y="14378"/>
                  <a:pt x="2146" y="14255"/>
                  <a:pt x="2084" y="14139"/>
                </a:cubicBezTo>
                <a:cubicBezTo>
                  <a:pt x="2013" y="14005"/>
                  <a:pt x="1922" y="13947"/>
                  <a:pt x="1811" y="13866"/>
                </a:cubicBezTo>
                <a:cubicBezTo>
                  <a:pt x="1752" y="13823"/>
                  <a:pt x="1705" y="13802"/>
                  <a:pt x="1637" y="13791"/>
                </a:cubicBezTo>
                <a:cubicBezTo>
                  <a:pt x="1602" y="13785"/>
                  <a:pt x="1543" y="13791"/>
                  <a:pt x="1513" y="13791"/>
                </a:cubicBezTo>
              </a:path>
              <a:path w="6897" h="5310">
                <a:moveTo>
                  <a:pt x="3870" y="15304"/>
                </a:moveTo>
                <a:cubicBezTo>
                  <a:pt x="3887" y="15203"/>
                  <a:pt x="4041" y="15202"/>
                  <a:pt x="4142" y="15180"/>
                </a:cubicBezTo>
                <a:cubicBezTo>
                  <a:pt x="4213" y="15164"/>
                  <a:pt x="4344" y="15147"/>
                  <a:pt x="4366" y="15081"/>
                </a:cubicBezTo>
              </a:path>
              <a:path w="6897" h="5310">
                <a:moveTo>
                  <a:pt x="4018" y="15032"/>
                </a:moveTo>
                <a:cubicBezTo>
                  <a:pt x="4018" y="15112"/>
                  <a:pt x="4022" y="15176"/>
                  <a:pt x="4043" y="15255"/>
                </a:cubicBezTo>
                <a:cubicBezTo>
                  <a:pt x="4064" y="15334"/>
                  <a:pt x="4106" y="15405"/>
                  <a:pt x="4142" y="15478"/>
                </a:cubicBezTo>
              </a:path>
              <a:path w="6897" h="5310">
                <a:moveTo>
                  <a:pt x="4762" y="14932"/>
                </a:moveTo>
                <a:cubicBezTo>
                  <a:pt x="4722" y="15057"/>
                  <a:pt x="4732" y="15150"/>
                  <a:pt x="4738" y="15280"/>
                </a:cubicBezTo>
                <a:cubicBezTo>
                  <a:pt x="4743" y="15388"/>
                  <a:pt x="4741" y="15511"/>
                  <a:pt x="4787" y="15602"/>
                </a:cubicBezTo>
              </a:path>
              <a:path w="6897" h="5310">
                <a:moveTo>
                  <a:pt x="5035" y="14982"/>
                </a:moveTo>
                <a:cubicBezTo>
                  <a:pt x="5025" y="15073"/>
                  <a:pt x="4986" y="15144"/>
                  <a:pt x="4961" y="15230"/>
                </a:cubicBezTo>
                <a:cubicBezTo>
                  <a:pt x="4961" y="15238"/>
                  <a:pt x="4961" y="15247"/>
                  <a:pt x="4961" y="15255"/>
                </a:cubicBezTo>
                <a:cubicBezTo>
                  <a:pt x="5061" y="15272"/>
                  <a:pt x="5135" y="15280"/>
                  <a:pt x="5234" y="15230"/>
                </a:cubicBezTo>
                <a:cubicBezTo>
                  <a:pt x="5264" y="15200"/>
                  <a:pt x="5275" y="15186"/>
                  <a:pt x="5283" y="15156"/>
                </a:cubicBezTo>
              </a:path>
              <a:path w="6897" h="5310">
                <a:moveTo>
                  <a:pt x="5308" y="14883"/>
                </a:moveTo>
                <a:cubicBezTo>
                  <a:pt x="5268" y="14870"/>
                  <a:pt x="5264" y="15028"/>
                  <a:pt x="5259" y="15106"/>
                </a:cubicBezTo>
                <a:cubicBezTo>
                  <a:pt x="5250" y="15259"/>
                  <a:pt x="5268" y="15364"/>
                  <a:pt x="5308" y="15503"/>
                </a:cubicBezTo>
                <a:cubicBezTo>
                  <a:pt x="5308" y="15528"/>
                  <a:pt x="5308" y="15536"/>
                  <a:pt x="5308" y="15553"/>
                </a:cubicBezTo>
              </a:path>
              <a:path w="6897" h="5310">
                <a:moveTo>
                  <a:pt x="4118" y="15925"/>
                </a:moveTo>
                <a:cubicBezTo>
                  <a:pt x="4174" y="15925"/>
                  <a:pt x="4210" y="15905"/>
                  <a:pt x="4266" y="15900"/>
                </a:cubicBezTo>
                <a:cubicBezTo>
                  <a:pt x="4465" y="15883"/>
                  <a:pt x="4665" y="15925"/>
                  <a:pt x="4862" y="15875"/>
                </a:cubicBezTo>
                <a:cubicBezTo>
                  <a:pt x="5001" y="15840"/>
                  <a:pt x="5144" y="15786"/>
                  <a:pt x="5283" y="15751"/>
                </a:cubicBezTo>
                <a:cubicBezTo>
                  <a:pt x="5308" y="15751"/>
                  <a:pt x="5316" y="15751"/>
                  <a:pt x="5333" y="15751"/>
                </a:cubicBezTo>
              </a:path>
              <a:path w="6897" h="5310">
                <a:moveTo>
                  <a:pt x="5308" y="16173"/>
                </a:moveTo>
                <a:cubicBezTo>
                  <a:pt x="5244" y="16173"/>
                  <a:pt x="5211" y="16182"/>
                  <a:pt x="5184" y="16247"/>
                </a:cubicBezTo>
                <a:cubicBezTo>
                  <a:pt x="5152" y="16324"/>
                  <a:pt x="5160" y="16389"/>
                  <a:pt x="5259" y="16421"/>
                </a:cubicBezTo>
                <a:cubicBezTo>
                  <a:pt x="5364" y="16455"/>
                  <a:pt x="5482" y="16320"/>
                  <a:pt x="5482" y="16222"/>
                </a:cubicBezTo>
                <a:cubicBezTo>
                  <a:pt x="5482" y="16167"/>
                  <a:pt x="5363" y="16152"/>
                  <a:pt x="5333" y="16148"/>
                </a:cubicBezTo>
              </a:path>
              <a:path w="6897" h="5310">
                <a:moveTo>
                  <a:pt x="5978" y="15354"/>
                </a:moveTo>
                <a:cubicBezTo>
                  <a:pt x="6087" y="15323"/>
                  <a:pt x="6195" y="15269"/>
                  <a:pt x="6300" y="15230"/>
                </a:cubicBezTo>
                <a:cubicBezTo>
                  <a:pt x="6308" y="15230"/>
                  <a:pt x="6317" y="15230"/>
                  <a:pt x="6325" y="15230"/>
                </a:cubicBezTo>
              </a:path>
              <a:path w="6897" h="5310">
                <a:moveTo>
                  <a:pt x="6152" y="15106"/>
                </a:moveTo>
                <a:cubicBezTo>
                  <a:pt x="6152" y="15204"/>
                  <a:pt x="6147" y="15283"/>
                  <a:pt x="6152" y="15379"/>
                </a:cubicBezTo>
                <a:cubicBezTo>
                  <a:pt x="6157" y="15460"/>
                  <a:pt x="6144" y="15511"/>
                  <a:pt x="6176" y="15577"/>
                </a:cubicBezTo>
              </a:path>
              <a:path w="6897" h="5310">
                <a:moveTo>
                  <a:pt x="6499" y="14957"/>
                </a:moveTo>
                <a:cubicBezTo>
                  <a:pt x="6499" y="15108"/>
                  <a:pt x="6491" y="15255"/>
                  <a:pt x="6524" y="15404"/>
                </a:cubicBezTo>
                <a:cubicBezTo>
                  <a:pt x="6543" y="15488"/>
                  <a:pt x="6534" y="15575"/>
                  <a:pt x="6598" y="15478"/>
                </a:cubicBezTo>
              </a:path>
              <a:path w="6897" h="5310">
                <a:moveTo>
                  <a:pt x="6846" y="14908"/>
                </a:moveTo>
                <a:cubicBezTo>
                  <a:pt x="6846" y="15002"/>
                  <a:pt x="6826" y="15087"/>
                  <a:pt x="6821" y="15180"/>
                </a:cubicBezTo>
                <a:cubicBezTo>
                  <a:pt x="6816" y="15274"/>
                  <a:pt x="6955" y="15216"/>
                  <a:pt x="6995" y="15205"/>
                </a:cubicBezTo>
                <a:cubicBezTo>
                  <a:pt x="7102" y="15175"/>
                  <a:pt x="7076" y="15201"/>
                  <a:pt x="7119" y="15106"/>
                </a:cubicBezTo>
              </a:path>
              <a:path w="6897" h="5310">
                <a:moveTo>
                  <a:pt x="7069" y="14883"/>
                </a:moveTo>
                <a:cubicBezTo>
                  <a:pt x="7069" y="15081"/>
                  <a:pt x="7069" y="15280"/>
                  <a:pt x="7069" y="15478"/>
                </a:cubicBezTo>
              </a:path>
              <a:path w="6897" h="5310">
                <a:moveTo>
                  <a:pt x="5804" y="15900"/>
                </a:moveTo>
                <a:cubicBezTo>
                  <a:pt x="5930" y="15824"/>
                  <a:pt x="6208" y="15782"/>
                  <a:pt x="6350" y="15751"/>
                </a:cubicBezTo>
                <a:cubicBezTo>
                  <a:pt x="6624" y="15691"/>
                  <a:pt x="6897" y="15699"/>
                  <a:pt x="7169" y="15652"/>
                </a:cubicBezTo>
                <a:cubicBezTo>
                  <a:pt x="7275" y="15634"/>
                  <a:pt x="7360" y="15627"/>
                  <a:pt x="7466" y="15627"/>
                </a:cubicBezTo>
                <a:cubicBezTo>
                  <a:pt x="7574" y="15627"/>
                  <a:pt x="7681" y="15627"/>
                  <a:pt x="7789" y="15627"/>
                </a:cubicBezTo>
              </a:path>
              <a:path w="6897" h="5310">
                <a:moveTo>
                  <a:pt x="6697" y="15949"/>
                </a:moveTo>
                <a:cubicBezTo>
                  <a:pt x="6697" y="16110"/>
                  <a:pt x="6709" y="16262"/>
                  <a:pt x="6722" y="16421"/>
                </a:cubicBezTo>
                <a:cubicBezTo>
                  <a:pt x="6733" y="16560"/>
                  <a:pt x="6751" y="16704"/>
                  <a:pt x="6772" y="16842"/>
                </a:cubicBezTo>
                <a:cubicBezTo>
                  <a:pt x="6794" y="16934"/>
                  <a:pt x="6805" y="16975"/>
                  <a:pt x="6772" y="16867"/>
                </a:cubicBezTo>
              </a:path>
              <a:path w="6897" h="5310">
                <a:moveTo>
                  <a:pt x="7045" y="16024"/>
                </a:moveTo>
                <a:cubicBezTo>
                  <a:pt x="7045" y="16108"/>
                  <a:pt x="7024" y="16188"/>
                  <a:pt x="7020" y="16272"/>
                </a:cubicBezTo>
                <a:cubicBezTo>
                  <a:pt x="7018" y="16313"/>
                  <a:pt x="7020" y="16355"/>
                  <a:pt x="7020" y="16396"/>
                </a:cubicBezTo>
                <a:cubicBezTo>
                  <a:pt x="7149" y="16396"/>
                  <a:pt x="7270" y="16397"/>
                  <a:pt x="7392" y="16421"/>
                </a:cubicBezTo>
                <a:cubicBezTo>
                  <a:pt x="7453" y="16433"/>
                  <a:pt x="7483" y="16508"/>
                  <a:pt x="7491" y="16570"/>
                </a:cubicBezTo>
                <a:cubicBezTo>
                  <a:pt x="7502" y="16652"/>
                  <a:pt x="7511" y="16797"/>
                  <a:pt x="7417" y="16842"/>
                </a:cubicBezTo>
                <a:cubicBezTo>
                  <a:pt x="7239" y="16927"/>
                  <a:pt x="7226" y="16867"/>
                  <a:pt x="7193" y="16718"/>
                </a:cubicBezTo>
              </a:path>
              <a:path w="6897" h="5310">
                <a:moveTo>
                  <a:pt x="6970" y="16049"/>
                </a:moveTo>
                <a:cubicBezTo>
                  <a:pt x="6962" y="16049"/>
                  <a:pt x="6953" y="16049"/>
                  <a:pt x="6945" y="16049"/>
                </a:cubicBezTo>
                <a:cubicBezTo>
                  <a:pt x="6993" y="15969"/>
                  <a:pt x="7139" y="15922"/>
                  <a:pt x="7243" y="15925"/>
                </a:cubicBezTo>
                <a:cubicBezTo>
                  <a:pt x="7300" y="15944"/>
                  <a:pt x="7307" y="15952"/>
                  <a:pt x="7342" y="15949"/>
                </a:cubicBezTo>
              </a:path>
              <a:path w="6897" h="5310">
                <a:moveTo>
                  <a:pt x="5854" y="16545"/>
                </a:moveTo>
                <a:cubicBezTo>
                  <a:pt x="5970" y="16516"/>
                  <a:pt x="6151" y="16510"/>
                  <a:pt x="6251" y="16446"/>
                </a:cubicBezTo>
                <a:cubicBezTo>
                  <a:pt x="6251" y="16438"/>
                  <a:pt x="6251" y="16429"/>
                  <a:pt x="6251" y="16421"/>
                </a:cubicBezTo>
              </a:path>
              <a:path w="6897" h="5310">
                <a:moveTo>
                  <a:pt x="6052" y="16942"/>
                </a:moveTo>
                <a:cubicBezTo>
                  <a:pt x="6122" y="16942"/>
                  <a:pt x="6163" y="16947"/>
                  <a:pt x="6226" y="16917"/>
                </a:cubicBezTo>
                <a:cubicBezTo>
                  <a:pt x="6280" y="16891"/>
                  <a:pt x="6311" y="16899"/>
                  <a:pt x="6325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1760" y="3375000"/>
            <a:ext cx="1758960" cy="366840"/>
          </a:xfrm>
          <a:custGeom>
            <a:avLst/>
            <a:gdLst/>
            <a:ahLst/>
            <a:rect l="l" t="t" r="r" b="b"/>
            <a:pathLst>
              <a:path w="4888" h="1018">
                <a:moveTo>
                  <a:pt x="8037" y="9773"/>
                </a:moveTo>
                <a:cubicBezTo>
                  <a:pt x="7957" y="9706"/>
                  <a:pt x="7875" y="9658"/>
                  <a:pt x="7764" y="9674"/>
                </a:cubicBezTo>
                <a:cubicBezTo>
                  <a:pt x="7676" y="9687"/>
                  <a:pt x="7656" y="9732"/>
                  <a:pt x="7615" y="9798"/>
                </a:cubicBezTo>
                <a:cubicBezTo>
                  <a:pt x="7710" y="9924"/>
                  <a:pt x="7835" y="9902"/>
                  <a:pt x="7987" y="9847"/>
                </a:cubicBezTo>
                <a:cubicBezTo>
                  <a:pt x="8058" y="9821"/>
                  <a:pt x="8086" y="9717"/>
                  <a:pt x="8086" y="9748"/>
                </a:cubicBezTo>
                <a:cubicBezTo>
                  <a:pt x="8086" y="9817"/>
                  <a:pt x="8111" y="10244"/>
                  <a:pt x="8111" y="10244"/>
                </a:cubicBezTo>
                <a:cubicBezTo>
                  <a:pt x="8119" y="10228"/>
                  <a:pt x="8128" y="10211"/>
                  <a:pt x="8136" y="10195"/>
                </a:cubicBezTo>
              </a:path>
              <a:path w="4888" h="1018">
                <a:moveTo>
                  <a:pt x="8558" y="9475"/>
                </a:moveTo>
                <a:cubicBezTo>
                  <a:pt x="8444" y="9541"/>
                  <a:pt x="8320" y="9669"/>
                  <a:pt x="8260" y="9798"/>
                </a:cubicBezTo>
                <a:cubicBezTo>
                  <a:pt x="8212" y="9901"/>
                  <a:pt x="8230" y="10071"/>
                  <a:pt x="8285" y="10170"/>
                </a:cubicBezTo>
                <a:cubicBezTo>
                  <a:pt x="8321" y="10236"/>
                  <a:pt x="8383" y="10357"/>
                  <a:pt x="8483" y="10319"/>
                </a:cubicBezTo>
                <a:cubicBezTo>
                  <a:pt x="8508" y="10302"/>
                  <a:pt x="8533" y="10286"/>
                  <a:pt x="8558" y="10269"/>
                </a:cubicBezTo>
              </a:path>
              <a:path w="4888" h="1018">
                <a:moveTo>
                  <a:pt x="8706" y="9798"/>
                </a:moveTo>
                <a:cubicBezTo>
                  <a:pt x="8739" y="9778"/>
                  <a:pt x="8809" y="9754"/>
                  <a:pt x="8855" y="9773"/>
                </a:cubicBezTo>
                <a:cubicBezTo>
                  <a:pt x="8949" y="9812"/>
                  <a:pt x="8887" y="9939"/>
                  <a:pt x="8880" y="9996"/>
                </a:cubicBezTo>
                <a:cubicBezTo>
                  <a:pt x="8867" y="10097"/>
                  <a:pt x="8820" y="10173"/>
                  <a:pt x="8706" y="10195"/>
                </a:cubicBezTo>
                <a:cubicBezTo>
                  <a:pt x="8648" y="10195"/>
                  <a:pt x="8640" y="10195"/>
                  <a:pt x="8607" y="10195"/>
                </a:cubicBezTo>
                <a:cubicBezTo>
                  <a:pt x="8607" y="10119"/>
                  <a:pt x="8590" y="10109"/>
                  <a:pt x="8657" y="10071"/>
                </a:cubicBezTo>
                <a:cubicBezTo>
                  <a:pt x="8734" y="10028"/>
                  <a:pt x="8786" y="10082"/>
                  <a:pt x="8855" y="10120"/>
                </a:cubicBezTo>
                <a:cubicBezTo>
                  <a:pt x="8901" y="10145"/>
                  <a:pt x="8909" y="10145"/>
                  <a:pt x="8954" y="10145"/>
                </a:cubicBezTo>
              </a:path>
              <a:path w="4888" h="1018">
                <a:moveTo>
                  <a:pt x="8930" y="9376"/>
                </a:moveTo>
                <a:cubicBezTo>
                  <a:pt x="8952" y="9467"/>
                  <a:pt x="9084" y="9514"/>
                  <a:pt x="9153" y="9575"/>
                </a:cubicBezTo>
                <a:cubicBezTo>
                  <a:pt x="9261" y="9671"/>
                  <a:pt x="9386" y="9790"/>
                  <a:pt x="9451" y="9922"/>
                </a:cubicBezTo>
                <a:cubicBezTo>
                  <a:pt x="9501" y="10022"/>
                  <a:pt x="9512" y="10115"/>
                  <a:pt x="9475" y="10220"/>
                </a:cubicBezTo>
                <a:cubicBezTo>
                  <a:pt x="9454" y="10280"/>
                  <a:pt x="9382" y="10399"/>
                  <a:pt x="9302" y="10393"/>
                </a:cubicBezTo>
                <a:cubicBezTo>
                  <a:pt x="9294" y="10385"/>
                  <a:pt x="9285" y="10376"/>
                  <a:pt x="9277" y="10368"/>
                </a:cubicBezTo>
              </a:path>
              <a:path w="4888" h="1018">
                <a:moveTo>
                  <a:pt x="9922" y="9947"/>
                </a:moveTo>
                <a:cubicBezTo>
                  <a:pt x="9960" y="9908"/>
                  <a:pt x="10090" y="9900"/>
                  <a:pt x="10170" y="9897"/>
                </a:cubicBezTo>
                <a:cubicBezTo>
                  <a:pt x="10249" y="9897"/>
                  <a:pt x="10279" y="9894"/>
                  <a:pt x="10319" y="9847"/>
                </a:cubicBezTo>
              </a:path>
              <a:path w="4888" h="1018">
                <a:moveTo>
                  <a:pt x="10542" y="9624"/>
                </a:moveTo>
                <a:cubicBezTo>
                  <a:pt x="10542" y="9709"/>
                  <a:pt x="10522" y="9787"/>
                  <a:pt x="10517" y="9872"/>
                </a:cubicBezTo>
                <a:cubicBezTo>
                  <a:pt x="10517" y="9897"/>
                  <a:pt x="10517" y="9905"/>
                  <a:pt x="10517" y="9922"/>
                </a:cubicBezTo>
                <a:cubicBezTo>
                  <a:pt x="10633" y="9934"/>
                  <a:pt x="10719" y="9967"/>
                  <a:pt x="10815" y="9872"/>
                </a:cubicBezTo>
                <a:cubicBezTo>
                  <a:pt x="10823" y="9856"/>
                  <a:pt x="10832" y="9839"/>
                  <a:pt x="10840" y="9823"/>
                </a:cubicBezTo>
              </a:path>
              <a:path w="4888" h="1018">
                <a:moveTo>
                  <a:pt x="10889" y="9599"/>
                </a:moveTo>
                <a:cubicBezTo>
                  <a:pt x="10824" y="9697"/>
                  <a:pt x="10837" y="9786"/>
                  <a:pt x="10815" y="9897"/>
                </a:cubicBezTo>
                <a:cubicBezTo>
                  <a:pt x="10798" y="9985"/>
                  <a:pt x="10774" y="10084"/>
                  <a:pt x="10765" y="10170"/>
                </a:cubicBezTo>
                <a:cubicBezTo>
                  <a:pt x="10765" y="10244"/>
                  <a:pt x="10765" y="10253"/>
                  <a:pt x="10765" y="10294"/>
                </a:cubicBezTo>
              </a:path>
              <a:path w="4888" h="1018">
                <a:moveTo>
                  <a:pt x="11237" y="9823"/>
                </a:moveTo>
                <a:cubicBezTo>
                  <a:pt x="11337" y="9823"/>
                  <a:pt x="11450" y="9840"/>
                  <a:pt x="11534" y="9798"/>
                </a:cubicBezTo>
              </a:path>
              <a:path w="4888" h="1018">
                <a:moveTo>
                  <a:pt x="11137" y="10021"/>
                </a:moveTo>
                <a:cubicBezTo>
                  <a:pt x="11214" y="10083"/>
                  <a:pt x="11287" y="10091"/>
                  <a:pt x="11385" y="10096"/>
                </a:cubicBezTo>
                <a:cubicBezTo>
                  <a:pt x="11420" y="10096"/>
                  <a:pt x="11438" y="10091"/>
                  <a:pt x="11460" y="10071"/>
                </a:cubicBezTo>
              </a:path>
              <a:path w="4888" h="1018">
                <a:moveTo>
                  <a:pt x="11931" y="9575"/>
                </a:moveTo>
                <a:cubicBezTo>
                  <a:pt x="11890" y="9695"/>
                  <a:pt x="11877" y="9800"/>
                  <a:pt x="11857" y="9922"/>
                </a:cubicBezTo>
                <a:cubicBezTo>
                  <a:pt x="11841" y="10017"/>
                  <a:pt x="11807" y="10098"/>
                  <a:pt x="11807" y="10195"/>
                </a:cubicBezTo>
              </a:path>
              <a:path w="4888" h="1018">
                <a:moveTo>
                  <a:pt x="12204" y="9599"/>
                </a:moveTo>
                <a:cubicBezTo>
                  <a:pt x="12250" y="9701"/>
                  <a:pt x="12237" y="9741"/>
                  <a:pt x="12229" y="9847"/>
                </a:cubicBezTo>
                <a:cubicBezTo>
                  <a:pt x="12223" y="9929"/>
                  <a:pt x="12309" y="9935"/>
                  <a:pt x="12378" y="9922"/>
                </a:cubicBezTo>
                <a:cubicBezTo>
                  <a:pt x="12431" y="9912"/>
                  <a:pt x="12466" y="9858"/>
                  <a:pt x="12502" y="9823"/>
                </a:cubicBezTo>
              </a:path>
              <a:path w="4888" h="1018">
                <a:moveTo>
                  <a:pt x="12502" y="9550"/>
                </a:moveTo>
                <a:cubicBezTo>
                  <a:pt x="12429" y="9685"/>
                  <a:pt x="12407" y="9792"/>
                  <a:pt x="12402" y="9947"/>
                </a:cubicBezTo>
                <a:cubicBezTo>
                  <a:pt x="12398" y="10079"/>
                  <a:pt x="12402" y="10212"/>
                  <a:pt x="12402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4240" y="3830760"/>
            <a:ext cx="1393920" cy="250560"/>
          </a:xfrm>
          <a:custGeom>
            <a:avLst/>
            <a:gdLst/>
            <a:ahLst/>
            <a:rect l="l" t="t" r="r" b="b"/>
            <a:pathLst>
              <a:path w="3871" h="696">
                <a:moveTo>
                  <a:pt x="8533" y="10716"/>
                </a:moveTo>
                <a:cubicBezTo>
                  <a:pt x="8525" y="10708"/>
                  <a:pt x="8516" y="10699"/>
                  <a:pt x="8508" y="10691"/>
                </a:cubicBezTo>
                <a:cubicBezTo>
                  <a:pt x="8508" y="10811"/>
                  <a:pt x="8487" y="10887"/>
                  <a:pt x="8508" y="11013"/>
                </a:cubicBezTo>
                <a:cubicBezTo>
                  <a:pt x="8529" y="11095"/>
                  <a:pt x="8537" y="11111"/>
                  <a:pt x="8533" y="11162"/>
                </a:cubicBezTo>
              </a:path>
              <a:path w="3871" h="696">
                <a:moveTo>
                  <a:pt x="9004" y="10939"/>
                </a:moveTo>
                <a:cubicBezTo>
                  <a:pt x="9055" y="10979"/>
                  <a:pt x="9122" y="11040"/>
                  <a:pt x="9178" y="11063"/>
                </a:cubicBezTo>
                <a:cubicBezTo>
                  <a:pt x="9082" y="11137"/>
                  <a:pt x="9028" y="11137"/>
                  <a:pt x="8905" y="11137"/>
                </a:cubicBezTo>
                <a:cubicBezTo>
                  <a:pt x="8918" y="10979"/>
                  <a:pt x="8960" y="11005"/>
                  <a:pt x="9054" y="10889"/>
                </a:cubicBezTo>
                <a:cubicBezTo>
                  <a:pt x="9107" y="10824"/>
                  <a:pt x="9072" y="10753"/>
                  <a:pt x="9004" y="10716"/>
                </a:cubicBezTo>
                <a:cubicBezTo>
                  <a:pt x="8918" y="10669"/>
                  <a:pt x="8920" y="10681"/>
                  <a:pt x="8880" y="10740"/>
                </a:cubicBezTo>
                <a:cubicBezTo>
                  <a:pt x="8905" y="10838"/>
                  <a:pt x="8947" y="10835"/>
                  <a:pt x="9029" y="10889"/>
                </a:cubicBezTo>
              </a:path>
              <a:path w="3871" h="696">
                <a:moveTo>
                  <a:pt x="9575" y="10939"/>
                </a:moveTo>
                <a:cubicBezTo>
                  <a:pt x="9667" y="10970"/>
                  <a:pt x="9731" y="10970"/>
                  <a:pt x="9823" y="10939"/>
                </a:cubicBezTo>
              </a:path>
              <a:path w="3871" h="696">
                <a:moveTo>
                  <a:pt x="10120" y="10641"/>
                </a:moveTo>
                <a:cubicBezTo>
                  <a:pt x="10155" y="10700"/>
                  <a:pt x="10141" y="10771"/>
                  <a:pt x="10120" y="10840"/>
                </a:cubicBezTo>
                <a:cubicBezTo>
                  <a:pt x="10112" y="10856"/>
                  <a:pt x="10104" y="10873"/>
                  <a:pt x="10096" y="10889"/>
                </a:cubicBezTo>
                <a:cubicBezTo>
                  <a:pt x="10175" y="10943"/>
                  <a:pt x="10251" y="10959"/>
                  <a:pt x="10344" y="10914"/>
                </a:cubicBezTo>
                <a:cubicBezTo>
                  <a:pt x="10369" y="10897"/>
                  <a:pt x="10393" y="10881"/>
                  <a:pt x="10418" y="10864"/>
                </a:cubicBezTo>
              </a:path>
              <a:path w="3871" h="696">
                <a:moveTo>
                  <a:pt x="10517" y="10716"/>
                </a:moveTo>
                <a:cubicBezTo>
                  <a:pt x="10517" y="10650"/>
                  <a:pt x="10495" y="10876"/>
                  <a:pt x="10492" y="10889"/>
                </a:cubicBezTo>
                <a:cubicBezTo>
                  <a:pt x="10462" y="11022"/>
                  <a:pt x="10434" y="11152"/>
                  <a:pt x="10418" y="11286"/>
                </a:cubicBezTo>
                <a:cubicBezTo>
                  <a:pt x="10418" y="11328"/>
                  <a:pt x="10410" y="11344"/>
                  <a:pt x="10443" y="11336"/>
                </a:cubicBezTo>
              </a:path>
              <a:path w="3871" h="696">
                <a:moveTo>
                  <a:pt x="11013" y="10840"/>
                </a:moveTo>
                <a:cubicBezTo>
                  <a:pt x="11082" y="10846"/>
                  <a:pt x="11144" y="10857"/>
                  <a:pt x="11212" y="10864"/>
                </a:cubicBezTo>
              </a:path>
              <a:path w="3871" h="696">
                <a:moveTo>
                  <a:pt x="11013" y="11063"/>
                </a:moveTo>
                <a:cubicBezTo>
                  <a:pt x="11104" y="11063"/>
                  <a:pt x="11195" y="11063"/>
                  <a:pt x="11286" y="11063"/>
                </a:cubicBezTo>
              </a:path>
              <a:path w="3871" h="696">
                <a:moveTo>
                  <a:pt x="11559" y="10641"/>
                </a:moveTo>
                <a:cubicBezTo>
                  <a:pt x="11559" y="10758"/>
                  <a:pt x="11581" y="10851"/>
                  <a:pt x="11609" y="10964"/>
                </a:cubicBezTo>
                <a:cubicBezTo>
                  <a:pt x="11631" y="11055"/>
                  <a:pt x="11604" y="11313"/>
                  <a:pt x="11658" y="11237"/>
                </a:cubicBezTo>
                <a:cubicBezTo>
                  <a:pt x="11666" y="11212"/>
                  <a:pt x="11675" y="11187"/>
                  <a:pt x="11683" y="11162"/>
                </a:cubicBezTo>
              </a:path>
              <a:path w="3871" h="696">
                <a:moveTo>
                  <a:pt x="12030" y="10666"/>
                </a:moveTo>
                <a:cubicBezTo>
                  <a:pt x="12020" y="10745"/>
                  <a:pt x="11989" y="10814"/>
                  <a:pt x="11956" y="10889"/>
                </a:cubicBezTo>
                <a:cubicBezTo>
                  <a:pt x="12047" y="10950"/>
                  <a:pt x="12123" y="10951"/>
                  <a:pt x="12229" y="10914"/>
                </a:cubicBezTo>
                <a:cubicBezTo>
                  <a:pt x="12245" y="10906"/>
                  <a:pt x="12262" y="10897"/>
                  <a:pt x="12278" y="10889"/>
                </a:cubicBezTo>
              </a:path>
              <a:path w="3871" h="696">
                <a:moveTo>
                  <a:pt x="12353" y="10666"/>
                </a:moveTo>
                <a:cubicBezTo>
                  <a:pt x="12336" y="10717"/>
                  <a:pt x="12287" y="10806"/>
                  <a:pt x="12278" y="10889"/>
                </a:cubicBezTo>
                <a:cubicBezTo>
                  <a:pt x="12264" y="11017"/>
                  <a:pt x="12213" y="11131"/>
                  <a:pt x="12204" y="11261"/>
                </a:cubicBezTo>
                <a:cubicBezTo>
                  <a:pt x="12204" y="11296"/>
                  <a:pt x="12199" y="11314"/>
                  <a:pt x="12179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6200" y="3527280"/>
            <a:ext cx="581040" cy="473400"/>
          </a:xfrm>
          <a:custGeom>
            <a:avLst/>
            <a:gdLst/>
            <a:ahLst/>
            <a:rect l="l" t="t" r="r" b="b"/>
            <a:pathLst>
              <a:path w="1614" h="1315">
                <a:moveTo>
                  <a:pt x="13717" y="10269"/>
                </a:moveTo>
                <a:cubicBezTo>
                  <a:pt x="13852" y="10224"/>
                  <a:pt x="13968" y="10182"/>
                  <a:pt x="14114" y="10195"/>
                </a:cubicBezTo>
                <a:cubicBezTo>
                  <a:pt x="14253" y="10207"/>
                  <a:pt x="14348" y="10274"/>
                  <a:pt x="14337" y="10418"/>
                </a:cubicBezTo>
                <a:cubicBezTo>
                  <a:pt x="14327" y="10546"/>
                  <a:pt x="14301" y="10767"/>
                  <a:pt x="14114" y="10740"/>
                </a:cubicBezTo>
                <a:cubicBezTo>
                  <a:pt x="14044" y="10730"/>
                  <a:pt x="13967" y="10660"/>
                  <a:pt x="13915" y="10616"/>
                </a:cubicBezTo>
                <a:cubicBezTo>
                  <a:pt x="14032" y="10616"/>
                  <a:pt x="14106" y="10645"/>
                  <a:pt x="14213" y="10666"/>
                </a:cubicBezTo>
                <a:cubicBezTo>
                  <a:pt x="14277" y="10679"/>
                  <a:pt x="14324" y="10715"/>
                  <a:pt x="14387" y="10740"/>
                </a:cubicBezTo>
                <a:cubicBezTo>
                  <a:pt x="14403" y="10748"/>
                  <a:pt x="14420" y="10757"/>
                  <a:pt x="14436" y="10765"/>
                </a:cubicBezTo>
              </a:path>
              <a:path w="1614" h="1315">
                <a:moveTo>
                  <a:pt x="14660" y="10021"/>
                </a:moveTo>
                <a:cubicBezTo>
                  <a:pt x="14608" y="9952"/>
                  <a:pt x="14522" y="9880"/>
                  <a:pt x="14436" y="9847"/>
                </a:cubicBezTo>
                <a:cubicBezTo>
                  <a:pt x="14280" y="9787"/>
                  <a:pt x="14126" y="9790"/>
                  <a:pt x="13965" y="9823"/>
                </a:cubicBezTo>
                <a:cubicBezTo>
                  <a:pt x="13781" y="9861"/>
                  <a:pt x="13562" y="9938"/>
                  <a:pt x="13469" y="10120"/>
                </a:cubicBezTo>
                <a:cubicBezTo>
                  <a:pt x="13410" y="10235"/>
                  <a:pt x="13361" y="10394"/>
                  <a:pt x="13320" y="10517"/>
                </a:cubicBezTo>
                <a:cubicBezTo>
                  <a:pt x="13287" y="10616"/>
                  <a:pt x="13301" y="10753"/>
                  <a:pt x="13370" y="10840"/>
                </a:cubicBezTo>
                <a:cubicBezTo>
                  <a:pt x="13445" y="10935"/>
                  <a:pt x="13555" y="11021"/>
                  <a:pt x="13667" y="11063"/>
                </a:cubicBezTo>
                <a:cubicBezTo>
                  <a:pt x="13808" y="11116"/>
                  <a:pt x="13991" y="11129"/>
                  <a:pt x="14139" y="11112"/>
                </a:cubicBezTo>
                <a:cubicBezTo>
                  <a:pt x="14273" y="11097"/>
                  <a:pt x="14424" y="11063"/>
                  <a:pt x="14536" y="10988"/>
                </a:cubicBezTo>
                <a:cubicBezTo>
                  <a:pt x="14633" y="10923"/>
                  <a:pt x="14724" y="10864"/>
                  <a:pt x="14784" y="10765"/>
                </a:cubicBezTo>
                <a:cubicBezTo>
                  <a:pt x="14878" y="10610"/>
                  <a:pt x="14915" y="10497"/>
                  <a:pt x="14883" y="10319"/>
                </a:cubicBezTo>
                <a:cubicBezTo>
                  <a:pt x="14859" y="10186"/>
                  <a:pt x="14800" y="10067"/>
                  <a:pt x="14684" y="9996"/>
                </a:cubicBezTo>
                <a:cubicBezTo>
                  <a:pt x="14574" y="9929"/>
                  <a:pt x="14504" y="9883"/>
                  <a:pt x="14387" y="9847"/>
                </a:cubicBezTo>
                <a:cubicBezTo>
                  <a:pt x="14370" y="9839"/>
                  <a:pt x="14354" y="9831"/>
                  <a:pt x="14337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89160" y="4581360"/>
            <a:ext cx="679680" cy="428760"/>
          </a:xfrm>
          <a:custGeom>
            <a:avLst/>
            <a:gdLst/>
            <a:ahLst/>
            <a:rect l="l" t="t" r="r" b="b"/>
            <a:pathLst>
              <a:path w="1887" h="1191">
                <a:moveTo>
                  <a:pt x="8632" y="12923"/>
                </a:moveTo>
                <a:cubicBezTo>
                  <a:pt x="8577" y="13075"/>
                  <a:pt x="8581" y="13187"/>
                  <a:pt x="8607" y="13345"/>
                </a:cubicBezTo>
                <a:cubicBezTo>
                  <a:pt x="8758" y="13328"/>
                  <a:pt x="8840" y="13238"/>
                  <a:pt x="8905" y="13097"/>
                </a:cubicBezTo>
                <a:cubicBezTo>
                  <a:pt x="8913" y="13064"/>
                  <a:pt x="8922" y="13031"/>
                  <a:pt x="8930" y="12998"/>
                </a:cubicBezTo>
                <a:cubicBezTo>
                  <a:pt x="8930" y="13093"/>
                  <a:pt x="8897" y="13171"/>
                  <a:pt x="8905" y="13271"/>
                </a:cubicBezTo>
                <a:cubicBezTo>
                  <a:pt x="8919" y="13439"/>
                  <a:pt x="8973" y="13622"/>
                  <a:pt x="8954" y="13791"/>
                </a:cubicBezTo>
                <a:cubicBezTo>
                  <a:pt x="8938" y="13939"/>
                  <a:pt x="8852" y="13930"/>
                  <a:pt x="8731" y="13891"/>
                </a:cubicBezTo>
                <a:cubicBezTo>
                  <a:pt x="8541" y="13830"/>
                  <a:pt x="8839" y="13655"/>
                  <a:pt x="8880" y="13618"/>
                </a:cubicBezTo>
              </a:path>
              <a:path w="1887" h="1191">
                <a:moveTo>
                  <a:pt x="9128" y="12998"/>
                </a:moveTo>
                <a:cubicBezTo>
                  <a:pt x="9197" y="12984"/>
                  <a:pt x="9253" y="12973"/>
                  <a:pt x="9327" y="12973"/>
                </a:cubicBezTo>
                <a:cubicBezTo>
                  <a:pt x="9360" y="12973"/>
                  <a:pt x="9393" y="12973"/>
                  <a:pt x="9426" y="12973"/>
                </a:cubicBezTo>
              </a:path>
              <a:path w="1887" h="1191">
                <a:moveTo>
                  <a:pt x="9203" y="13271"/>
                </a:moveTo>
                <a:cubicBezTo>
                  <a:pt x="9260" y="13285"/>
                  <a:pt x="9308" y="13295"/>
                  <a:pt x="9376" y="13295"/>
                </a:cubicBezTo>
                <a:cubicBezTo>
                  <a:pt x="9401" y="13295"/>
                  <a:pt x="9409" y="13295"/>
                  <a:pt x="9426" y="13295"/>
                </a:cubicBezTo>
              </a:path>
              <a:path w="1887" h="1191">
                <a:moveTo>
                  <a:pt x="9624" y="12824"/>
                </a:moveTo>
                <a:cubicBezTo>
                  <a:pt x="9738" y="12743"/>
                  <a:pt x="9853" y="12712"/>
                  <a:pt x="9996" y="12725"/>
                </a:cubicBezTo>
                <a:cubicBezTo>
                  <a:pt x="10130" y="12737"/>
                  <a:pt x="10309" y="12763"/>
                  <a:pt x="10344" y="12923"/>
                </a:cubicBezTo>
                <a:cubicBezTo>
                  <a:pt x="10386" y="13117"/>
                  <a:pt x="10335" y="13286"/>
                  <a:pt x="10195" y="13419"/>
                </a:cubicBezTo>
                <a:cubicBezTo>
                  <a:pt x="10058" y="13549"/>
                  <a:pt x="9887" y="13549"/>
                  <a:pt x="9723" y="13494"/>
                </a:cubicBezTo>
                <a:cubicBezTo>
                  <a:pt x="9641" y="13467"/>
                  <a:pt x="9631" y="13415"/>
                  <a:pt x="9599" y="13345"/>
                </a:cubicBezTo>
                <a:cubicBezTo>
                  <a:pt x="9703" y="13264"/>
                  <a:pt x="9766" y="13258"/>
                  <a:pt x="9897" y="13295"/>
                </a:cubicBezTo>
                <a:cubicBezTo>
                  <a:pt x="9972" y="13316"/>
                  <a:pt x="10091" y="13363"/>
                  <a:pt x="10145" y="13419"/>
                </a:cubicBezTo>
                <a:cubicBezTo>
                  <a:pt x="10243" y="13522"/>
                  <a:pt x="10329" y="13581"/>
                  <a:pt x="10443" y="13667"/>
                </a:cubicBezTo>
                <a:cubicBezTo>
                  <a:pt x="10466" y="13690"/>
                  <a:pt x="10474" y="13701"/>
                  <a:pt x="10468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19120" y="5857920"/>
            <a:ext cx="644760" cy="830160"/>
          </a:xfrm>
          <a:custGeom>
            <a:avLst/>
            <a:gdLst/>
            <a:ahLst/>
            <a:rect l="l" t="t" r="r" b="b"/>
            <a:pathLst>
              <a:path w="1787" h="2308">
                <a:moveTo>
                  <a:pt x="3944" y="16495"/>
                </a:moveTo>
                <a:cubicBezTo>
                  <a:pt x="3998" y="16442"/>
                  <a:pt x="4065" y="16408"/>
                  <a:pt x="4142" y="16396"/>
                </a:cubicBezTo>
                <a:cubicBezTo>
                  <a:pt x="4219" y="16384"/>
                  <a:pt x="4263" y="16377"/>
                  <a:pt x="4266" y="16446"/>
                </a:cubicBezTo>
                <a:cubicBezTo>
                  <a:pt x="4269" y="16511"/>
                  <a:pt x="4252" y="16558"/>
                  <a:pt x="4242" y="16619"/>
                </a:cubicBezTo>
                <a:cubicBezTo>
                  <a:pt x="4314" y="16619"/>
                  <a:pt x="4398" y="16580"/>
                  <a:pt x="4465" y="16594"/>
                </a:cubicBezTo>
                <a:cubicBezTo>
                  <a:pt x="4614" y="16626"/>
                  <a:pt x="4603" y="16675"/>
                  <a:pt x="4638" y="16793"/>
                </a:cubicBezTo>
                <a:cubicBezTo>
                  <a:pt x="4665" y="16885"/>
                  <a:pt x="4627" y="16962"/>
                  <a:pt x="4564" y="17041"/>
                </a:cubicBezTo>
                <a:cubicBezTo>
                  <a:pt x="4459" y="17173"/>
                  <a:pt x="4335" y="17139"/>
                  <a:pt x="4192" y="17115"/>
                </a:cubicBezTo>
                <a:cubicBezTo>
                  <a:pt x="4092" y="17099"/>
                  <a:pt x="3923" y="17088"/>
                  <a:pt x="3944" y="16942"/>
                </a:cubicBezTo>
                <a:cubicBezTo>
                  <a:pt x="3952" y="16909"/>
                  <a:pt x="3961" y="16875"/>
                  <a:pt x="3969" y="16842"/>
                </a:cubicBezTo>
              </a:path>
              <a:path w="1787" h="2308">
                <a:moveTo>
                  <a:pt x="4911" y="16669"/>
                </a:moveTo>
                <a:cubicBezTo>
                  <a:pt x="4996" y="16753"/>
                  <a:pt x="5070" y="16869"/>
                  <a:pt x="5159" y="16942"/>
                </a:cubicBezTo>
                <a:cubicBezTo>
                  <a:pt x="5241" y="17010"/>
                  <a:pt x="5383" y="17107"/>
                  <a:pt x="5482" y="17140"/>
                </a:cubicBezTo>
              </a:path>
              <a:path w="1787" h="2308">
                <a:moveTo>
                  <a:pt x="5432" y="16470"/>
                </a:moveTo>
                <a:cubicBezTo>
                  <a:pt x="5283" y="16601"/>
                  <a:pt x="5284" y="16756"/>
                  <a:pt x="5234" y="16942"/>
                </a:cubicBezTo>
                <a:cubicBezTo>
                  <a:pt x="5190" y="17073"/>
                  <a:pt x="5177" y="17105"/>
                  <a:pt x="5159" y="17190"/>
                </a:cubicBezTo>
              </a:path>
              <a:path w="1787" h="2308">
                <a:moveTo>
                  <a:pt x="4167" y="17562"/>
                </a:moveTo>
                <a:cubicBezTo>
                  <a:pt x="4340" y="17519"/>
                  <a:pt x="4511" y="17482"/>
                  <a:pt x="4688" y="17462"/>
                </a:cubicBezTo>
                <a:cubicBezTo>
                  <a:pt x="4952" y="17432"/>
                  <a:pt x="5218" y="17405"/>
                  <a:pt x="5482" y="17388"/>
                </a:cubicBezTo>
                <a:cubicBezTo>
                  <a:pt x="5621" y="17379"/>
                  <a:pt x="5803" y="17282"/>
                  <a:pt x="5631" y="17438"/>
                </a:cubicBezTo>
              </a:path>
              <a:path w="1787" h="2308">
                <a:moveTo>
                  <a:pt x="4936" y="17884"/>
                </a:moveTo>
                <a:cubicBezTo>
                  <a:pt x="5058" y="17777"/>
                  <a:pt x="5120" y="17727"/>
                  <a:pt x="5283" y="17711"/>
                </a:cubicBezTo>
                <a:cubicBezTo>
                  <a:pt x="5271" y="17877"/>
                  <a:pt x="5217" y="18011"/>
                  <a:pt x="5135" y="18157"/>
                </a:cubicBezTo>
                <a:cubicBezTo>
                  <a:pt x="5127" y="18165"/>
                  <a:pt x="5118" y="18174"/>
                  <a:pt x="5110" y="18182"/>
                </a:cubicBezTo>
                <a:cubicBezTo>
                  <a:pt x="5206" y="18182"/>
                  <a:pt x="5292" y="18174"/>
                  <a:pt x="5383" y="18207"/>
                </a:cubicBezTo>
                <a:cubicBezTo>
                  <a:pt x="5442" y="18228"/>
                  <a:pt x="5493" y="18318"/>
                  <a:pt x="5507" y="18380"/>
                </a:cubicBezTo>
                <a:cubicBezTo>
                  <a:pt x="5534" y="18502"/>
                  <a:pt x="5392" y="18530"/>
                  <a:pt x="5308" y="18554"/>
                </a:cubicBezTo>
                <a:cubicBezTo>
                  <a:pt x="5196" y="18586"/>
                  <a:pt x="5101" y="18554"/>
                  <a:pt x="4986" y="18554"/>
                </a:cubicBezTo>
              </a:path>
              <a:path w="1787" h="2308">
                <a:moveTo>
                  <a:pt x="4217" y="16272"/>
                </a:moveTo>
                <a:cubicBezTo>
                  <a:pt x="4309" y="16318"/>
                  <a:pt x="4371" y="16366"/>
                  <a:pt x="4440" y="16446"/>
                </a:cubicBezTo>
                <a:cubicBezTo>
                  <a:pt x="4575" y="16604"/>
                  <a:pt x="4730" y="16789"/>
                  <a:pt x="4837" y="16966"/>
                </a:cubicBezTo>
                <a:cubicBezTo>
                  <a:pt x="4957" y="17166"/>
                  <a:pt x="5060" y="17381"/>
                  <a:pt x="5209" y="17562"/>
                </a:cubicBezTo>
                <a:cubicBezTo>
                  <a:pt x="5314" y="17690"/>
                  <a:pt x="5430" y="17794"/>
                  <a:pt x="5482" y="17959"/>
                </a:cubicBezTo>
                <a:cubicBezTo>
                  <a:pt x="5517" y="18068"/>
                  <a:pt x="5541" y="18179"/>
                  <a:pt x="5581" y="18281"/>
                </a:cubicBezTo>
                <a:cubicBezTo>
                  <a:pt x="5606" y="18344"/>
                  <a:pt x="5629" y="18354"/>
                  <a:pt x="5631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82920" y="5554800"/>
            <a:ext cx="1544400" cy="1044360"/>
          </a:xfrm>
          <a:custGeom>
            <a:avLst/>
            <a:gdLst/>
            <a:ahLst/>
            <a:rect l="l" t="t" r="r" b="b"/>
            <a:pathLst>
              <a:path w="4292" h="2903">
                <a:moveTo>
                  <a:pt x="6896" y="17289"/>
                </a:moveTo>
                <a:cubicBezTo>
                  <a:pt x="7140" y="17242"/>
                  <a:pt x="7367" y="17175"/>
                  <a:pt x="7615" y="17165"/>
                </a:cubicBezTo>
                <a:cubicBezTo>
                  <a:pt x="7697" y="17162"/>
                  <a:pt x="7747" y="17174"/>
                  <a:pt x="7813" y="17140"/>
                </a:cubicBezTo>
              </a:path>
              <a:path w="4292" h="2903">
                <a:moveTo>
                  <a:pt x="7590" y="17462"/>
                </a:moveTo>
                <a:cubicBezTo>
                  <a:pt x="7680" y="17485"/>
                  <a:pt x="7704" y="17493"/>
                  <a:pt x="7764" y="17487"/>
                </a:cubicBezTo>
                <a:cubicBezTo>
                  <a:pt x="7740" y="17608"/>
                  <a:pt x="7672" y="17660"/>
                  <a:pt x="7615" y="17760"/>
                </a:cubicBezTo>
                <a:cubicBezTo>
                  <a:pt x="7615" y="17768"/>
                  <a:pt x="7615" y="17777"/>
                  <a:pt x="7615" y="17785"/>
                </a:cubicBezTo>
                <a:cubicBezTo>
                  <a:pt x="7680" y="17828"/>
                  <a:pt x="7749" y="17847"/>
                  <a:pt x="7789" y="17909"/>
                </a:cubicBezTo>
                <a:cubicBezTo>
                  <a:pt x="7858" y="18016"/>
                  <a:pt x="7836" y="18067"/>
                  <a:pt x="7739" y="18157"/>
                </a:cubicBezTo>
                <a:cubicBezTo>
                  <a:pt x="7651" y="18238"/>
                  <a:pt x="7560" y="18351"/>
                  <a:pt x="7441" y="18306"/>
                </a:cubicBezTo>
                <a:cubicBezTo>
                  <a:pt x="7425" y="18298"/>
                  <a:pt x="7408" y="18289"/>
                  <a:pt x="7392" y="18281"/>
                </a:cubicBezTo>
              </a:path>
              <a:path w="4292" h="2903">
                <a:moveTo>
                  <a:pt x="8731" y="16272"/>
                </a:moveTo>
                <a:cubicBezTo>
                  <a:pt x="8784" y="16359"/>
                  <a:pt x="8939" y="16472"/>
                  <a:pt x="9029" y="16545"/>
                </a:cubicBezTo>
                <a:cubicBezTo>
                  <a:pt x="9070" y="16579"/>
                  <a:pt x="9117" y="16626"/>
                  <a:pt x="9153" y="16644"/>
                </a:cubicBezTo>
                <a:cubicBezTo>
                  <a:pt x="9153" y="16585"/>
                  <a:pt x="9160" y="16544"/>
                  <a:pt x="9178" y="16495"/>
                </a:cubicBezTo>
              </a:path>
              <a:path w="4292" h="2903">
                <a:moveTo>
                  <a:pt x="9153" y="16073"/>
                </a:moveTo>
                <a:cubicBezTo>
                  <a:pt x="9050" y="16234"/>
                  <a:pt x="8950" y="16401"/>
                  <a:pt x="8855" y="16570"/>
                </a:cubicBezTo>
                <a:cubicBezTo>
                  <a:pt x="8818" y="16636"/>
                  <a:pt x="8781" y="16694"/>
                  <a:pt x="8781" y="16768"/>
                </a:cubicBezTo>
              </a:path>
              <a:path w="4292" h="2903">
                <a:moveTo>
                  <a:pt x="9500" y="16098"/>
                </a:moveTo>
                <a:cubicBezTo>
                  <a:pt x="9569" y="16110"/>
                  <a:pt x="9627" y="16123"/>
                  <a:pt x="9699" y="16123"/>
                </a:cubicBezTo>
              </a:path>
              <a:path w="4292" h="2903">
                <a:moveTo>
                  <a:pt x="9475" y="16421"/>
                </a:moveTo>
                <a:cubicBezTo>
                  <a:pt x="9571" y="16421"/>
                  <a:pt x="9683" y="16466"/>
                  <a:pt x="9699" y="16371"/>
                </a:cubicBezTo>
              </a:path>
              <a:path w="4292" h="2903">
                <a:moveTo>
                  <a:pt x="10195" y="15925"/>
                </a:moveTo>
                <a:cubicBezTo>
                  <a:pt x="10195" y="15997"/>
                  <a:pt x="10175" y="16051"/>
                  <a:pt x="10170" y="16123"/>
                </a:cubicBezTo>
                <a:cubicBezTo>
                  <a:pt x="10170" y="16148"/>
                  <a:pt x="10170" y="16156"/>
                  <a:pt x="10170" y="16173"/>
                </a:cubicBezTo>
                <a:cubicBezTo>
                  <a:pt x="10289" y="16156"/>
                  <a:pt x="10349" y="16114"/>
                  <a:pt x="10468" y="16148"/>
                </a:cubicBezTo>
                <a:cubicBezTo>
                  <a:pt x="10566" y="16176"/>
                  <a:pt x="10606" y="16278"/>
                  <a:pt x="10592" y="16371"/>
                </a:cubicBezTo>
                <a:cubicBezTo>
                  <a:pt x="10573" y="16499"/>
                  <a:pt x="10493" y="16611"/>
                  <a:pt x="10344" y="16594"/>
                </a:cubicBezTo>
                <a:cubicBezTo>
                  <a:pt x="10168" y="16574"/>
                  <a:pt x="10146" y="16477"/>
                  <a:pt x="10096" y="16346"/>
                </a:cubicBezTo>
              </a:path>
              <a:path w="4292" h="2903">
                <a:moveTo>
                  <a:pt x="10170" y="16049"/>
                </a:moveTo>
                <a:cubicBezTo>
                  <a:pt x="10260" y="16034"/>
                  <a:pt x="10353" y="16023"/>
                  <a:pt x="10443" y="15999"/>
                </a:cubicBezTo>
                <a:cubicBezTo>
                  <a:pt x="10532" y="15975"/>
                  <a:pt x="10624" y="15956"/>
                  <a:pt x="10716" y="15949"/>
                </a:cubicBezTo>
                <a:cubicBezTo>
                  <a:pt x="10760" y="15946"/>
                  <a:pt x="10778" y="15939"/>
                  <a:pt x="10790" y="15974"/>
                </a:cubicBezTo>
              </a:path>
              <a:path w="4292" h="2903">
                <a:moveTo>
                  <a:pt x="11187" y="15825"/>
                </a:moveTo>
                <a:cubicBezTo>
                  <a:pt x="11170" y="15724"/>
                  <a:pt x="11147" y="15659"/>
                  <a:pt x="11063" y="15577"/>
                </a:cubicBezTo>
                <a:cubicBezTo>
                  <a:pt x="10905" y="15424"/>
                  <a:pt x="10700" y="15420"/>
                  <a:pt x="10492" y="15429"/>
                </a:cubicBezTo>
                <a:cubicBezTo>
                  <a:pt x="10116" y="15446"/>
                  <a:pt x="9689" y="15463"/>
                  <a:pt x="9327" y="15577"/>
                </a:cubicBezTo>
                <a:cubicBezTo>
                  <a:pt x="9085" y="15653"/>
                  <a:pt x="8833" y="15796"/>
                  <a:pt x="8632" y="15949"/>
                </a:cubicBezTo>
                <a:cubicBezTo>
                  <a:pt x="8477" y="16067"/>
                  <a:pt x="8283" y="16164"/>
                  <a:pt x="8161" y="16321"/>
                </a:cubicBezTo>
                <a:cubicBezTo>
                  <a:pt x="8055" y="16456"/>
                  <a:pt x="7976" y="16633"/>
                  <a:pt x="8086" y="16793"/>
                </a:cubicBezTo>
                <a:cubicBezTo>
                  <a:pt x="8243" y="17021"/>
                  <a:pt x="8621" y="17131"/>
                  <a:pt x="8880" y="17140"/>
                </a:cubicBezTo>
                <a:cubicBezTo>
                  <a:pt x="9283" y="17154"/>
                  <a:pt x="9727" y="17051"/>
                  <a:pt x="10120" y="16966"/>
                </a:cubicBezTo>
                <a:cubicBezTo>
                  <a:pt x="10369" y="16912"/>
                  <a:pt x="10606" y="16828"/>
                  <a:pt x="10790" y="16644"/>
                </a:cubicBezTo>
                <a:cubicBezTo>
                  <a:pt x="10943" y="16491"/>
                  <a:pt x="10967" y="16246"/>
                  <a:pt x="10914" y="16049"/>
                </a:cubicBezTo>
                <a:cubicBezTo>
                  <a:pt x="10890" y="15960"/>
                  <a:pt x="10812" y="15883"/>
                  <a:pt x="10790" y="15801"/>
                </a:cubicBezTo>
                <a:cubicBezTo>
                  <a:pt x="10779" y="15760"/>
                  <a:pt x="10771" y="15715"/>
                  <a:pt x="10765" y="15677"/>
                </a:cubicBezTo>
                <a:cubicBezTo>
                  <a:pt x="10748" y="15567"/>
                  <a:pt x="10770" y="15663"/>
                  <a:pt x="1071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62680" y="5143680"/>
            <a:ext cx="474480" cy="473040"/>
          </a:xfrm>
          <a:custGeom>
            <a:avLst/>
            <a:gdLst/>
            <a:ahLst/>
            <a:rect l="l" t="t" r="r" b="b"/>
            <a:pathLst>
              <a:path w="1316" h="1315">
                <a:moveTo>
                  <a:pt x="14387" y="14436"/>
                </a:moveTo>
                <a:cubicBezTo>
                  <a:pt x="14469" y="14566"/>
                  <a:pt x="14454" y="14584"/>
                  <a:pt x="14436" y="14734"/>
                </a:cubicBezTo>
                <a:cubicBezTo>
                  <a:pt x="14436" y="14784"/>
                  <a:pt x="14436" y="14800"/>
                  <a:pt x="14436" y="14833"/>
                </a:cubicBezTo>
                <a:cubicBezTo>
                  <a:pt x="14535" y="14821"/>
                  <a:pt x="14576" y="14800"/>
                  <a:pt x="14660" y="14759"/>
                </a:cubicBezTo>
              </a:path>
              <a:path w="1316" h="1315">
                <a:moveTo>
                  <a:pt x="14660" y="14585"/>
                </a:moveTo>
                <a:cubicBezTo>
                  <a:pt x="14639" y="14669"/>
                  <a:pt x="14624" y="14736"/>
                  <a:pt x="14610" y="14833"/>
                </a:cubicBezTo>
                <a:cubicBezTo>
                  <a:pt x="14591" y="14965"/>
                  <a:pt x="14588" y="15052"/>
                  <a:pt x="14610" y="15180"/>
                </a:cubicBezTo>
              </a:path>
              <a:path w="1316" h="1315">
                <a:moveTo>
                  <a:pt x="15379" y="14436"/>
                </a:moveTo>
                <a:cubicBezTo>
                  <a:pt x="15297" y="14396"/>
                  <a:pt x="15215" y="14371"/>
                  <a:pt x="15131" y="14337"/>
                </a:cubicBezTo>
                <a:cubicBezTo>
                  <a:pt x="15019" y="14291"/>
                  <a:pt x="14907" y="14273"/>
                  <a:pt x="14784" y="14288"/>
                </a:cubicBezTo>
                <a:cubicBezTo>
                  <a:pt x="14632" y="14306"/>
                  <a:pt x="14484" y="14340"/>
                  <a:pt x="14362" y="14436"/>
                </a:cubicBezTo>
                <a:cubicBezTo>
                  <a:pt x="14275" y="14504"/>
                  <a:pt x="14187" y="14609"/>
                  <a:pt x="14139" y="14709"/>
                </a:cubicBezTo>
                <a:cubicBezTo>
                  <a:pt x="14090" y="14812"/>
                  <a:pt x="14073" y="14945"/>
                  <a:pt x="14064" y="15056"/>
                </a:cubicBezTo>
                <a:cubicBezTo>
                  <a:pt x="14056" y="15157"/>
                  <a:pt x="14080" y="15342"/>
                  <a:pt x="14139" y="15429"/>
                </a:cubicBezTo>
                <a:cubicBezTo>
                  <a:pt x="14231" y="15565"/>
                  <a:pt x="14379" y="15616"/>
                  <a:pt x="14536" y="15602"/>
                </a:cubicBezTo>
                <a:cubicBezTo>
                  <a:pt x="14688" y="15588"/>
                  <a:pt x="14786" y="15534"/>
                  <a:pt x="14908" y="15453"/>
                </a:cubicBezTo>
                <a:cubicBezTo>
                  <a:pt x="14990" y="15398"/>
                  <a:pt x="15079" y="15316"/>
                  <a:pt x="15131" y="15230"/>
                </a:cubicBezTo>
                <a:cubicBezTo>
                  <a:pt x="15212" y="15097"/>
                  <a:pt x="15220" y="15013"/>
                  <a:pt x="15156" y="14883"/>
                </a:cubicBezTo>
                <a:cubicBezTo>
                  <a:pt x="15115" y="14801"/>
                  <a:pt x="15049" y="14765"/>
                  <a:pt x="14982" y="14709"/>
                </a:cubicBezTo>
                <a:cubicBezTo>
                  <a:pt x="14930" y="14666"/>
                  <a:pt x="14884" y="14618"/>
                  <a:pt x="14833" y="14585"/>
                </a:cubicBezTo>
                <a:cubicBezTo>
                  <a:pt x="14782" y="14552"/>
                  <a:pt x="14742" y="14560"/>
                  <a:pt x="14684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61040" y="4071960"/>
            <a:ext cx="189000" cy="160200"/>
          </a:xfrm>
          <a:custGeom>
            <a:avLst/>
            <a:gdLst/>
            <a:ahLst/>
            <a:rect l="l" t="t" r="r" b="b"/>
            <a:pathLst>
              <a:path w="522" h="447">
                <a:moveTo>
                  <a:pt x="17115" y="11584"/>
                </a:moveTo>
                <a:cubicBezTo>
                  <a:pt x="17183" y="11567"/>
                  <a:pt x="17259" y="11542"/>
                  <a:pt x="17338" y="11534"/>
                </a:cubicBezTo>
                <a:cubicBezTo>
                  <a:pt x="17434" y="11524"/>
                  <a:pt x="17539" y="11534"/>
                  <a:pt x="17636" y="11534"/>
                </a:cubicBezTo>
              </a:path>
              <a:path w="522" h="447">
                <a:moveTo>
                  <a:pt x="17363" y="11311"/>
                </a:moveTo>
                <a:cubicBezTo>
                  <a:pt x="17363" y="11408"/>
                  <a:pt x="17378" y="11491"/>
                  <a:pt x="17388" y="11584"/>
                </a:cubicBezTo>
                <a:cubicBezTo>
                  <a:pt x="17395" y="11651"/>
                  <a:pt x="17367" y="11727"/>
                  <a:pt x="17413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83240" y="4017960"/>
            <a:ext cx="1778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8207" y="11162"/>
                </a:moveTo>
                <a:cubicBezTo>
                  <a:pt x="18154" y="11268"/>
                  <a:pt x="18111" y="11353"/>
                  <a:pt x="18083" y="11460"/>
                </a:cubicBezTo>
                <a:cubicBezTo>
                  <a:pt x="18069" y="11513"/>
                  <a:pt x="18043" y="11557"/>
                  <a:pt x="18033" y="11609"/>
                </a:cubicBezTo>
                <a:cubicBezTo>
                  <a:pt x="18113" y="11598"/>
                  <a:pt x="18223" y="11559"/>
                  <a:pt x="18306" y="11584"/>
                </a:cubicBezTo>
                <a:cubicBezTo>
                  <a:pt x="18376" y="11605"/>
                  <a:pt x="18417" y="11689"/>
                  <a:pt x="18430" y="11757"/>
                </a:cubicBezTo>
                <a:cubicBezTo>
                  <a:pt x="18448" y="11852"/>
                  <a:pt x="18387" y="11880"/>
                  <a:pt x="18306" y="11906"/>
                </a:cubicBezTo>
                <a:cubicBezTo>
                  <a:pt x="18176" y="11948"/>
                  <a:pt x="18103" y="11914"/>
                  <a:pt x="18008" y="11832"/>
                </a:cubicBezTo>
              </a:path>
              <a:path w="497" h="770">
                <a:moveTo>
                  <a:pt x="18207" y="11187"/>
                </a:moveTo>
                <a:cubicBezTo>
                  <a:pt x="18294" y="11187"/>
                  <a:pt x="18349" y="11207"/>
                  <a:pt x="18430" y="11212"/>
                </a:cubicBezTo>
                <a:cubicBezTo>
                  <a:pt x="18475" y="11215"/>
                  <a:pt x="18467" y="11209"/>
                  <a:pt x="18504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85000" y="4037040"/>
            <a:ext cx="349200" cy="222120"/>
          </a:xfrm>
          <a:custGeom>
            <a:avLst/>
            <a:gdLst/>
            <a:ahLst/>
            <a:rect l="l" t="t" r="r" b="b"/>
            <a:pathLst>
              <a:path w="969" h="621">
                <a:moveTo>
                  <a:pt x="19323" y="11534"/>
                </a:moveTo>
                <a:cubicBezTo>
                  <a:pt x="19323" y="11526"/>
                  <a:pt x="19323" y="11517"/>
                  <a:pt x="19323" y="11509"/>
                </a:cubicBezTo>
                <a:cubicBezTo>
                  <a:pt x="19414" y="11509"/>
                  <a:pt x="19505" y="11509"/>
                  <a:pt x="19596" y="11509"/>
                </a:cubicBezTo>
              </a:path>
              <a:path w="969" h="621">
                <a:moveTo>
                  <a:pt x="19397" y="11261"/>
                </a:moveTo>
                <a:cubicBezTo>
                  <a:pt x="19358" y="11352"/>
                  <a:pt x="19366" y="11439"/>
                  <a:pt x="19348" y="11534"/>
                </a:cubicBezTo>
                <a:cubicBezTo>
                  <a:pt x="19340" y="11575"/>
                  <a:pt x="19299" y="11661"/>
                  <a:pt x="19323" y="11708"/>
                </a:cubicBezTo>
                <a:cubicBezTo>
                  <a:pt x="19331" y="11716"/>
                  <a:pt x="19340" y="11725"/>
                  <a:pt x="19348" y="11733"/>
                </a:cubicBezTo>
              </a:path>
              <a:path w="969" h="621">
                <a:moveTo>
                  <a:pt x="19844" y="11261"/>
                </a:moveTo>
                <a:cubicBezTo>
                  <a:pt x="19816" y="11311"/>
                  <a:pt x="19714" y="11420"/>
                  <a:pt x="19745" y="11485"/>
                </a:cubicBezTo>
                <a:cubicBezTo>
                  <a:pt x="19753" y="11501"/>
                  <a:pt x="19976" y="11528"/>
                  <a:pt x="19993" y="11534"/>
                </a:cubicBezTo>
                <a:cubicBezTo>
                  <a:pt x="20038" y="11549"/>
                  <a:pt x="20076" y="11610"/>
                  <a:pt x="20092" y="11658"/>
                </a:cubicBezTo>
                <a:cubicBezTo>
                  <a:pt x="20109" y="11709"/>
                  <a:pt x="20100" y="11810"/>
                  <a:pt x="20042" y="11832"/>
                </a:cubicBezTo>
                <a:cubicBezTo>
                  <a:pt x="19964" y="11862"/>
                  <a:pt x="19921" y="11822"/>
                  <a:pt x="19869" y="11782"/>
                </a:cubicBezTo>
              </a:path>
              <a:path w="969" h="621">
                <a:moveTo>
                  <a:pt x="19844" y="11336"/>
                </a:moveTo>
                <a:cubicBezTo>
                  <a:pt x="19844" y="11311"/>
                  <a:pt x="19844" y="11303"/>
                  <a:pt x="19819" y="11311"/>
                </a:cubicBezTo>
              </a:path>
              <a:path w="969" h="621">
                <a:moveTo>
                  <a:pt x="19769" y="11286"/>
                </a:moveTo>
                <a:cubicBezTo>
                  <a:pt x="19813" y="11251"/>
                  <a:pt x="19860" y="11218"/>
                  <a:pt x="19918" y="11212"/>
                </a:cubicBezTo>
                <a:cubicBezTo>
                  <a:pt x="19943" y="11212"/>
                  <a:pt x="19951" y="11212"/>
                  <a:pt x="19968" y="11212"/>
                </a:cubicBezTo>
              </a:path>
              <a:path w="969" h="621">
                <a:moveTo>
                  <a:pt x="19124" y="11460"/>
                </a:moveTo>
                <a:cubicBezTo>
                  <a:pt x="19124" y="11468"/>
                  <a:pt x="19124" y="11477"/>
                  <a:pt x="19124" y="11485"/>
                </a:cubicBezTo>
                <a:cubicBezTo>
                  <a:pt x="19185" y="11485"/>
                  <a:pt x="19224" y="11495"/>
                  <a:pt x="19273" y="11509"/>
                </a:cubicBezTo>
                <a:cubicBezTo>
                  <a:pt x="19293" y="11515"/>
                  <a:pt x="19327" y="11509"/>
                  <a:pt x="19348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59280" y="3714840"/>
            <a:ext cx="2955960" cy="1465200"/>
          </a:xfrm>
          <a:custGeom>
            <a:avLst/>
            <a:gdLst/>
            <a:ahLst/>
            <a:rect l="l" t="t" r="r" b="b"/>
            <a:pathLst>
              <a:path w="8211" h="4069">
                <a:moveTo>
                  <a:pt x="15999" y="12378"/>
                </a:moveTo>
                <a:cubicBezTo>
                  <a:pt x="16269" y="12419"/>
                  <a:pt x="16499" y="12345"/>
                  <a:pt x="16768" y="12328"/>
                </a:cubicBezTo>
                <a:cubicBezTo>
                  <a:pt x="16977" y="12315"/>
                  <a:pt x="17180" y="12303"/>
                  <a:pt x="17388" y="12278"/>
                </a:cubicBezTo>
                <a:cubicBezTo>
                  <a:pt x="17614" y="12250"/>
                  <a:pt x="17833" y="12250"/>
                  <a:pt x="18058" y="12229"/>
                </a:cubicBezTo>
                <a:cubicBezTo>
                  <a:pt x="18287" y="12208"/>
                  <a:pt x="18501" y="12242"/>
                  <a:pt x="18728" y="12229"/>
                </a:cubicBezTo>
                <a:cubicBezTo>
                  <a:pt x="18993" y="12213"/>
                  <a:pt x="19253" y="12229"/>
                  <a:pt x="19521" y="12229"/>
                </a:cubicBezTo>
                <a:cubicBezTo>
                  <a:pt x="19662" y="12229"/>
                  <a:pt x="20024" y="12308"/>
                  <a:pt x="19918" y="12204"/>
                </a:cubicBezTo>
              </a:path>
              <a:path w="8211" h="4069">
                <a:moveTo>
                  <a:pt x="16123" y="12973"/>
                </a:moveTo>
                <a:cubicBezTo>
                  <a:pt x="16198" y="12935"/>
                  <a:pt x="16236" y="12923"/>
                  <a:pt x="16321" y="12923"/>
                </a:cubicBezTo>
                <a:cubicBezTo>
                  <a:pt x="16329" y="12923"/>
                  <a:pt x="16338" y="12923"/>
                  <a:pt x="16346" y="12923"/>
                </a:cubicBezTo>
              </a:path>
              <a:path w="8211" h="4069">
                <a:moveTo>
                  <a:pt x="16495" y="12650"/>
                </a:moveTo>
                <a:cubicBezTo>
                  <a:pt x="16596" y="12628"/>
                  <a:pt x="16723" y="12635"/>
                  <a:pt x="16818" y="12601"/>
                </a:cubicBezTo>
                <a:cubicBezTo>
                  <a:pt x="16826" y="12593"/>
                  <a:pt x="16834" y="12584"/>
                  <a:pt x="16842" y="12576"/>
                </a:cubicBezTo>
                <a:cubicBezTo>
                  <a:pt x="16842" y="12678"/>
                  <a:pt x="16822" y="12772"/>
                  <a:pt x="16818" y="12874"/>
                </a:cubicBezTo>
                <a:cubicBezTo>
                  <a:pt x="16816" y="12931"/>
                  <a:pt x="16818" y="12989"/>
                  <a:pt x="16818" y="13047"/>
                </a:cubicBezTo>
              </a:path>
              <a:path w="8211" h="4069">
                <a:moveTo>
                  <a:pt x="17214" y="12799"/>
                </a:moveTo>
                <a:cubicBezTo>
                  <a:pt x="17294" y="12866"/>
                  <a:pt x="17385" y="12936"/>
                  <a:pt x="17487" y="12973"/>
                </a:cubicBezTo>
                <a:cubicBezTo>
                  <a:pt x="17512" y="12973"/>
                  <a:pt x="17520" y="12973"/>
                  <a:pt x="17512" y="12948"/>
                </a:cubicBezTo>
              </a:path>
              <a:path w="8211" h="4069">
                <a:moveTo>
                  <a:pt x="17562" y="12650"/>
                </a:moveTo>
                <a:cubicBezTo>
                  <a:pt x="17463" y="12699"/>
                  <a:pt x="17375" y="12824"/>
                  <a:pt x="17314" y="12923"/>
                </a:cubicBezTo>
                <a:cubicBezTo>
                  <a:pt x="17276" y="12986"/>
                  <a:pt x="17231" y="13079"/>
                  <a:pt x="17214" y="13146"/>
                </a:cubicBezTo>
              </a:path>
              <a:path w="8211" h="4069">
                <a:moveTo>
                  <a:pt x="17537" y="10492"/>
                </a:moveTo>
                <a:cubicBezTo>
                  <a:pt x="17519" y="10425"/>
                  <a:pt x="17471" y="10388"/>
                  <a:pt x="17462" y="10319"/>
                </a:cubicBezTo>
                <a:cubicBezTo>
                  <a:pt x="17470" y="10319"/>
                  <a:pt x="17479" y="10319"/>
                  <a:pt x="17487" y="10319"/>
                </a:cubicBezTo>
                <a:cubicBezTo>
                  <a:pt x="17611" y="10552"/>
                  <a:pt x="17755" y="10789"/>
                  <a:pt x="17859" y="11038"/>
                </a:cubicBezTo>
                <a:cubicBezTo>
                  <a:pt x="17975" y="11315"/>
                  <a:pt x="17962" y="11638"/>
                  <a:pt x="18083" y="11906"/>
                </a:cubicBezTo>
                <a:cubicBezTo>
                  <a:pt x="18121" y="11945"/>
                  <a:pt x="18138" y="11947"/>
                  <a:pt x="18132" y="11981"/>
                </a:cubicBezTo>
              </a:path>
              <a:path w="8211" h="4069">
                <a:moveTo>
                  <a:pt x="18876" y="10393"/>
                </a:moveTo>
                <a:cubicBezTo>
                  <a:pt x="18786" y="10512"/>
                  <a:pt x="18678" y="10682"/>
                  <a:pt x="18579" y="10815"/>
                </a:cubicBezTo>
                <a:cubicBezTo>
                  <a:pt x="18351" y="11123"/>
                  <a:pt x="18123" y="11422"/>
                  <a:pt x="17934" y="11757"/>
                </a:cubicBezTo>
                <a:cubicBezTo>
                  <a:pt x="17863" y="11884"/>
                  <a:pt x="17780" y="12005"/>
                  <a:pt x="17711" y="12129"/>
                </a:cubicBezTo>
                <a:cubicBezTo>
                  <a:pt x="17692" y="12164"/>
                  <a:pt x="17676" y="12198"/>
                  <a:pt x="17661" y="12229"/>
                </a:cubicBezTo>
              </a:path>
              <a:path w="8211" h="4069">
                <a:moveTo>
                  <a:pt x="19596" y="12452"/>
                </a:moveTo>
                <a:cubicBezTo>
                  <a:pt x="19522" y="12489"/>
                  <a:pt x="19534" y="12641"/>
                  <a:pt x="19521" y="12725"/>
                </a:cubicBezTo>
                <a:cubicBezTo>
                  <a:pt x="19495" y="12901"/>
                  <a:pt x="19496" y="13069"/>
                  <a:pt x="19496" y="13246"/>
                </a:cubicBezTo>
                <a:cubicBezTo>
                  <a:pt x="19496" y="13254"/>
                  <a:pt x="19496" y="13263"/>
                  <a:pt x="19496" y="13271"/>
                </a:cubicBezTo>
              </a:path>
              <a:path w="8211" h="4069">
                <a:moveTo>
                  <a:pt x="19893" y="12526"/>
                </a:moveTo>
                <a:cubicBezTo>
                  <a:pt x="19886" y="12638"/>
                  <a:pt x="19852" y="12739"/>
                  <a:pt x="19844" y="12849"/>
                </a:cubicBezTo>
                <a:cubicBezTo>
                  <a:pt x="19836" y="12964"/>
                  <a:pt x="19989" y="12953"/>
                  <a:pt x="20067" y="12948"/>
                </a:cubicBezTo>
                <a:cubicBezTo>
                  <a:pt x="20173" y="12927"/>
                  <a:pt x="20200" y="12932"/>
                  <a:pt x="20241" y="12874"/>
                </a:cubicBezTo>
              </a:path>
              <a:path w="8211" h="4069">
                <a:moveTo>
                  <a:pt x="20315" y="12576"/>
                </a:moveTo>
                <a:cubicBezTo>
                  <a:pt x="20254" y="12606"/>
                  <a:pt x="20215" y="12752"/>
                  <a:pt x="20191" y="12824"/>
                </a:cubicBezTo>
                <a:cubicBezTo>
                  <a:pt x="20149" y="12950"/>
                  <a:pt x="20166" y="13090"/>
                  <a:pt x="20166" y="13221"/>
                </a:cubicBezTo>
                <a:cubicBezTo>
                  <a:pt x="20166" y="13295"/>
                  <a:pt x="20166" y="13304"/>
                  <a:pt x="20166" y="13345"/>
                </a:cubicBezTo>
              </a:path>
              <a:path w="8211" h="4069">
                <a:moveTo>
                  <a:pt x="18256" y="12750"/>
                </a:moveTo>
                <a:cubicBezTo>
                  <a:pt x="18349" y="12734"/>
                  <a:pt x="18433" y="12704"/>
                  <a:pt x="18529" y="12700"/>
                </a:cubicBezTo>
                <a:cubicBezTo>
                  <a:pt x="18571" y="12700"/>
                  <a:pt x="18579" y="12700"/>
                  <a:pt x="18604" y="12700"/>
                </a:cubicBezTo>
              </a:path>
              <a:path w="8211" h="4069">
                <a:moveTo>
                  <a:pt x="18380" y="13022"/>
                </a:moveTo>
                <a:cubicBezTo>
                  <a:pt x="18393" y="13062"/>
                  <a:pt x="18428" y="13047"/>
                  <a:pt x="18479" y="13047"/>
                </a:cubicBezTo>
                <a:cubicBezTo>
                  <a:pt x="18530" y="13047"/>
                  <a:pt x="18630" y="12998"/>
                  <a:pt x="18678" y="13022"/>
                </a:cubicBezTo>
                <a:cubicBezTo>
                  <a:pt x="18701" y="13045"/>
                  <a:pt x="18705" y="13053"/>
                  <a:pt x="18728" y="13047"/>
                </a:cubicBezTo>
              </a:path>
              <a:path w="8211" h="4069">
                <a:moveTo>
                  <a:pt x="16545" y="13345"/>
                </a:moveTo>
                <a:cubicBezTo>
                  <a:pt x="16469" y="13307"/>
                  <a:pt x="16688" y="13320"/>
                  <a:pt x="16694" y="13320"/>
                </a:cubicBezTo>
                <a:cubicBezTo>
                  <a:pt x="16911" y="13320"/>
                  <a:pt x="17215" y="13302"/>
                  <a:pt x="17388" y="13345"/>
                </a:cubicBezTo>
                <a:cubicBezTo>
                  <a:pt x="17405" y="13345"/>
                  <a:pt x="17421" y="13345"/>
                  <a:pt x="17438" y="13345"/>
                </a:cubicBezTo>
              </a:path>
              <a:path w="8211" h="4069">
                <a:moveTo>
                  <a:pt x="16371" y="13915"/>
                </a:moveTo>
                <a:cubicBezTo>
                  <a:pt x="16448" y="13906"/>
                  <a:pt x="16511" y="13891"/>
                  <a:pt x="16594" y="13891"/>
                </a:cubicBezTo>
                <a:cubicBezTo>
                  <a:pt x="16602" y="13891"/>
                  <a:pt x="16611" y="13891"/>
                  <a:pt x="16619" y="13891"/>
                </a:cubicBezTo>
              </a:path>
              <a:path w="8211" h="4069">
                <a:moveTo>
                  <a:pt x="16718" y="13643"/>
                </a:moveTo>
                <a:cubicBezTo>
                  <a:pt x="16823" y="13608"/>
                  <a:pt x="16928" y="13618"/>
                  <a:pt x="17041" y="13618"/>
                </a:cubicBezTo>
                <a:cubicBezTo>
                  <a:pt x="17133" y="13618"/>
                  <a:pt x="17157" y="13606"/>
                  <a:pt x="17165" y="13717"/>
                </a:cubicBezTo>
                <a:cubicBezTo>
                  <a:pt x="17176" y="13859"/>
                  <a:pt x="17091" y="14052"/>
                  <a:pt x="17140" y="14188"/>
                </a:cubicBezTo>
                <a:cubicBezTo>
                  <a:pt x="17148" y="14188"/>
                  <a:pt x="17157" y="14188"/>
                  <a:pt x="17165" y="14188"/>
                </a:cubicBezTo>
              </a:path>
              <a:path w="8211" h="4069">
                <a:moveTo>
                  <a:pt x="19075" y="13543"/>
                </a:moveTo>
                <a:cubicBezTo>
                  <a:pt x="19447" y="13543"/>
                  <a:pt x="19819" y="13543"/>
                  <a:pt x="20191" y="13543"/>
                </a:cubicBezTo>
              </a:path>
              <a:path w="8211" h="4069">
                <a:moveTo>
                  <a:pt x="19050" y="13965"/>
                </a:moveTo>
                <a:cubicBezTo>
                  <a:pt x="19155" y="13983"/>
                  <a:pt x="19238" y="13990"/>
                  <a:pt x="19348" y="13990"/>
                </a:cubicBezTo>
                <a:cubicBezTo>
                  <a:pt x="19356" y="13990"/>
                  <a:pt x="19364" y="13990"/>
                  <a:pt x="19372" y="13990"/>
                </a:cubicBezTo>
              </a:path>
              <a:path w="8211" h="4069">
                <a:moveTo>
                  <a:pt x="19397" y="13767"/>
                </a:moveTo>
                <a:cubicBezTo>
                  <a:pt x="19501" y="13707"/>
                  <a:pt x="19600" y="13717"/>
                  <a:pt x="19720" y="13717"/>
                </a:cubicBezTo>
                <a:cubicBezTo>
                  <a:pt x="19753" y="13717"/>
                  <a:pt x="19786" y="13717"/>
                  <a:pt x="19819" y="13717"/>
                </a:cubicBezTo>
                <a:cubicBezTo>
                  <a:pt x="19809" y="13835"/>
                  <a:pt x="19774" y="13947"/>
                  <a:pt x="19745" y="14064"/>
                </a:cubicBezTo>
                <a:cubicBezTo>
                  <a:pt x="19723" y="14153"/>
                  <a:pt x="19720" y="14222"/>
                  <a:pt x="19720" y="14312"/>
                </a:cubicBezTo>
                <a:cubicBezTo>
                  <a:pt x="19720" y="14320"/>
                  <a:pt x="19720" y="14329"/>
                  <a:pt x="19720" y="14337"/>
                </a:cubicBezTo>
              </a:path>
              <a:path w="8211" h="4069">
                <a:moveTo>
                  <a:pt x="21431" y="12725"/>
                </a:moveTo>
                <a:cubicBezTo>
                  <a:pt x="21552" y="12823"/>
                  <a:pt x="21713" y="12893"/>
                  <a:pt x="21828" y="12998"/>
                </a:cubicBezTo>
                <a:cubicBezTo>
                  <a:pt x="21861" y="13028"/>
                  <a:pt x="21858" y="13081"/>
                  <a:pt x="21878" y="13022"/>
                </a:cubicBezTo>
              </a:path>
              <a:path w="8211" h="4069">
                <a:moveTo>
                  <a:pt x="21952" y="12700"/>
                </a:moveTo>
                <a:cubicBezTo>
                  <a:pt x="21863" y="12779"/>
                  <a:pt x="21822" y="12893"/>
                  <a:pt x="21754" y="12998"/>
                </a:cubicBezTo>
                <a:cubicBezTo>
                  <a:pt x="21716" y="13054"/>
                  <a:pt x="21699" y="13057"/>
                  <a:pt x="21704" y="13097"/>
                </a:cubicBezTo>
              </a:path>
              <a:path w="8211" h="4069">
                <a:moveTo>
                  <a:pt x="16718" y="12601"/>
                </a:moveTo>
                <a:cubicBezTo>
                  <a:pt x="16677" y="12600"/>
                  <a:pt x="16681" y="12611"/>
                  <a:pt x="16694" y="12650"/>
                </a:cubicBezTo>
                <a:cubicBezTo>
                  <a:pt x="16812" y="13005"/>
                  <a:pt x="16985" y="13365"/>
                  <a:pt x="17165" y="13692"/>
                </a:cubicBezTo>
                <a:cubicBezTo>
                  <a:pt x="17280" y="13902"/>
                  <a:pt x="17387" y="14096"/>
                  <a:pt x="17487" y="14312"/>
                </a:cubicBezTo>
                <a:cubicBezTo>
                  <a:pt x="17517" y="14377"/>
                  <a:pt x="17521" y="14358"/>
                  <a:pt x="17562" y="14387"/>
                </a:cubicBezTo>
              </a:path>
              <a:path w="8211" h="4069">
                <a:moveTo>
                  <a:pt x="22324" y="12824"/>
                </a:moveTo>
                <a:cubicBezTo>
                  <a:pt x="22397" y="12769"/>
                  <a:pt x="22457" y="12771"/>
                  <a:pt x="22547" y="12750"/>
                </a:cubicBezTo>
                <a:cubicBezTo>
                  <a:pt x="22613" y="12734"/>
                  <a:pt x="22652" y="12725"/>
                  <a:pt x="22721" y="12725"/>
                </a:cubicBezTo>
              </a:path>
              <a:path w="8211" h="4069">
                <a:moveTo>
                  <a:pt x="22275" y="12998"/>
                </a:moveTo>
                <a:cubicBezTo>
                  <a:pt x="22310" y="13068"/>
                  <a:pt x="22415" y="13082"/>
                  <a:pt x="22498" y="13072"/>
                </a:cubicBezTo>
                <a:cubicBezTo>
                  <a:pt x="22576" y="13063"/>
                  <a:pt x="22642" y="13047"/>
                  <a:pt x="22721" y="13047"/>
                </a:cubicBezTo>
                <a:cubicBezTo>
                  <a:pt x="22746" y="13047"/>
                  <a:pt x="22754" y="13047"/>
                  <a:pt x="22746" y="13022"/>
                </a:cubicBezTo>
              </a:path>
              <a:path w="8211" h="4069">
                <a:moveTo>
                  <a:pt x="23168" y="13047"/>
                </a:moveTo>
                <a:cubicBezTo>
                  <a:pt x="23225" y="13032"/>
                  <a:pt x="23272" y="13022"/>
                  <a:pt x="23341" y="13022"/>
                </a:cubicBezTo>
                <a:cubicBezTo>
                  <a:pt x="23432" y="13022"/>
                  <a:pt x="23523" y="13022"/>
                  <a:pt x="23614" y="13022"/>
                </a:cubicBezTo>
              </a:path>
              <a:path w="8211" h="4069">
                <a:moveTo>
                  <a:pt x="23837" y="12675"/>
                </a:moveTo>
                <a:cubicBezTo>
                  <a:pt x="23924" y="12652"/>
                  <a:pt x="24033" y="12594"/>
                  <a:pt x="24110" y="12675"/>
                </a:cubicBezTo>
                <a:cubicBezTo>
                  <a:pt x="24198" y="12768"/>
                  <a:pt x="24215" y="12954"/>
                  <a:pt x="24185" y="13072"/>
                </a:cubicBezTo>
                <a:cubicBezTo>
                  <a:pt x="24145" y="13230"/>
                  <a:pt x="24058" y="13351"/>
                  <a:pt x="23912" y="13419"/>
                </a:cubicBezTo>
                <a:cubicBezTo>
                  <a:pt x="23807" y="13468"/>
                  <a:pt x="23656" y="13408"/>
                  <a:pt x="23614" y="13295"/>
                </a:cubicBezTo>
                <a:cubicBezTo>
                  <a:pt x="23614" y="13270"/>
                  <a:pt x="23614" y="13246"/>
                  <a:pt x="23614" y="13221"/>
                </a:cubicBezTo>
                <a:cubicBezTo>
                  <a:pt x="23707" y="13156"/>
                  <a:pt x="23827" y="13109"/>
                  <a:pt x="23937" y="13196"/>
                </a:cubicBezTo>
                <a:cubicBezTo>
                  <a:pt x="23983" y="13232"/>
                  <a:pt x="23994" y="13274"/>
                  <a:pt x="24011" y="13320"/>
                </a:cubicBezTo>
                <a:cubicBezTo>
                  <a:pt x="24034" y="13383"/>
                  <a:pt x="24096" y="13467"/>
                  <a:pt x="24135" y="13519"/>
                </a:cubicBezTo>
                <a:cubicBezTo>
                  <a:pt x="24162" y="13555"/>
                  <a:pt x="24174" y="13582"/>
                  <a:pt x="24209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62760" y="5616720"/>
            <a:ext cx="1260360" cy="482400"/>
          </a:xfrm>
          <a:custGeom>
            <a:avLst/>
            <a:gdLst/>
            <a:ahLst/>
            <a:rect l="l" t="t" r="r" b="b"/>
            <a:pathLst>
              <a:path w="3499" h="1341">
                <a:moveTo>
                  <a:pt x="17016" y="15949"/>
                </a:moveTo>
                <a:cubicBezTo>
                  <a:pt x="17114" y="15894"/>
                  <a:pt x="17223" y="15881"/>
                  <a:pt x="17338" y="15875"/>
                </a:cubicBezTo>
                <a:cubicBezTo>
                  <a:pt x="17346" y="15875"/>
                  <a:pt x="17355" y="15875"/>
                  <a:pt x="17363" y="15875"/>
                </a:cubicBezTo>
              </a:path>
              <a:path w="3499" h="1341">
                <a:moveTo>
                  <a:pt x="17066" y="15776"/>
                </a:moveTo>
                <a:cubicBezTo>
                  <a:pt x="17080" y="15876"/>
                  <a:pt x="17100" y="15973"/>
                  <a:pt x="17115" y="16073"/>
                </a:cubicBezTo>
                <a:cubicBezTo>
                  <a:pt x="17115" y="16101"/>
                  <a:pt x="17117" y="16107"/>
                  <a:pt x="17140" y="16073"/>
                </a:cubicBezTo>
              </a:path>
              <a:path w="3499" h="1341">
                <a:moveTo>
                  <a:pt x="17661" y="15602"/>
                </a:moveTo>
                <a:cubicBezTo>
                  <a:pt x="17661" y="15737"/>
                  <a:pt x="17640" y="15865"/>
                  <a:pt x="17636" y="15999"/>
                </a:cubicBezTo>
                <a:cubicBezTo>
                  <a:pt x="17634" y="16065"/>
                  <a:pt x="17629" y="16264"/>
                  <a:pt x="17661" y="16321"/>
                </a:cubicBezTo>
                <a:cubicBezTo>
                  <a:pt x="17669" y="16321"/>
                  <a:pt x="17678" y="16321"/>
                  <a:pt x="17686" y="16321"/>
                </a:cubicBezTo>
              </a:path>
              <a:path w="3499" h="1341">
                <a:moveTo>
                  <a:pt x="18058" y="15701"/>
                </a:moveTo>
                <a:cubicBezTo>
                  <a:pt x="17973" y="15775"/>
                  <a:pt x="17926" y="15879"/>
                  <a:pt x="17909" y="15999"/>
                </a:cubicBezTo>
                <a:cubicBezTo>
                  <a:pt x="17897" y="16081"/>
                  <a:pt x="17904" y="16180"/>
                  <a:pt x="17959" y="16247"/>
                </a:cubicBezTo>
                <a:cubicBezTo>
                  <a:pt x="17990" y="16285"/>
                  <a:pt x="18076" y="16410"/>
                  <a:pt x="18132" y="16421"/>
                </a:cubicBezTo>
                <a:cubicBezTo>
                  <a:pt x="18235" y="16442"/>
                  <a:pt x="18313" y="16361"/>
                  <a:pt x="18380" y="16297"/>
                </a:cubicBezTo>
                <a:cubicBezTo>
                  <a:pt x="18447" y="16233"/>
                  <a:pt x="18449" y="16142"/>
                  <a:pt x="18455" y="16049"/>
                </a:cubicBezTo>
                <a:cubicBezTo>
                  <a:pt x="18455" y="16024"/>
                  <a:pt x="18455" y="16016"/>
                  <a:pt x="18455" y="15999"/>
                </a:cubicBezTo>
                <a:cubicBezTo>
                  <a:pt x="18361" y="15989"/>
                  <a:pt x="18293" y="15961"/>
                  <a:pt x="18207" y="16024"/>
                </a:cubicBezTo>
                <a:cubicBezTo>
                  <a:pt x="18124" y="16085"/>
                  <a:pt x="18104" y="16209"/>
                  <a:pt x="18157" y="16297"/>
                </a:cubicBezTo>
                <a:cubicBezTo>
                  <a:pt x="18174" y="16313"/>
                  <a:pt x="18190" y="16330"/>
                  <a:pt x="18207" y="16346"/>
                </a:cubicBezTo>
              </a:path>
              <a:path w="3499" h="1341">
                <a:moveTo>
                  <a:pt x="16842" y="16446"/>
                </a:moveTo>
                <a:cubicBezTo>
                  <a:pt x="16971" y="16509"/>
                  <a:pt x="17085" y="16518"/>
                  <a:pt x="17264" y="16520"/>
                </a:cubicBezTo>
                <a:cubicBezTo>
                  <a:pt x="17613" y="16524"/>
                  <a:pt x="17960" y="16525"/>
                  <a:pt x="18306" y="16545"/>
                </a:cubicBezTo>
                <a:cubicBezTo>
                  <a:pt x="18429" y="16552"/>
                  <a:pt x="18555" y="16545"/>
                  <a:pt x="18678" y="16545"/>
                </a:cubicBezTo>
              </a:path>
              <a:path w="3499" h="1341">
                <a:moveTo>
                  <a:pt x="18083" y="16669"/>
                </a:moveTo>
                <a:cubicBezTo>
                  <a:pt x="18033" y="16718"/>
                  <a:pt x="18012" y="16745"/>
                  <a:pt x="18008" y="16818"/>
                </a:cubicBezTo>
                <a:cubicBezTo>
                  <a:pt x="18004" y="16896"/>
                  <a:pt x="18078" y="16956"/>
                  <a:pt x="18157" y="16942"/>
                </a:cubicBezTo>
                <a:cubicBezTo>
                  <a:pt x="18255" y="16925"/>
                  <a:pt x="18305" y="16844"/>
                  <a:pt x="18281" y="16743"/>
                </a:cubicBezTo>
                <a:cubicBezTo>
                  <a:pt x="18273" y="16711"/>
                  <a:pt x="18221" y="16697"/>
                  <a:pt x="18207" y="16669"/>
                </a:cubicBezTo>
              </a:path>
              <a:path w="3499" h="1341">
                <a:moveTo>
                  <a:pt x="19000" y="15974"/>
                </a:moveTo>
                <a:cubicBezTo>
                  <a:pt x="19124" y="15964"/>
                  <a:pt x="19277" y="15975"/>
                  <a:pt x="19397" y="15949"/>
                </a:cubicBezTo>
                <a:cubicBezTo>
                  <a:pt x="19405" y="15941"/>
                  <a:pt x="19414" y="15933"/>
                  <a:pt x="19422" y="15925"/>
                </a:cubicBezTo>
              </a:path>
              <a:path w="3499" h="1341">
                <a:moveTo>
                  <a:pt x="19199" y="15776"/>
                </a:moveTo>
                <a:cubicBezTo>
                  <a:pt x="19199" y="15925"/>
                  <a:pt x="19199" y="16073"/>
                  <a:pt x="19199" y="16222"/>
                </a:cubicBezTo>
              </a:path>
              <a:path w="3499" h="1341">
                <a:moveTo>
                  <a:pt x="19745" y="15801"/>
                </a:moveTo>
                <a:cubicBezTo>
                  <a:pt x="19731" y="15894"/>
                  <a:pt x="19684" y="15981"/>
                  <a:pt x="19670" y="16073"/>
                </a:cubicBezTo>
                <a:cubicBezTo>
                  <a:pt x="19661" y="16135"/>
                  <a:pt x="19670" y="16367"/>
                  <a:pt x="19670" y="16346"/>
                </a:cubicBezTo>
              </a:path>
              <a:path w="3499" h="1341">
                <a:moveTo>
                  <a:pt x="19993" y="15701"/>
                </a:moveTo>
                <a:cubicBezTo>
                  <a:pt x="19957" y="15791"/>
                  <a:pt x="19887" y="15863"/>
                  <a:pt x="19869" y="15974"/>
                </a:cubicBezTo>
                <a:cubicBezTo>
                  <a:pt x="19853" y="16074"/>
                  <a:pt x="19909" y="16195"/>
                  <a:pt x="19968" y="16272"/>
                </a:cubicBezTo>
                <a:cubicBezTo>
                  <a:pt x="20060" y="16391"/>
                  <a:pt x="20210" y="16355"/>
                  <a:pt x="20290" y="16247"/>
                </a:cubicBezTo>
                <a:cubicBezTo>
                  <a:pt x="20335" y="16159"/>
                  <a:pt x="20351" y="16138"/>
                  <a:pt x="20340" y="16073"/>
                </a:cubicBezTo>
                <a:cubicBezTo>
                  <a:pt x="20209" y="16073"/>
                  <a:pt x="20163" y="16089"/>
                  <a:pt x="20117" y="16222"/>
                </a:cubicBezTo>
                <a:cubicBezTo>
                  <a:pt x="20117" y="16230"/>
                  <a:pt x="20117" y="16239"/>
                  <a:pt x="20117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76880" y="5473800"/>
            <a:ext cx="3849480" cy="1206360"/>
          </a:xfrm>
          <a:custGeom>
            <a:avLst/>
            <a:gdLst/>
            <a:ahLst/>
            <a:rect l="l" t="t" r="r" b="b"/>
            <a:pathLst>
              <a:path w="10691" h="3350">
                <a:moveTo>
                  <a:pt x="19100" y="16669"/>
                </a:moveTo>
                <a:cubicBezTo>
                  <a:pt x="19371" y="16632"/>
                  <a:pt x="19644" y="16644"/>
                  <a:pt x="19918" y="16644"/>
                </a:cubicBezTo>
                <a:cubicBezTo>
                  <a:pt x="20057" y="16644"/>
                  <a:pt x="20641" y="16686"/>
                  <a:pt x="20662" y="16619"/>
                </a:cubicBezTo>
              </a:path>
              <a:path w="10691" h="3350">
                <a:moveTo>
                  <a:pt x="19645" y="17140"/>
                </a:moveTo>
                <a:cubicBezTo>
                  <a:pt x="19645" y="17277"/>
                  <a:pt x="19643" y="17401"/>
                  <a:pt x="19621" y="17537"/>
                </a:cubicBezTo>
                <a:cubicBezTo>
                  <a:pt x="19604" y="17642"/>
                  <a:pt x="19596" y="17729"/>
                  <a:pt x="19596" y="17835"/>
                </a:cubicBezTo>
              </a:path>
              <a:path w="10691" h="3350">
                <a:moveTo>
                  <a:pt x="20092" y="17413"/>
                </a:moveTo>
                <a:cubicBezTo>
                  <a:pt x="20194" y="17460"/>
                  <a:pt x="20296" y="17499"/>
                  <a:pt x="20365" y="17587"/>
                </a:cubicBezTo>
                <a:cubicBezTo>
                  <a:pt x="20365" y="17595"/>
                  <a:pt x="20365" y="17603"/>
                  <a:pt x="20365" y="17611"/>
                </a:cubicBezTo>
                <a:cubicBezTo>
                  <a:pt x="20354" y="17691"/>
                  <a:pt x="20290" y="17782"/>
                  <a:pt x="20191" y="17785"/>
                </a:cubicBezTo>
                <a:cubicBezTo>
                  <a:pt x="20082" y="17788"/>
                  <a:pt x="19976" y="17662"/>
                  <a:pt x="20042" y="17562"/>
                </a:cubicBezTo>
                <a:cubicBezTo>
                  <a:pt x="20112" y="17456"/>
                  <a:pt x="20221" y="17405"/>
                  <a:pt x="20290" y="17289"/>
                </a:cubicBezTo>
                <a:cubicBezTo>
                  <a:pt x="20336" y="17211"/>
                  <a:pt x="20355" y="17121"/>
                  <a:pt x="20290" y="17041"/>
                </a:cubicBezTo>
                <a:cubicBezTo>
                  <a:pt x="20250" y="16992"/>
                  <a:pt x="20123" y="16971"/>
                  <a:pt x="20067" y="16991"/>
                </a:cubicBezTo>
                <a:cubicBezTo>
                  <a:pt x="19996" y="17016"/>
                  <a:pt x="19955" y="17123"/>
                  <a:pt x="19968" y="17190"/>
                </a:cubicBezTo>
                <a:cubicBezTo>
                  <a:pt x="19979" y="17249"/>
                  <a:pt x="20027" y="17305"/>
                  <a:pt x="20042" y="17363"/>
                </a:cubicBezTo>
                <a:cubicBezTo>
                  <a:pt x="20051" y="17398"/>
                  <a:pt x="20073" y="17453"/>
                  <a:pt x="20092" y="17462"/>
                </a:cubicBezTo>
                <a:cubicBezTo>
                  <a:pt x="20100" y="17462"/>
                  <a:pt x="20109" y="17462"/>
                  <a:pt x="20117" y="17462"/>
                </a:cubicBezTo>
              </a:path>
              <a:path w="10691" h="3350">
                <a:moveTo>
                  <a:pt x="18430" y="17363"/>
                </a:moveTo>
                <a:cubicBezTo>
                  <a:pt x="18583" y="17363"/>
                  <a:pt x="18726" y="17360"/>
                  <a:pt x="18876" y="17338"/>
                </a:cubicBezTo>
                <a:cubicBezTo>
                  <a:pt x="18884" y="17338"/>
                  <a:pt x="18893" y="17338"/>
                  <a:pt x="18901" y="17338"/>
                </a:cubicBezTo>
              </a:path>
              <a:path w="10691" h="3350">
                <a:moveTo>
                  <a:pt x="18380" y="17587"/>
                </a:moveTo>
                <a:cubicBezTo>
                  <a:pt x="18492" y="17631"/>
                  <a:pt x="18583" y="17636"/>
                  <a:pt x="18703" y="17636"/>
                </a:cubicBezTo>
                <a:cubicBezTo>
                  <a:pt x="18711" y="17636"/>
                  <a:pt x="18720" y="17636"/>
                  <a:pt x="18728" y="17636"/>
                </a:cubicBezTo>
              </a:path>
              <a:path w="10691" h="3350">
                <a:moveTo>
                  <a:pt x="17066" y="16793"/>
                </a:moveTo>
                <a:cubicBezTo>
                  <a:pt x="17048" y="16865"/>
                  <a:pt x="16988" y="16925"/>
                  <a:pt x="17016" y="17016"/>
                </a:cubicBezTo>
                <a:cubicBezTo>
                  <a:pt x="17058" y="17154"/>
                  <a:pt x="17223" y="17165"/>
                  <a:pt x="17314" y="17066"/>
                </a:cubicBezTo>
                <a:cubicBezTo>
                  <a:pt x="17347" y="17030"/>
                  <a:pt x="17378" y="16942"/>
                  <a:pt x="17388" y="16892"/>
                </a:cubicBezTo>
                <a:cubicBezTo>
                  <a:pt x="17370" y="16980"/>
                  <a:pt x="17385" y="17046"/>
                  <a:pt x="17388" y="17140"/>
                </a:cubicBezTo>
                <a:cubicBezTo>
                  <a:pt x="17392" y="17242"/>
                  <a:pt x="17383" y="17327"/>
                  <a:pt x="17264" y="17363"/>
                </a:cubicBezTo>
                <a:cubicBezTo>
                  <a:pt x="17239" y="17363"/>
                  <a:pt x="17215" y="17363"/>
                  <a:pt x="17190" y="17363"/>
                </a:cubicBezTo>
              </a:path>
              <a:path w="10691" h="3350">
                <a:moveTo>
                  <a:pt x="16793" y="17562"/>
                </a:moveTo>
                <a:cubicBezTo>
                  <a:pt x="16999" y="17604"/>
                  <a:pt x="17203" y="17587"/>
                  <a:pt x="17413" y="17562"/>
                </a:cubicBezTo>
                <a:cubicBezTo>
                  <a:pt x="17562" y="17541"/>
                  <a:pt x="17594" y="17532"/>
                  <a:pt x="17686" y="17537"/>
                </a:cubicBezTo>
              </a:path>
              <a:path w="10691" h="3350">
                <a:moveTo>
                  <a:pt x="16991" y="17760"/>
                </a:moveTo>
                <a:cubicBezTo>
                  <a:pt x="17103" y="17723"/>
                  <a:pt x="17198" y="17684"/>
                  <a:pt x="17314" y="17735"/>
                </a:cubicBezTo>
                <a:cubicBezTo>
                  <a:pt x="17393" y="17770"/>
                  <a:pt x="17355" y="17977"/>
                  <a:pt x="17338" y="18033"/>
                </a:cubicBezTo>
                <a:cubicBezTo>
                  <a:pt x="17296" y="18170"/>
                  <a:pt x="17141" y="18324"/>
                  <a:pt x="17016" y="18380"/>
                </a:cubicBezTo>
                <a:cubicBezTo>
                  <a:pt x="16936" y="18415"/>
                  <a:pt x="16772" y="18408"/>
                  <a:pt x="16793" y="18281"/>
                </a:cubicBezTo>
                <a:cubicBezTo>
                  <a:pt x="16809" y="18187"/>
                  <a:pt x="16954" y="18107"/>
                  <a:pt x="17041" y="18132"/>
                </a:cubicBezTo>
                <a:cubicBezTo>
                  <a:pt x="17137" y="18160"/>
                  <a:pt x="17225" y="18263"/>
                  <a:pt x="17314" y="18306"/>
                </a:cubicBezTo>
                <a:cubicBezTo>
                  <a:pt x="17398" y="18347"/>
                  <a:pt x="17481" y="18370"/>
                  <a:pt x="17562" y="18405"/>
                </a:cubicBezTo>
                <a:cubicBezTo>
                  <a:pt x="17602" y="18422"/>
                  <a:pt x="17595" y="18454"/>
                  <a:pt x="17611" y="18405"/>
                </a:cubicBezTo>
              </a:path>
              <a:path w="10691" h="3350">
                <a:moveTo>
                  <a:pt x="16197" y="17462"/>
                </a:moveTo>
                <a:cubicBezTo>
                  <a:pt x="16185" y="17499"/>
                  <a:pt x="16173" y="17484"/>
                  <a:pt x="16173" y="17537"/>
                </a:cubicBezTo>
                <a:cubicBezTo>
                  <a:pt x="16188" y="17532"/>
                  <a:pt x="16272" y="17536"/>
                  <a:pt x="16272" y="17512"/>
                </a:cubicBezTo>
                <a:cubicBezTo>
                  <a:pt x="16272" y="17443"/>
                  <a:pt x="16247" y="17520"/>
                  <a:pt x="16247" y="17537"/>
                </a:cubicBezTo>
              </a:path>
              <a:path w="10691" h="3350">
                <a:moveTo>
                  <a:pt x="15354" y="17165"/>
                </a:moveTo>
                <a:cubicBezTo>
                  <a:pt x="15302" y="17148"/>
                  <a:pt x="15355" y="17111"/>
                  <a:pt x="15379" y="17066"/>
                </a:cubicBezTo>
                <a:cubicBezTo>
                  <a:pt x="15414" y="17000"/>
                  <a:pt x="15444" y="16947"/>
                  <a:pt x="15528" y="16966"/>
                </a:cubicBezTo>
                <a:cubicBezTo>
                  <a:pt x="15626" y="16989"/>
                  <a:pt x="15640" y="17025"/>
                  <a:pt x="15677" y="17090"/>
                </a:cubicBezTo>
                <a:cubicBezTo>
                  <a:pt x="15725" y="17175"/>
                  <a:pt x="15747" y="17235"/>
                  <a:pt x="15751" y="17338"/>
                </a:cubicBezTo>
                <a:cubicBezTo>
                  <a:pt x="15753" y="17403"/>
                  <a:pt x="15732" y="17468"/>
                  <a:pt x="15677" y="17512"/>
                </a:cubicBezTo>
                <a:cubicBezTo>
                  <a:pt x="15569" y="17597"/>
                  <a:pt x="15549" y="17579"/>
                  <a:pt x="15429" y="17562"/>
                </a:cubicBezTo>
                <a:cubicBezTo>
                  <a:pt x="15364" y="17553"/>
                  <a:pt x="15377" y="17573"/>
                  <a:pt x="15329" y="17537"/>
                </a:cubicBezTo>
                <a:cubicBezTo>
                  <a:pt x="15334" y="17498"/>
                  <a:pt x="15336" y="17409"/>
                  <a:pt x="15379" y="17388"/>
                </a:cubicBezTo>
                <a:cubicBezTo>
                  <a:pt x="15403" y="17376"/>
                  <a:pt x="15517" y="17405"/>
                  <a:pt x="15528" y="17413"/>
                </a:cubicBezTo>
                <a:cubicBezTo>
                  <a:pt x="15547" y="17427"/>
                  <a:pt x="15594" y="17479"/>
                  <a:pt x="15627" y="17512"/>
                </a:cubicBezTo>
                <a:cubicBezTo>
                  <a:pt x="15666" y="17551"/>
                  <a:pt x="15657" y="17553"/>
                  <a:pt x="15701" y="17587"/>
                </a:cubicBezTo>
              </a:path>
              <a:path w="10691" h="3350">
                <a:moveTo>
                  <a:pt x="15056" y="17711"/>
                </a:moveTo>
                <a:cubicBezTo>
                  <a:pt x="15048" y="17711"/>
                  <a:pt x="15040" y="17711"/>
                  <a:pt x="15032" y="17711"/>
                </a:cubicBezTo>
                <a:cubicBezTo>
                  <a:pt x="15048" y="17775"/>
                  <a:pt x="15092" y="17782"/>
                  <a:pt x="15156" y="17785"/>
                </a:cubicBezTo>
                <a:cubicBezTo>
                  <a:pt x="15232" y="17788"/>
                  <a:pt x="15358" y="17783"/>
                  <a:pt x="15429" y="17760"/>
                </a:cubicBezTo>
                <a:cubicBezTo>
                  <a:pt x="15558" y="17719"/>
                  <a:pt x="15698" y="17699"/>
                  <a:pt x="15825" y="17661"/>
                </a:cubicBezTo>
                <a:cubicBezTo>
                  <a:pt x="15890" y="17641"/>
                  <a:pt x="15954" y="17617"/>
                  <a:pt x="16024" y="17611"/>
                </a:cubicBezTo>
                <a:cubicBezTo>
                  <a:pt x="16048" y="17609"/>
                  <a:pt x="16074" y="17611"/>
                  <a:pt x="16098" y="17611"/>
                </a:cubicBezTo>
              </a:path>
              <a:path w="10691" h="3350">
                <a:moveTo>
                  <a:pt x="15677" y="17983"/>
                </a:moveTo>
                <a:cubicBezTo>
                  <a:pt x="15677" y="17959"/>
                  <a:pt x="15677" y="17951"/>
                  <a:pt x="15652" y="17959"/>
                </a:cubicBezTo>
                <a:cubicBezTo>
                  <a:pt x="15652" y="18030"/>
                  <a:pt x="15630" y="18081"/>
                  <a:pt x="15627" y="18157"/>
                </a:cubicBezTo>
                <a:cubicBezTo>
                  <a:pt x="15624" y="18242"/>
                  <a:pt x="15648" y="18301"/>
                  <a:pt x="15652" y="18380"/>
                </a:cubicBezTo>
                <a:cubicBezTo>
                  <a:pt x="15656" y="18450"/>
                  <a:pt x="15726" y="18578"/>
                  <a:pt x="15677" y="18529"/>
                </a:cubicBezTo>
                <a:cubicBezTo>
                  <a:pt x="15669" y="18529"/>
                  <a:pt x="15660" y="18529"/>
                  <a:pt x="15652" y="18529"/>
                </a:cubicBezTo>
              </a:path>
              <a:path w="10691" h="3350">
                <a:moveTo>
                  <a:pt x="14660" y="16793"/>
                </a:moveTo>
                <a:cubicBezTo>
                  <a:pt x="14736" y="16825"/>
                  <a:pt x="14816" y="16860"/>
                  <a:pt x="14883" y="16917"/>
                </a:cubicBezTo>
                <a:cubicBezTo>
                  <a:pt x="14984" y="17003"/>
                  <a:pt x="15046" y="17052"/>
                  <a:pt x="15156" y="17115"/>
                </a:cubicBezTo>
                <a:cubicBezTo>
                  <a:pt x="15246" y="17166"/>
                  <a:pt x="15326" y="17226"/>
                  <a:pt x="15429" y="17264"/>
                </a:cubicBezTo>
                <a:cubicBezTo>
                  <a:pt x="15520" y="17298"/>
                  <a:pt x="15585" y="17352"/>
                  <a:pt x="15677" y="17388"/>
                </a:cubicBezTo>
                <a:cubicBezTo>
                  <a:pt x="15782" y="17429"/>
                  <a:pt x="15894" y="17476"/>
                  <a:pt x="15999" y="17512"/>
                </a:cubicBezTo>
                <a:cubicBezTo>
                  <a:pt x="16142" y="17561"/>
                  <a:pt x="16312" y="17577"/>
                  <a:pt x="16446" y="17611"/>
                </a:cubicBezTo>
                <a:cubicBezTo>
                  <a:pt x="16531" y="17633"/>
                  <a:pt x="16618" y="17690"/>
                  <a:pt x="16694" y="17735"/>
                </a:cubicBezTo>
                <a:cubicBezTo>
                  <a:pt x="16802" y="17800"/>
                  <a:pt x="16902" y="17860"/>
                  <a:pt x="17016" y="17909"/>
                </a:cubicBezTo>
                <a:cubicBezTo>
                  <a:pt x="17124" y="17955"/>
                  <a:pt x="17218" y="18014"/>
                  <a:pt x="17314" y="18083"/>
                </a:cubicBezTo>
                <a:cubicBezTo>
                  <a:pt x="17404" y="18147"/>
                  <a:pt x="17484" y="18215"/>
                  <a:pt x="17587" y="18256"/>
                </a:cubicBezTo>
                <a:cubicBezTo>
                  <a:pt x="17618" y="18268"/>
                  <a:pt x="17711" y="18288"/>
                  <a:pt x="17735" y="18306"/>
                </a:cubicBezTo>
                <a:cubicBezTo>
                  <a:pt x="17787" y="18345"/>
                  <a:pt x="17849" y="18420"/>
                  <a:pt x="17884" y="18455"/>
                </a:cubicBezTo>
              </a:path>
              <a:path w="10691" h="3350">
                <a:moveTo>
                  <a:pt x="21729" y="16842"/>
                </a:moveTo>
                <a:cubicBezTo>
                  <a:pt x="21744" y="16798"/>
                  <a:pt x="21763" y="16828"/>
                  <a:pt x="21779" y="16867"/>
                </a:cubicBezTo>
                <a:cubicBezTo>
                  <a:pt x="21799" y="16916"/>
                  <a:pt x="21817" y="17030"/>
                  <a:pt x="21853" y="17041"/>
                </a:cubicBezTo>
                <a:cubicBezTo>
                  <a:pt x="22002" y="17087"/>
                  <a:pt x="22106" y="16999"/>
                  <a:pt x="22175" y="16867"/>
                </a:cubicBezTo>
                <a:cubicBezTo>
                  <a:pt x="22175" y="16839"/>
                  <a:pt x="22173" y="16829"/>
                  <a:pt x="22151" y="16818"/>
                </a:cubicBezTo>
                <a:cubicBezTo>
                  <a:pt x="22151" y="16752"/>
                  <a:pt x="22151" y="16900"/>
                  <a:pt x="22151" y="16966"/>
                </a:cubicBezTo>
                <a:cubicBezTo>
                  <a:pt x="22151" y="17076"/>
                  <a:pt x="22187" y="17237"/>
                  <a:pt x="22175" y="17338"/>
                </a:cubicBezTo>
                <a:cubicBezTo>
                  <a:pt x="22167" y="17405"/>
                  <a:pt x="22122" y="17477"/>
                  <a:pt x="22076" y="17537"/>
                </a:cubicBezTo>
                <a:cubicBezTo>
                  <a:pt x="22035" y="17590"/>
                  <a:pt x="22032" y="17607"/>
                  <a:pt x="21952" y="17611"/>
                </a:cubicBezTo>
                <a:cubicBezTo>
                  <a:pt x="21883" y="17615"/>
                  <a:pt x="21863" y="17607"/>
                  <a:pt x="21828" y="17562"/>
                </a:cubicBezTo>
                <a:cubicBezTo>
                  <a:pt x="21794" y="17528"/>
                  <a:pt x="21785" y="17506"/>
                  <a:pt x="21803" y="17462"/>
                </a:cubicBezTo>
              </a:path>
              <a:path w="10691" h="3350">
                <a:moveTo>
                  <a:pt x="22547" y="16594"/>
                </a:moveTo>
                <a:cubicBezTo>
                  <a:pt x="22547" y="16602"/>
                  <a:pt x="22547" y="16611"/>
                  <a:pt x="22547" y="16619"/>
                </a:cubicBezTo>
                <a:cubicBezTo>
                  <a:pt x="22591" y="16628"/>
                  <a:pt x="22653" y="16631"/>
                  <a:pt x="22696" y="16644"/>
                </a:cubicBezTo>
                <a:cubicBezTo>
                  <a:pt x="22737" y="16664"/>
                  <a:pt x="22743" y="16673"/>
                  <a:pt x="22771" y="16669"/>
                </a:cubicBezTo>
              </a:path>
              <a:path w="10691" h="3350">
                <a:moveTo>
                  <a:pt x="22374" y="16966"/>
                </a:moveTo>
                <a:cubicBezTo>
                  <a:pt x="22466" y="16985"/>
                  <a:pt x="22548" y="16991"/>
                  <a:pt x="22647" y="16991"/>
                </a:cubicBezTo>
                <a:cubicBezTo>
                  <a:pt x="22705" y="16991"/>
                  <a:pt x="22762" y="16991"/>
                  <a:pt x="22820" y="16991"/>
                </a:cubicBezTo>
              </a:path>
              <a:path w="10691" h="3350">
                <a:moveTo>
                  <a:pt x="20886" y="17636"/>
                </a:moveTo>
                <a:cubicBezTo>
                  <a:pt x="20863" y="17659"/>
                  <a:pt x="20797" y="17722"/>
                  <a:pt x="20836" y="17760"/>
                </a:cubicBezTo>
                <a:cubicBezTo>
                  <a:pt x="20843" y="17767"/>
                  <a:pt x="20899" y="17760"/>
                  <a:pt x="20910" y="17760"/>
                </a:cubicBezTo>
                <a:cubicBezTo>
                  <a:pt x="20883" y="17719"/>
                  <a:pt x="20881" y="17733"/>
                  <a:pt x="20836" y="17760"/>
                </a:cubicBezTo>
                <a:cubicBezTo>
                  <a:pt x="20898" y="17760"/>
                  <a:pt x="20872" y="17742"/>
                  <a:pt x="20861" y="17810"/>
                </a:cubicBezTo>
              </a:path>
              <a:path w="10691" h="3350">
                <a:moveTo>
                  <a:pt x="21233" y="17338"/>
                </a:moveTo>
                <a:cubicBezTo>
                  <a:pt x="21291" y="17304"/>
                  <a:pt x="21494" y="17146"/>
                  <a:pt x="21580" y="17214"/>
                </a:cubicBezTo>
                <a:cubicBezTo>
                  <a:pt x="21661" y="17278"/>
                  <a:pt x="21732" y="17490"/>
                  <a:pt x="21729" y="17587"/>
                </a:cubicBezTo>
                <a:cubicBezTo>
                  <a:pt x="21724" y="17743"/>
                  <a:pt x="21595" y="17883"/>
                  <a:pt x="21456" y="17934"/>
                </a:cubicBezTo>
                <a:cubicBezTo>
                  <a:pt x="21385" y="17960"/>
                  <a:pt x="21187" y="18000"/>
                  <a:pt x="21134" y="17909"/>
                </a:cubicBezTo>
                <a:cubicBezTo>
                  <a:pt x="21114" y="17875"/>
                  <a:pt x="21090" y="17759"/>
                  <a:pt x="21134" y="17735"/>
                </a:cubicBezTo>
                <a:cubicBezTo>
                  <a:pt x="21228" y="17682"/>
                  <a:pt x="21343" y="17709"/>
                  <a:pt x="21431" y="17760"/>
                </a:cubicBezTo>
                <a:cubicBezTo>
                  <a:pt x="21530" y="17818"/>
                  <a:pt x="21638" y="17860"/>
                  <a:pt x="21729" y="17934"/>
                </a:cubicBezTo>
                <a:cubicBezTo>
                  <a:pt x="21768" y="17965"/>
                  <a:pt x="21867" y="18011"/>
                  <a:pt x="21878" y="18033"/>
                </a:cubicBezTo>
                <a:cubicBezTo>
                  <a:pt x="21878" y="18058"/>
                  <a:pt x="21878" y="18066"/>
                  <a:pt x="21903" y="18058"/>
                </a:cubicBezTo>
              </a:path>
              <a:path w="10691" h="3350">
                <a:moveTo>
                  <a:pt x="22944" y="16197"/>
                </a:moveTo>
                <a:cubicBezTo>
                  <a:pt x="22989" y="16138"/>
                  <a:pt x="23100" y="16087"/>
                  <a:pt x="23192" y="16098"/>
                </a:cubicBezTo>
                <a:cubicBezTo>
                  <a:pt x="23209" y="16106"/>
                  <a:pt x="23225" y="16115"/>
                  <a:pt x="23242" y="16123"/>
                </a:cubicBezTo>
                <a:cubicBezTo>
                  <a:pt x="23219" y="16282"/>
                  <a:pt x="23136" y="16347"/>
                  <a:pt x="22994" y="16421"/>
                </a:cubicBezTo>
                <a:cubicBezTo>
                  <a:pt x="22904" y="16457"/>
                  <a:pt x="22862" y="16437"/>
                  <a:pt x="22870" y="16495"/>
                </a:cubicBezTo>
                <a:cubicBezTo>
                  <a:pt x="22983" y="16495"/>
                  <a:pt x="23044" y="16489"/>
                  <a:pt x="23143" y="16545"/>
                </a:cubicBezTo>
                <a:cubicBezTo>
                  <a:pt x="23288" y="16627"/>
                  <a:pt x="23253" y="16742"/>
                  <a:pt x="23217" y="16867"/>
                </a:cubicBezTo>
                <a:cubicBezTo>
                  <a:pt x="23180" y="16994"/>
                  <a:pt x="23068" y="17090"/>
                  <a:pt x="22920" y="17090"/>
                </a:cubicBezTo>
                <a:cubicBezTo>
                  <a:pt x="22846" y="17090"/>
                  <a:pt x="22695" y="17051"/>
                  <a:pt x="22721" y="16942"/>
                </a:cubicBezTo>
                <a:cubicBezTo>
                  <a:pt x="22738" y="16909"/>
                  <a:pt x="22754" y="16875"/>
                  <a:pt x="22771" y="16842"/>
                </a:cubicBezTo>
              </a:path>
              <a:path w="10691" h="3350">
                <a:moveTo>
                  <a:pt x="23937" y="16024"/>
                </a:moveTo>
                <a:cubicBezTo>
                  <a:pt x="23915" y="16134"/>
                  <a:pt x="23833" y="16187"/>
                  <a:pt x="23763" y="16272"/>
                </a:cubicBezTo>
                <a:cubicBezTo>
                  <a:pt x="23671" y="16382"/>
                  <a:pt x="23521" y="16498"/>
                  <a:pt x="23490" y="16644"/>
                </a:cubicBezTo>
                <a:cubicBezTo>
                  <a:pt x="23474" y="16718"/>
                  <a:pt x="23480" y="16840"/>
                  <a:pt x="23540" y="16892"/>
                </a:cubicBezTo>
                <a:cubicBezTo>
                  <a:pt x="23651" y="16989"/>
                  <a:pt x="23822" y="16998"/>
                  <a:pt x="23961" y="16942"/>
                </a:cubicBezTo>
                <a:cubicBezTo>
                  <a:pt x="23986" y="16925"/>
                  <a:pt x="24011" y="16909"/>
                  <a:pt x="24036" y="16892"/>
                </a:cubicBezTo>
                <a:cubicBezTo>
                  <a:pt x="24000" y="16844"/>
                  <a:pt x="23960" y="16783"/>
                  <a:pt x="23912" y="16718"/>
                </a:cubicBezTo>
                <a:cubicBezTo>
                  <a:pt x="23837" y="16617"/>
                  <a:pt x="23868" y="16657"/>
                  <a:pt x="23912" y="16594"/>
                </a:cubicBezTo>
                <a:cubicBezTo>
                  <a:pt x="23912" y="16586"/>
                  <a:pt x="23912" y="16578"/>
                  <a:pt x="23912" y="16570"/>
                </a:cubicBezTo>
                <a:cubicBezTo>
                  <a:pt x="23813" y="16570"/>
                  <a:pt x="23756" y="16587"/>
                  <a:pt x="23688" y="16669"/>
                </a:cubicBezTo>
                <a:cubicBezTo>
                  <a:pt x="23606" y="16769"/>
                  <a:pt x="23615" y="16831"/>
                  <a:pt x="23639" y="16942"/>
                </a:cubicBezTo>
                <a:cubicBezTo>
                  <a:pt x="23639" y="16966"/>
                  <a:pt x="23639" y="16974"/>
                  <a:pt x="23664" y="16966"/>
                </a:cubicBezTo>
              </a:path>
              <a:path w="10691" h="3350">
                <a:moveTo>
                  <a:pt x="24557" y="16098"/>
                </a:moveTo>
                <a:cubicBezTo>
                  <a:pt x="24551" y="16029"/>
                  <a:pt x="24551" y="15984"/>
                  <a:pt x="24532" y="15925"/>
                </a:cubicBezTo>
                <a:cubicBezTo>
                  <a:pt x="24487" y="15786"/>
                  <a:pt x="24510" y="15924"/>
                  <a:pt x="24482" y="15900"/>
                </a:cubicBezTo>
                <a:cubicBezTo>
                  <a:pt x="24411" y="15839"/>
                  <a:pt x="24332" y="15787"/>
                  <a:pt x="24259" y="15726"/>
                </a:cubicBezTo>
                <a:cubicBezTo>
                  <a:pt x="24166" y="15648"/>
                  <a:pt x="24030" y="15551"/>
                  <a:pt x="23937" y="15503"/>
                </a:cubicBezTo>
                <a:cubicBezTo>
                  <a:pt x="23826" y="15446"/>
                  <a:pt x="23707" y="15396"/>
                  <a:pt x="23589" y="15354"/>
                </a:cubicBezTo>
                <a:cubicBezTo>
                  <a:pt x="23361" y="15272"/>
                  <a:pt x="23138" y="15220"/>
                  <a:pt x="22895" y="15205"/>
                </a:cubicBezTo>
                <a:cubicBezTo>
                  <a:pt x="22638" y="15190"/>
                  <a:pt x="22346" y="15188"/>
                  <a:pt x="22101" y="15280"/>
                </a:cubicBezTo>
                <a:cubicBezTo>
                  <a:pt x="21865" y="15369"/>
                  <a:pt x="21654" y="15498"/>
                  <a:pt x="21456" y="15652"/>
                </a:cubicBezTo>
                <a:cubicBezTo>
                  <a:pt x="21279" y="15790"/>
                  <a:pt x="21196" y="15876"/>
                  <a:pt x="21158" y="16098"/>
                </a:cubicBezTo>
                <a:cubicBezTo>
                  <a:pt x="21130" y="16264"/>
                  <a:pt x="21124" y="16420"/>
                  <a:pt x="21258" y="16545"/>
                </a:cubicBezTo>
                <a:cubicBezTo>
                  <a:pt x="21403" y="16680"/>
                  <a:pt x="21610" y="16767"/>
                  <a:pt x="21779" y="16867"/>
                </a:cubicBezTo>
                <a:cubicBezTo>
                  <a:pt x="21962" y="16975"/>
                  <a:pt x="22103" y="17093"/>
                  <a:pt x="22275" y="17214"/>
                </a:cubicBezTo>
                <a:cubicBezTo>
                  <a:pt x="22386" y="17292"/>
                  <a:pt x="22504" y="17352"/>
                  <a:pt x="22622" y="17413"/>
                </a:cubicBezTo>
                <a:cubicBezTo>
                  <a:pt x="22718" y="17463"/>
                  <a:pt x="22819" y="17496"/>
                  <a:pt x="22920" y="17537"/>
                </a:cubicBezTo>
                <a:cubicBezTo>
                  <a:pt x="23044" y="17587"/>
                  <a:pt x="23161" y="17632"/>
                  <a:pt x="23292" y="17661"/>
                </a:cubicBezTo>
                <a:cubicBezTo>
                  <a:pt x="23458" y="17698"/>
                  <a:pt x="23612" y="17766"/>
                  <a:pt x="23788" y="17760"/>
                </a:cubicBezTo>
                <a:cubicBezTo>
                  <a:pt x="23969" y="17754"/>
                  <a:pt x="24056" y="17701"/>
                  <a:pt x="24209" y="17611"/>
                </a:cubicBezTo>
                <a:cubicBezTo>
                  <a:pt x="24419" y="17487"/>
                  <a:pt x="24643" y="17372"/>
                  <a:pt x="24829" y="17214"/>
                </a:cubicBezTo>
                <a:cubicBezTo>
                  <a:pt x="24939" y="17120"/>
                  <a:pt x="25331" y="16822"/>
                  <a:pt x="25350" y="16669"/>
                </a:cubicBezTo>
                <a:cubicBezTo>
                  <a:pt x="25402" y="16250"/>
                  <a:pt x="25473" y="15946"/>
                  <a:pt x="25053" y="15900"/>
                </a:cubicBezTo>
                <a:cubicBezTo>
                  <a:pt x="24933" y="15887"/>
                  <a:pt x="24921" y="15919"/>
                  <a:pt x="24805" y="15949"/>
                </a:cubicBezTo>
                <a:cubicBezTo>
                  <a:pt x="24740" y="15966"/>
                  <a:pt x="24700" y="15967"/>
                  <a:pt x="24631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85000" y="3009960"/>
            <a:ext cx="1768320" cy="677880"/>
          </a:xfrm>
          <a:custGeom>
            <a:avLst/>
            <a:gdLst/>
            <a:ahLst/>
            <a:rect l="l" t="t" r="r" b="b"/>
            <a:pathLst>
              <a:path w="4913" h="1886">
                <a:moveTo>
                  <a:pt x="19124" y="9079"/>
                </a:moveTo>
                <a:cubicBezTo>
                  <a:pt x="19214" y="9045"/>
                  <a:pt x="19298" y="9054"/>
                  <a:pt x="19397" y="9054"/>
                </a:cubicBezTo>
                <a:cubicBezTo>
                  <a:pt x="19474" y="9054"/>
                  <a:pt x="19472" y="9066"/>
                  <a:pt x="19521" y="9029"/>
                </a:cubicBezTo>
              </a:path>
              <a:path w="4913" h="1886">
                <a:moveTo>
                  <a:pt x="19670" y="8706"/>
                </a:moveTo>
                <a:cubicBezTo>
                  <a:pt x="19753" y="8690"/>
                  <a:pt x="19829" y="8682"/>
                  <a:pt x="19918" y="8682"/>
                </a:cubicBezTo>
                <a:cubicBezTo>
                  <a:pt x="20007" y="8682"/>
                  <a:pt x="20035" y="8657"/>
                  <a:pt x="20117" y="8657"/>
                </a:cubicBezTo>
                <a:cubicBezTo>
                  <a:pt x="20125" y="8657"/>
                  <a:pt x="20133" y="8657"/>
                  <a:pt x="20141" y="8657"/>
                </a:cubicBezTo>
                <a:cubicBezTo>
                  <a:pt x="20141" y="8728"/>
                  <a:pt x="20114" y="8788"/>
                  <a:pt x="20092" y="8855"/>
                </a:cubicBezTo>
                <a:cubicBezTo>
                  <a:pt x="20069" y="8925"/>
                  <a:pt x="20049" y="9008"/>
                  <a:pt x="20042" y="9079"/>
                </a:cubicBezTo>
                <a:cubicBezTo>
                  <a:pt x="20042" y="9087"/>
                  <a:pt x="20042" y="9095"/>
                  <a:pt x="20042" y="9103"/>
                </a:cubicBezTo>
              </a:path>
              <a:path w="4913" h="1886">
                <a:moveTo>
                  <a:pt x="20613" y="8483"/>
                </a:moveTo>
                <a:cubicBezTo>
                  <a:pt x="20520" y="8446"/>
                  <a:pt x="20471" y="8580"/>
                  <a:pt x="20414" y="8657"/>
                </a:cubicBezTo>
                <a:cubicBezTo>
                  <a:pt x="20317" y="8787"/>
                  <a:pt x="20279" y="8921"/>
                  <a:pt x="20315" y="9079"/>
                </a:cubicBezTo>
                <a:cubicBezTo>
                  <a:pt x="20326" y="9128"/>
                  <a:pt x="20399" y="9277"/>
                  <a:pt x="20464" y="9277"/>
                </a:cubicBezTo>
                <a:cubicBezTo>
                  <a:pt x="20489" y="9269"/>
                  <a:pt x="20513" y="9260"/>
                  <a:pt x="20538" y="9252"/>
                </a:cubicBezTo>
              </a:path>
              <a:path w="4913" h="1886">
                <a:moveTo>
                  <a:pt x="20712" y="8954"/>
                </a:moveTo>
                <a:cubicBezTo>
                  <a:pt x="20758" y="8945"/>
                  <a:pt x="20793" y="8926"/>
                  <a:pt x="20836" y="8905"/>
                </a:cubicBezTo>
              </a:path>
              <a:path w="4913" h="1886">
                <a:moveTo>
                  <a:pt x="21084" y="8731"/>
                </a:moveTo>
                <a:cubicBezTo>
                  <a:pt x="21197" y="8686"/>
                  <a:pt x="21302" y="8643"/>
                  <a:pt x="21406" y="8731"/>
                </a:cubicBezTo>
                <a:cubicBezTo>
                  <a:pt x="21463" y="8779"/>
                  <a:pt x="21467" y="8858"/>
                  <a:pt x="21431" y="8930"/>
                </a:cubicBezTo>
                <a:cubicBezTo>
                  <a:pt x="21394" y="9004"/>
                  <a:pt x="21287" y="9152"/>
                  <a:pt x="21208" y="9178"/>
                </a:cubicBezTo>
                <a:cubicBezTo>
                  <a:pt x="21158" y="9195"/>
                  <a:pt x="21066" y="9170"/>
                  <a:pt x="21034" y="9128"/>
                </a:cubicBezTo>
                <a:cubicBezTo>
                  <a:pt x="21034" y="9095"/>
                  <a:pt x="21034" y="9079"/>
                  <a:pt x="21034" y="9054"/>
                </a:cubicBezTo>
                <a:cubicBezTo>
                  <a:pt x="21082" y="9016"/>
                  <a:pt x="21141" y="8967"/>
                  <a:pt x="21208" y="8979"/>
                </a:cubicBezTo>
                <a:cubicBezTo>
                  <a:pt x="21286" y="8993"/>
                  <a:pt x="21366" y="9043"/>
                  <a:pt x="21431" y="9079"/>
                </a:cubicBezTo>
                <a:cubicBezTo>
                  <a:pt x="21499" y="9116"/>
                  <a:pt x="21555" y="9131"/>
                  <a:pt x="21630" y="9153"/>
                </a:cubicBezTo>
              </a:path>
              <a:path w="4913" h="1886">
                <a:moveTo>
                  <a:pt x="21307" y="8359"/>
                </a:moveTo>
                <a:cubicBezTo>
                  <a:pt x="21362" y="8377"/>
                  <a:pt x="21524" y="8525"/>
                  <a:pt x="21580" y="8582"/>
                </a:cubicBezTo>
                <a:cubicBezTo>
                  <a:pt x="21690" y="8695"/>
                  <a:pt x="21793" y="8804"/>
                  <a:pt x="21828" y="8954"/>
                </a:cubicBezTo>
                <a:cubicBezTo>
                  <a:pt x="21863" y="9102"/>
                  <a:pt x="21851" y="9126"/>
                  <a:pt x="21779" y="9252"/>
                </a:cubicBezTo>
                <a:cubicBezTo>
                  <a:pt x="21759" y="9293"/>
                  <a:pt x="21750" y="9299"/>
                  <a:pt x="21754" y="9327"/>
                </a:cubicBezTo>
              </a:path>
              <a:path w="4913" h="1886">
                <a:moveTo>
                  <a:pt x="22250" y="8930"/>
                </a:moveTo>
                <a:cubicBezTo>
                  <a:pt x="22259" y="8904"/>
                  <a:pt x="22316" y="8885"/>
                  <a:pt x="22349" y="8880"/>
                </a:cubicBezTo>
                <a:cubicBezTo>
                  <a:pt x="22435" y="8867"/>
                  <a:pt x="22496" y="8892"/>
                  <a:pt x="22572" y="8905"/>
                </a:cubicBezTo>
                <a:cubicBezTo>
                  <a:pt x="22628" y="8915"/>
                  <a:pt x="22673" y="8904"/>
                  <a:pt x="22696" y="8880"/>
                </a:cubicBezTo>
              </a:path>
              <a:path w="4913" h="1886">
                <a:moveTo>
                  <a:pt x="20960" y="9599"/>
                </a:moveTo>
                <a:cubicBezTo>
                  <a:pt x="20920" y="9738"/>
                  <a:pt x="20929" y="9857"/>
                  <a:pt x="20910" y="9996"/>
                </a:cubicBezTo>
                <a:cubicBezTo>
                  <a:pt x="20900" y="10071"/>
                  <a:pt x="20886" y="10120"/>
                  <a:pt x="20886" y="10195"/>
                </a:cubicBezTo>
              </a:path>
              <a:path w="4913" h="1886">
                <a:moveTo>
                  <a:pt x="21208" y="9575"/>
                </a:moveTo>
                <a:cubicBezTo>
                  <a:pt x="21182" y="9671"/>
                  <a:pt x="21158" y="9748"/>
                  <a:pt x="21158" y="9847"/>
                </a:cubicBezTo>
                <a:cubicBezTo>
                  <a:pt x="21158" y="9903"/>
                  <a:pt x="21292" y="9902"/>
                  <a:pt x="21332" y="9897"/>
                </a:cubicBezTo>
                <a:cubicBezTo>
                  <a:pt x="21416" y="9876"/>
                  <a:pt x="21442" y="9881"/>
                  <a:pt x="21456" y="9823"/>
                </a:cubicBezTo>
              </a:path>
              <a:path w="4913" h="1886">
                <a:moveTo>
                  <a:pt x="21530" y="9500"/>
                </a:moveTo>
                <a:cubicBezTo>
                  <a:pt x="21510" y="9603"/>
                  <a:pt x="21489" y="9715"/>
                  <a:pt x="21481" y="9823"/>
                </a:cubicBezTo>
                <a:cubicBezTo>
                  <a:pt x="21471" y="9949"/>
                  <a:pt x="21456" y="10067"/>
                  <a:pt x="21456" y="10195"/>
                </a:cubicBezTo>
                <a:cubicBezTo>
                  <a:pt x="21456" y="10236"/>
                  <a:pt x="21448" y="10252"/>
                  <a:pt x="21481" y="10244"/>
                </a:cubicBezTo>
              </a:path>
              <a:path w="4913" h="1886">
                <a:moveTo>
                  <a:pt x="22944" y="8558"/>
                </a:moveTo>
                <a:cubicBezTo>
                  <a:pt x="22944" y="8533"/>
                  <a:pt x="22944" y="8525"/>
                  <a:pt x="22944" y="8508"/>
                </a:cubicBezTo>
                <a:cubicBezTo>
                  <a:pt x="22931" y="8577"/>
                  <a:pt x="22875" y="8656"/>
                  <a:pt x="22895" y="8731"/>
                </a:cubicBezTo>
                <a:cubicBezTo>
                  <a:pt x="22908" y="8780"/>
                  <a:pt x="23205" y="8774"/>
                  <a:pt x="23242" y="8781"/>
                </a:cubicBezTo>
                <a:cubicBezTo>
                  <a:pt x="23337" y="8799"/>
                  <a:pt x="23475" y="8828"/>
                  <a:pt x="23465" y="8954"/>
                </a:cubicBezTo>
                <a:cubicBezTo>
                  <a:pt x="23455" y="9072"/>
                  <a:pt x="23246" y="9151"/>
                  <a:pt x="23143" y="9128"/>
                </a:cubicBezTo>
                <a:cubicBezTo>
                  <a:pt x="23053" y="9084"/>
                  <a:pt x="23024" y="9077"/>
                  <a:pt x="23019" y="9004"/>
                </a:cubicBezTo>
              </a:path>
              <a:path w="4913" h="1886">
                <a:moveTo>
                  <a:pt x="23019" y="8582"/>
                </a:moveTo>
                <a:cubicBezTo>
                  <a:pt x="23058" y="8531"/>
                  <a:pt x="23141" y="8513"/>
                  <a:pt x="23217" y="8508"/>
                </a:cubicBezTo>
                <a:cubicBezTo>
                  <a:pt x="23264" y="8505"/>
                  <a:pt x="23377" y="8479"/>
                  <a:pt x="23416" y="8483"/>
                </a:cubicBezTo>
                <a:cubicBezTo>
                  <a:pt x="23432" y="8491"/>
                  <a:pt x="23449" y="8500"/>
                  <a:pt x="23465" y="8508"/>
                </a:cubicBezTo>
              </a:path>
              <a:path w="4913" h="1886">
                <a:moveTo>
                  <a:pt x="23812" y="8979"/>
                </a:moveTo>
                <a:cubicBezTo>
                  <a:pt x="23887" y="8979"/>
                  <a:pt x="23961" y="8979"/>
                  <a:pt x="24036" y="8979"/>
                </a:cubicBezTo>
              </a:path>
              <a:path w="4913" h="1886">
                <a:moveTo>
                  <a:pt x="23639" y="9252"/>
                </a:moveTo>
                <a:cubicBezTo>
                  <a:pt x="23714" y="9275"/>
                  <a:pt x="23820" y="9274"/>
                  <a:pt x="23887" y="9302"/>
                </a:cubicBezTo>
                <a:cubicBezTo>
                  <a:pt x="23895" y="9310"/>
                  <a:pt x="23904" y="9319"/>
                  <a:pt x="23912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18640" y="3429000"/>
            <a:ext cx="554040" cy="231840"/>
          </a:xfrm>
          <a:custGeom>
            <a:avLst/>
            <a:gdLst/>
            <a:ahLst/>
            <a:rect l="l" t="t" r="r" b="b"/>
            <a:pathLst>
              <a:path w="1538" h="646">
                <a:moveTo>
                  <a:pt x="22275" y="9872"/>
                </a:moveTo>
                <a:cubicBezTo>
                  <a:pt x="22350" y="9857"/>
                  <a:pt x="22417" y="9847"/>
                  <a:pt x="22498" y="9847"/>
                </a:cubicBezTo>
                <a:cubicBezTo>
                  <a:pt x="22514" y="9847"/>
                  <a:pt x="22531" y="9847"/>
                  <a:pt x="22547" y="9847"/>
                </a:cubicBezTo>
              </a:path>
              <a:path w="1538" h="646">
                <a:moveTo>
                  <a:pt x="22895" y="9575"/>
                </a:moveTo>
                <a:cubicBezTo>
                  <a:pt x="22879" y="9638"/>
                  <a:pt x="22850" y="9699"/>
                  <a:pt x="22845" y="9773"/>
                </a:cubicBezTo>
                <a:cubicBezTo>
                  <a:pt x="22845" y="9781"/>
                  <a:pt x="22845" y="9790"/>
                  <a:pt x="22845" y="9798"/>
                </a:cubicBezTo>
                <a:cubicBezTo>
                  <a:pt x="22973" y="9811"/>
                  <a:pt x="23129" y="9860"/>
                  <a:pt x="23242" y="9922"/>
                </a:cubicBezTo>
                <a:cubicBezTo>
                  <a:pt x="23275" y="9947"/>
                  <a:pt x="23308" y="9971"/>
                  <a:pt x="23341" y="9996"/>
                </a:cubicBezTo>
                <a:cubicBezTo>
                  <a:pt x="23307" y="10101"/>
                  <a:pt x="23193" y="10189"/>
                  <a:pt x="23068" y="10170"/>
                </a:cubicBezTo>
                <a:cubicBezTo>
                  <a:pt x="23043" y="10153"/>
                  <a:pt x="23019" y="10137"/>
                  <a:pt x="22994" y="10120"/>
                </a:cubicBezTo>
              </a:path>
              <a:path w="1538" h="646">
                <a:moveTo>
                  <a:pt x="22920" y="9575"/>
                </a:moveTo>
                <a:cubicBezTo>
                  <a:pt x="23002" y="9554"/>
                  <a:pt x="23083" y="9525"/>
                  <a:pt x="23168" y="9525"/>
                </a:cubicBezTo>
                <a:cubicBezTo>
                  <a:pt x="23217" y="9525"/>
                  <a:pt x="23234" y="9525"/>
                  <a:pt x="23267" y="9525"/>
                </a:cubicBezTo>
              </a:path>
              <a:path w="1538" h="646">
                <a:moveTo>
                  <a:pt x="23564" y="9823"/>
                </a:moveTo>
                <a:cubicBezTo>
                  <a:pt x="23650" y="9823"/>
                  <a:pt x="23742" y="9806"/>
                  <a:pt x="23812" y="9847"/>
                </a:cubicBezTo>
              </a:path>
              <a:path w="1538" h="646">
                <a:moveTo>
                  <a:pt x="23416" y="10096"/>
                </a:moveTo>
                <a:cubicBezTo>
                  <a:pt x="23535" y="10113"/>
                  <a:pt x="23643" y="10120"/>
                  <a:pt x="23763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2240" y="3394080"/>
            <a:ext cx="169920" cy="320760"/>
          </a:xfrm>
          <a:custGeom>
            <a:avLst/>
            <a:gdLst/>
            <a:ahLst/>
            <a:rect l="l" t="t" r="r" b="b"/>
            <a:pathLst>
              <a:path w="472" h="894">
                <a:moveTo>
                  <a:pt x="24730" y="9674"/>
                </a:moveTo>
                <a:cubicBezTo>
                  <a:pt x="24749" y="9607"/>
                  <a:pt x="24737" y="9574"/>
                  <a:pt x="24705" y="9500"/>
                </a:cubicBezTo>
                <a:cubicBezTo>
                  <a:pt x="24663" y="9404"/>
                  <a:pt x="24569" y="9409"/>
                  <a:pt x="24482" y="9451"/>
                </a:cubicBezTo>
                <a:cubicBezTo>
                  <a:pt x="24394" y="9493"/>
                  <a:pt x="24322" y="9611"/>
                  <a:pt x="24284" y="9699"/>
                </a:cubicBezTo>
                <a:cubicBezTo>
                  <a:pt x="24265" y="9742"/>
                  <a:pt x="24280" y="9812"/>
                  <a:pt x="24309" y="9823"/>
                </a:cubicBezTo>
                <a:cubicBezTo>
                  <a:pt x="24422" y="9866"/>
                  <a:pt x="24549" y="9811"/>
                  <a:pt x="24631" y="9723"/>
                </a:cubicBezTo>
                <a:cubicBezTo>
                  <a:pt x="24638" y="9716"/>
                  <a:pt x="24631" y="9660"/>
                  <a:pt x="24631" y="9649"/>
                </a:cubicBezTo>
                <a:cubicBezTo>
                  <a:pt x="24685" y="9667"/>
                  <a:pt x="24618" y="9823"/>
                  <a:pt x="24606" y="9872"/>
                </a:cubicBezTo>
                <a:cubicBezTo>
                  <a:pt x="24579" y="9984"/>
                  <a:pt x="24557" y="10080"/>
                  <a:pt x="24557" y="10195"/>
                </a:cubicBezTo>
                <a:cubicBezTo>
                  <a:pt x="24557" y="10253"/>
                  <a:pt x="24565" y="10275"/>
                  <a:pt x="24532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7080" y="1741320"/>
            <a:ext cx="3268800" cy="88920"/>
          </a:xfrm>
          <a:custGeom>
            <a:avLst/>
            <a:gdLst/>
            <a:ahLst/>
            <a:rect l="l" t="t" r="r" b="b"/>
            <a:pathLst>
              <a:path w="9079" h="249">
                <a:moveTo>
                  <a:pt x="6176" y="4862"/>
                </a:moveTo>
                <a:cubicBezTo>
                  <a:pt x="6212" y="4858"/>
                  <a:pt x="6091" y="4834"/>
                  <a:pt x="6127" y="4837"/>
                </a:cubicBezTo>
                <a:cubicBezTo>
                  <a:pt x="6260" y="4848"/>
                  <a:pt x="6392" y="4886"/>
                  <a:pt x="6524" y="4911"/>
                </a:cubicBezTo>
                <a:cubicBezTo>
                  <a:pt x="6788" y="4960"/>
                  <a:pt x="7051" y="5017"/>
                  <a:pt x="7317" y="5035"/>
                </a:cubicBezTo>
                <a:cubicBezTo>
                  <a:pt x="7493" y="5047"/>
                  <a:pt x="7689" y="5088"/>
                  <a:pt x="7863" y="5085"/>
                </a:cubicBezTo>
                <a:cubicBezTo>
                  <a:pt x="8079" y="5082"/>
                  <a:pt x="8316" y="5076"/>
                  <a:pt x="8533" y="5060"/>
                </a:cubicBezTo>
                <a:cubicBezTo>
                  <a:pt x="8765" y="5043"/>
                  <a:pt x="8995" y="5026"/>
                  <a:pt x="9227" y="5011"/>
                </a:cubicBezTo>
                <a:cubicBezTo>
                  <a:pt x="9434" y="4998"/>
                  <a:pt x="9637" y="4986"/>
                  <a:pt x="9847" y="4986"/>
                </a:cubicBezTo>
                <a:cubicBezTo>
                  <a:pt x="10360" y="4986"/>
                  <a:pt x="10875" y="4989"/>
                  <a:pt x="11385" y="5011"/>
                </a:cubicBezTo>
                <a:cubicBezTo>
                  <a:pt x="12063" y="5040"/>
                  <a:pt x="12742" y="5051"/>
                  <a:pt x="13419" y="5085"/>
                </a:cubicBezTo>
                <a:cubicBezTo>
                  <a:pt x="14003" y="5114"/>
                  <a:pt x="14595" y="5085"/>
                  <a:pt x="15180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87720" y="2633760"/>
            <a:ext cx="3911400" cy="241200"/>
          </a:xfrm>
          <a:custGeom>
            <a:avLst/>
            <a:gdLst/>
            <a:ahLst/>
            <a:rect l="l" t="t" r="r" b="b"/>
            <a:pathLst>
              <a:path w="10866" h="671">
                <a:moveTo>
                  <a:pt x="6077" y="7417"/>
                </a:moveTo>
                <a:cubicBezTo>
                  <a:pt x="7109" y="7417"/>
                  <a:pt x="8124" y="7355"/>
                  <a:pt x="9153" y="7317"/>
                </a:cubicBezTo>
                <a:cubicBezTo>
                  <a:pt x="9512" y="7304"/>
                  <a:pt x="9913" y="7315"/>
                  <a:pt x="10269" y="7367"/>
                </a:cubicBezTo>
                <a:cubicBezTo>
                  <a:pt x="10674" y="7427"/>
                  <a:pt x="11082" y="7486"/>
                  <a:pt x="11485" y="7565"/>
                </a:cubicBezTo>
                <a:cubicBezTo>
                  <a:pt x="11831" y="7633"/>
                  <a:pt x="12178" y="7687"/>
                  <a:pt x="12526" y="7739"/>
                </a:cubicBezTo>
                <a:cubicBezTo>
                  <a:pt x="13245" y="7847"/>
                  <a:pt x="13984" y="7902"/>
                  <a:pt x="14709" y="7938"/>
                </a:cubicBezTo>
                <a:cubicBezTo>
                  <a:pt x="15015" y="7953"/>
                  <a:pt x="15320" y="8003"/>
                  <a:pt x="15627" y="7987"/>
                </a:cubicBezTo>
                <a:cubicBezTo>
                  <a:pt x="15903" y="7973"/>
                  <a:pt x="16174" y="7943"/>
                  <a:pt x="16446" y="7913"/>
                </a:cubicBezTo>
                <a:cubicBezTo>
                  <a:pt x="16515" y="7905"/>
                  <a:pt x="16610" y="7890"/>
                  <a:pt x="16694" y="7888"/>
                </a:cubicBezTo>
                <a:cubicBezTo>
                  <a:pt x="16785" y="7885"/>
                  <a:pt x="16826" y="7888"/>
                  <a:pt x="16917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9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Objective:  Students will solve 2-step equations.</a:t>
            </a:r>
            <a:br>
              <a:rPr sz="2800"/>
            </a:b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6840" y="838080"/>
          <a:ext cx="23511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838080"/>
                    <a:ext cx="23511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219320" y="1981080"/>
          <a:ext cx="17524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17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66680" y="3657600"/>
          <a:ext cx="228600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657600"/>
                    <a:ext cx="2286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143000" y="4800600"/>
          <a:ext cx="1676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00600"/>
                    <a:ext cx="1676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28760" y="776160"/>
            <a:ext cx="581040" cy="608040"/>
          </a:xfrm>
          <a:custGeom>
            <a:avLst/>
            <a:gdLst/>
            <a:ahLst/>
            <a:rect l="l" t="t" r="r" b="b"/>
            <a:pathLst>
              <a:path w="1613" h="1688">
                <a:moveTo>
                  <a:pt x="2778" y="2505"/>
                </a:moveTo>
                <a:cubicBezTo>
                  <a:pt x="2790" y="2470"/>
                  <a:pt x="2809" y="2483"/>
                  <a:pt x="2803" y="2431"/>
                </a:cubicBezTo>
                <a:cubicBezTo>
                  <a:pt x="2796" y="2376"/>
                  <a:pt x="2695" y="2334"/>
                  <a:pt x="2654" y="2307"/>
                </a:cubicBezTo>
                <a:cubicBezTo>
                  <a:pt x="2543" y="2235"/>
                  <a:pt x="2457" y="2231"/>
                  <a:pt x="2332" y="2208"/>
                </a:cubicBezTo>
                <a:cubicBezTo>
                  <a:pt x="2221" y="2188"/>
                  <a:pt x="2100" y="2129"/>
                  <a:pt x="1984" y="2158"/>
                </a:cubicBezTo>
                <a:cubicBezTo>
                  <a:pt x="1889" y="2182"/>
                  <a:pt x="1803" y="2187"/>
                  <a:pt x="1712" y="2232"/>
                </a:cubicBezTo>
                <a:cubicBezTo>
                  <a:pt x="1631" y="2272"/>
                  <a:pt x="1554" y="2296"/>
                  <a:pt x="1488" y="2356"/>
                </a:cubicBezTo>
                <a:cubicBezTo>
                  <a:pt x="1397" y="2438"/>
                  <a:pt x="1315" y="2480"/>
                  <a:pt x="1240" y="2580"/>
                </a:cubicBezTo>
                <a:cubicBezTo>
                  <a:pt x="1163" y="2683"/>
                  <a:pt x="1191" y="2801"/>
                  <a:pt x="1191" y="2927"/>
                </a:cubicBezTo>
                <a:cubicBezTo>
                  <a:pt x="1191" y="3059"/>
                  <a:pt x="1182" y="3200"/>
                  <a:pt x="1240" y="3324"/>
                </a:cubicBezTo>
                <a:cubicBezTo>
                  <a:pt x="1285" y="3419"/>
                  <a:pt x="1349" y="3538"/>
                  <a:pt x="1414" y="3621"/>
                </a:cubicBezTo>
                <a:cubicBezTo>
                  <a:pt x="1470" y="3692"/>
                  <a:pt x="1555" y="3757"/>
                  <a:pt x="1637" y="3795"/>
                </a:cubicBezTo>
                <a:cubicBezTo>
                  <a:pt x="1793" y="3867"/>
                  <a:pt x="1905" y="3839"/>
                  <a:pt x="2059" y="3795"/>
                </a:cubicBezTo>
                <a:cubicBezTo>
                  <a:pt x="2228" y="3747"/>
                  <a:pt x="2348" y="3690"/>
                  <a:pt x="2480" y="3572"/>
                </a:cubicBezTo>
                <a:cubicBezTo>
                  <a:pt x="2548" y="3512"/>
                  <a:pt x="2638" y="3406"/>
                  <a:pt x="2679" y="3324"/>
                </a:cubicBezTo>
                <a:cubicBezTo>
                  <a:pt x="2709" y="3264"/>
                  <a:pt x="2745" y="3166"/>
                  <a:pt x="2753" y="3101"/>
                </a:cubicBezTo>
                <a:cubicBezTo>
                  <a:pt x="2766" y="2994"/>
                  <a:pt x="2752" y="2881"/>
                  <a:pt x="2729" y="2778"/>
                </a:cubicBezTo>
                <a:cubicBezTo>
                  <a:pt x="2716" y="2722"/>
                  <a:pt x="2683" y="2580"/>
                  <a:pt x="2679" y="2555"/>
                </a:cubicBezTo>
                <a:cubicBezTo>
                  <a:pt x="2670" y="2503"/>
                  <a:pt x="2692" y="2504"/>
                  <a:pt x="2654" y="2480"/>
                </a:cubicBezTo>
                <a:cubicBezTo>
                  <a:pt x="2646" y="2480"/>
                  <a:pt x="2637" y="2480"/>
                  <a:pt x="2629" y="24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5760" y="1276200"/>
            <a:ext cx="490320" cy="349560"/>
          </a:xfrm>
          <a:custGeom>
            <a:avLst/>
            <a:gdLst/>
            <a:ahLst/>
            <a:rect l="l" t="t" r="r" b="b"/>
            <a:pathLst>
              <a:path w="1366" h="968">
                <a:moveTo>
                  <a:pt x="4514" y="4167"/>
                </a:moveTo>
                <a:cubicBezTo>
                  <a:pt x="4600" y="4124"/>
                  <a:pt x="4699" y="4133"/>
                  <a:pt x="4787" y="4142"/>
                </a:cubicBezTo>
                <a:cubicBezTo>
                  <a:pt x="4958" y="4159"/>
                  <a:pt x="5134" y="4179"/>
                  <a:pt x="5259" y="4068"/>
                </a:cubicBezTo>
              </a:path>
              <a:path w="1366" h="968">
                <a:moveTo>
                  <a:pt x="5854" y="3597"/>
                </a:moveTo>
                <a:cubicBezTo>
                  <a:pt x="5786" y="3583"/>
                  <a:pt x="5790" y="3550"/>
                  <a:pt x="5730" y="3547"/>
                </a:cubicBezTo>
                <a:cubicBezTo>
                  <a:pt x="5618" y="3542"/>
                  <a:pt x="5505" y="3585"/>
                  <a:pt x="5457" y="3696"/>
                </a:cubicBezTo>
                <a:cubicBezTo>
                  <a:pt x="5432" y="3756"/>
                  <a:pt x="5431" y="3859"/>
                  <a:pt x="5457" y="3919"/>
                </a:cubicBezTo>
                <a:cubicBezTo>
                  <a:pt x="5470" y="3949"/>
                  <a:pt x="5555" y="4013"/>
                  <a:pt x="5581" y="4018"/>
                </a:cubicBezTo>
                <a:cubicBezTo>
                  <a:pt x="5656" y="4033"/>
                  <a:pt x="5792" y="3961"/>
                  <a:pt x="5829" y="3894"/>
                </a:cubicBezTo>
                <a:cubicBezTo>
                  <a:pt x="5857" y="3844"/>
                  <a:pt x="5879" y="3779"/>
                  <a:pt x="5879" y="3721"/>
                </a:cubicBezTo>
                <a:cubicBezTo>
                  <a:pt x="5864" y="3827"/>
                  <a:pt x="5838" y="3937"/>
                  <a:pt x="5829" y="4043"/>
                </a:cubicBezTo>
                <a:cubicBezTo>
                  <a:pt x="5819" y="4157"/>
                  <a:pt x="5847" y="4255"/>
                  <a:pt x="5854" y="4366"/>
                </a:cubicBezTo>
                <a:cubicBezTo>
                  <a:pt x="5854" y="4372"/>
                  <a:pt x="5851" y="4549"/>
                  <a:pt x="5879" y="4514"/>
                </a:cubicBezTo>
                <a:cubicBezTo>
                  <a:pt x="5879" y="4506"/>
                  <a:pt x="5879" y="4498"/>
                  <a:pt x="5879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5840" y="1303200"/>
            <a:ext cx="527040" cy="331920"/>
          </a:xfrm>
          <a:custGeom>
            <a:avLst/>
            <a:gdLst/>
            <a:ahLst/>
            <a:rect l="l" t="t" r="r" b="b"/>
            <a:pathLst>
              <a:path w="1464" h="919">
                <a:moveTo>
                  <a:pt x="7293" y="4118"/>
                </a:moveTo>
                <a:cubicBezTo>
                  <a:pt x="7476" y="4118"/>
                  <a:pt x="7663" y="4106"/>
                  <a:pt x="7838" y="4142"/>
                </a:cubicBezTo>
                <a:cubicBezTo>
                  <a:pt x="7902" y="4155"/>
                  <a:pt x="7895" y="4123"/>
                  <a:pt x="7938" y="4068"/>
                </a:cubicBezTo>
              </a:path>
              <a:path w="1464" h="919">
                <a:moveTo>
                  <a:pt x="8756" y="3770"/>
                </a:moveTo>
                <a:cubicBezTo>
                  <a:pt x="8704" y="3720"/>
                  <a:pt x="8684" y="3700"/>
                  <a:pt x="8632" y="3671"/>
                </a:cubicBezTo>
                <a:cubicBezTo>
                  <a:pt x="8500" y="3598"/>
                  <a:pt x="8421" y="3621"/>
                  <a:pt x="8285" y="3696"/>
                </a:cubicBezTo>
                <a:cubicBezTo>
                  <a:pt x="8185" y="3751"/>
                  <a:pt x="8137" y="3829"/>
                  <a:pt x="8161" y="3944"/>
                </a:cubicBezTo>
                <a:cubicBezTo>
                  <a:pt x="8178" y="4027"/>
                  <a:pt x="8263" y="4123"/>
                  <a:pt x="8359" y="4118"/>
                </a:cubicBezTo>
                <a:cubicBezTo>
                  <a:pt x="8468" y="4113"/>
                  <a:pt x="8533" y="3982"/>
                  <a:pt x="8582" y="3919"/>
                </a:cubicBezTo>
                <a:cubicBezTo>
                  <a:pt x="8608" y="3885"/>
                  <a:pt x="8651" y="3851"/>
                  <a:pt x="8682" y="3820"/>
                </a:cubicBezTo>
                <a:cubicBezTo>
                  <a:pt x="8671" y="3979"/>
                  <a:pt x="8665" y="4109"/>
                  <a:pt x="8682" y="4266"/>
                </a:cubicBezTo>
                <a:cubicBezTo>
                  <a:pt x="8689" y="4327"/>
                  <a:pt x="8703" y="4380"/>
                  <a:pt x="8706" y="4440"/>
                </a:cubicBezTo>
                <a:cubicBezTo>
                  <a:pt x="8706" y="4492"/>
                  <a:pt x="8707" y="4510"/>
                  <a:pt x="8731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27720" y="1625760"/>
            <a:ext cx="731520" cy="2761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2576" y="4936"/>
                </a:moveTo>
                <a:cubicBezTo>
                  <a:pt x="12658" y="4936"/>
                  <a:pt x="12721" y="4919"/>
                  <a:pt x="12799" y="4911"/>
                </a:cubicBezTo>
                <a:cubicBezTo>
                  <a:pt x="12899" y="4911"/>
                  <a:pt x="12934" y="4911"/>
                  <a:pt x="12998" y="4887"/>
                </a:cubicBezTo>
              </a:path>
              <a:path w="2035" h="770">
                <a:moveTo>
                  <a:pt x="13221" y="4614"/>
                </a:moveTo>
                <a:cubicBezTo>
                  <a:pt x="13381" y="4585"/>
                  <a:pt x="13523" y="4570"/>
                  <a:pt x="13643" y="4713"/>
                </a:cubicBezTo>
                <a:cubicBezTo>
                  <a:pt x="13737" y="4825"/>
                  <a:pt x="13767" y="4974"/>
                  <a:pt x="13717" y="5110"/>
                </a:cubicBezTo>
                <a:cubicBezTo>
                  <a:pt x="13668" y="5243"/>
                  <a:pt x="13557" y="5314"/>
                  <a:pt x="13419" y="5259"/>
                </a:cubicBezTo>
                <a:cubicBezTo>
                  <a:pt x="13339" y="5227"/>
                  <a:pt x="13348" y="5199"/>
                  <a:pt x="13320" y="5135"/>
                </a:cubicBezTo>
                <a:cubicBezTo>
                  <a:pt x="13410" y="5030"/>
                  <a:pt x="13465" y="5075"/>
                  <a:pt x="13593" y="5110"/>
                </a:cubicBezTo>
                <a:cubicBezTo>
                  <a:pt x="13711" y="5143"/>
                  <a:pt x="13699" y="5162"/>
                  <a:pt x="13791" y="5209"/>
                </a:cubicBezTo>
                <a:cubicBezTo>
                  <a:pt x="13799" y="5209"/>
                  <a:pt x="13808" y="5209"/>
                  <a:pt x="13816" y="5209"/>
                </a:cubicBezTo>
              </a:path>
              <a:path w="2035" h="770">
                <a:moveTo>
                  <a:pt x="14188" y="4514"/>
                </a:moveTo>
                <a:cubicBezTo>
                  <a:pt x="14162" y="4593"/>
                  <a:pt x="14107" y="4683"/>
                  <a:pt x="14089" y="4762"/>
                </a:cubicBezTo>
                <a:cubicBezTo>
                  <a:pt x="14073" y="4831"/>
                  <a:pt x="14052" y="4858"/>
                  <a:pt x="14139" y="4887"/>
                </a:cubicBezTo>
                <a:cubicBezTo>
                  <a:pt x="14268" y="4929"/>
                  <a:pt x="14318" y="4896"/>
                  <a:pt x="14436" y="4862"/>
                </a:cubicBezTo>
                <a:cubicBezTo>
                  <a:pt x="14444" y="4862"/>
                  <a:pt x="14453" y="4862"/>
                  <a:pt x="14461" y="4862"/>
                </a:cubicBezTo>
              </a:path>
              <a:path w="2035" h="770">
                <a:moveTo>
                  <a:pt x="14610" y="4539"/>
                </a:moveTo>
                <a:cubicBezTo>
                  <a:pt x="14610" y="4470"/>
                  <a:pt x="14575" y="4620"/>
                  <a:pt x="14560" y="4688"/>
                </a:cubicBezTo>
                <a:cubicBezTo>
                  <a:pt x="14530" y="4818"/>
                  <a:pt x="14500" y="4955"/>
                  <a:pt x="14486" y="5085"/>
                </a:cubicBezTo>
                <a:cubicBezTo>
                  <a:pt x="14478" y="5154"/>
                  <a:pt x="14461" y="5190"/>
                  <a:pt x="14461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8000" y="919080"/>
            <a:ext cx="330120" cy="366840"/>
          </a:xfrm>
          <a:custGeom>
            <a:avLst/>
            <a:gdLst/>
            <a:ahLst/>
            <a:rect l="l" t="t" r="r" b="b"/>
            <a:pathLst>
              <a:path w="918" h="1018">
                <a:moveTo>
                  <a:pt x="670" y="3225"/>
                </a:moveTo>
                <a:cubicBezTo>
                  <a:pt x="659" y="3219"/>
                  <a:pt x="677" y="3108"/>
                  <a:pt x="695" y="2977"/>
                </a:cubicBezTo>
                <a:cubicBezTo>
                  <a:pt x="714" y="2836"/>
                  <a:pt x="734" y="2696"/>
                  <a:pt x="744" y="2555"/>
                </a:cubicBezTo>
                <a:cubicBezTo>
                  <a:pt x="840" y="2650"/>
                  <a:pt x="885" y="2831"/>
                  <a:pt x="943" y="2952"/>
                </a:cubicBezTo>
                <a:cubicBezTo>
                  <a:pt x="963" y="2994"/>
                  <a:pt x="1101" y="3175"/>
                  <a:pt x="1042" y="3200"/>
                </a:cubicBezTo>
                <a:cubicBezTo>
                  <a:pt x="903" y="3259"/>
                  <a:pt x="758" y="3196"/>
                  <a:pt x="620" y="3175"/>
                </a:cubicBezTo>
                <a:cubicBezTo>
                  <a:pt x="612" y="3175"/>
                  <a:pt x="603" y="3175"/>
                  <a:pt x="595" y="3175"/>
                </a:cubicBezTo>
                <a:cubicBezTo>
                  <a:pt x="702" y="3087"/>
                  <a:pt x="828" y="3030"/>
                  <a:pt x="943" y="2952"/>
                </a:cubicBezTo>
                <a:cubicBezTo>
                  <a:pt x="989" y="2921"/>
                  <a:pt x="1105" y="2813"/>
                  <a:pt x="1116" y="2778"/>
                </a:cubicBezTo>
                <a:cubicBezTo>
                  <a:pt x="1142" y="2694"/>
                  <a:pt x="1139" y="2662"/>
                  <a:pt x="1191" y="2580"/>
                </a:cubicBezTo>
                <a:cubicBezTo>
                  <a:pt x="1256" y="2579"/>
                  <a:pt x="1152" y="2668"/>
                  <a:pt x="1116" y="2753"/>
                </a:cubicBezTo>
                <a:cubicBezTo>
                  <a:pt x="1035" y="2945"/>
                  <a:pt x="971" y="3154"/>
                  <a:pt x="843" y="3324"/>
                </a:cubicBezTo>
                <a:cubicBezTo>
                  <a:pt x="769" y="3422"/>
                  <a:pt x="661" y="3492"/>
                  <a:pt x="571" y="3572"/>
                </a:cubicBezTo>
                <a:cubicBezTo>
                  <a:pt x="496" y="3522"/>
                  <a:pt x="549" y="3509"/>
                  <a:pt x="496" y="3398"/>
                </a:cubicBezTo>
                <a:cubicBezTo>
                  <a:pt x="457" y="3316"/>
                  <a:pt x="398" y="3250"/>
                  <a:pt x="347" y="3175"/>
                </a:cubicBezTo>
                <a:cubicBezTo>
                  <a:pt x="325" y="3132"/>
                  <a:pt x="322" y="3120"/>
                  <a:pt x="298" y="3101"/>
                </a:cubicBezTo>
                <a:cubicBezTo>
                  <a:pt x="450" y="3011"/>
                  <a:pt x="564" y="3012"/>
                  <a:pt x="695" y="2877"/>
                </a:cubicBezTo>
                <a:cubicBezTo>
                  <a:pt x="757" y="2813"/>
                  <a:pt x="833" y="2698"/>
                  <a:pt x="893" y="2654"/>
                </a:cubicBezTo>
                <a:cubicBezTo>
                  <a:pt x="942" y="2618"/>
                  <a:pt x="1011" y="2594"/>
                  <a:pt x="1067" y="2580"/>
                </a:cubicBezTo>
                <a:cubicBezTo>
                  <a:pt x="1075" y="2580"/>
                  <a:pt x="1083" y="2580"/>
                  <a:pt x="1091" y="25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000" y="1812960"/>
            <a:ext cx="392040" cy="428760"/>
          </a:xfrm>
          <a:custGeom>
            <a:avLst/>
            <a:gdLst/>
            <a:ahLst/>
            <a:rect l="l" t="t" r="r" b="b"/>
            <a:pathLst>
              <a:path w="1092" h="1192">
                <a:moveTo>
                  <a:pt x="422" y="5978"/>
                </a:moveTo>
                <a:cubicBezTo>
                  <a:pt x="489" y="5843"/>
                  <a:pt x="581" y="5702"/>
                  <a:pt x="620" y="5556"/>
                </a:cubicBezTo>
                <a:cubicBezTo>
                  <a:pt x="660" y="5406"/>
                  <a:pt x="686" y="5255"/>
                  <a:pt x="744" y="5110"/>
                </a:cubicBezTo>
                <a:cubicBezTo>
                  <a:pt x="809" y="5188"/>
                  <a:pt x="874" y="5339"/>
                  <a:pt x="943" y="5432"/>
                </a:cubicBezTo>
                <a:cubicBezTo>
                  <a:pt x="1011" y="5523"/>
                  <a:pt x="1094" y="5616"/>
                  <a:pt x="1166" y="5705"/>
                </a:cubicBezTo>
                <a:cubicBezTo>
                  <a:pt x="1014" y="5698"/>
                  <a:pt x="891" y="5682"/>
                  <a:pt x="744" y="5631"/>
                </a:cubicBezTo>
                <a:cubicBezTo>
                  <a:pt x="593" y="5579"/>
                  <a:pt x="451" y="5526"/>
                  <a:pt x="298" y="5482"/>
                </a:cubicBezTo>
                <a:cubicBezTo>
                  <a:pt x="244" y="5466"/>
                  <a:pt x="194" y="5459"/>
                  <a:pt x="149" y="5432"/>
                </a:cubicBezTo>
                <a:cubicBezTo>
                  <a:pt x="297" y="5354"/>
                  <a:pt x="478" y="5294"/>
                  <a:pt x="645" y="5234"/>
                </a:cubicBezTo>
                <a:cubicBezTo>
                  <a:pt x="779" y="5186"/>
                  <a:pt x="968" y="5140"/>
                  <a:pt x="1091" y="5060"/>
                </a:cubicBezTo>
                <a:cubicBezTo>
                  <a:pt x="1156" y="5018"/>
                  <a:pt x="1140" y="5067"/>
                  <a:pt x="1191" y="5060"/>
                </a:cubicBezTo>
                <a:cubicBezTo>
                  <a:pt x="1207" y="5052"/>
                  <a:pt x="1224" y="5043"/>
                  <a:pt x="1240" y="5035"/>
                </a:cubicBezTo>
                <a:cubicBezTo>
                  <a:pt x="1171" y="5154"/>
                  <a:pt x="1076" y="5266"/>
                  <a:pt x="992" y="5383"/>
                </a:cubicBezTo>
                <a:cubicBezTo>
                  <a:pt x="874" y="5546"/>
                  <a:pt x="751" y="5708"/>
                  <a:pt x="645" y="5879"/>
                </a:cubicBezTo>
                <a:cubicBezTo>
                  <a:pt x="575" y="5992"/>
                  <a:pt x="527" y="6115"/>
                  <a:pt x="471" y="6226"/>
                </a:cubicBezTo>
                <a:cubicBezTo>
                  <a:pt x="460" y="6248"/>
                  <a:pt x="449" y="6121"/>
                  <a:pt x="446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2240" y="1062000"/>
            <a:ext cx="1233720" cy="366840"/>
          </a:xfrm>
          <a:custGeom>
            <a:avLst/>
            <a:gdLst/>
            <a:ahLst/>
            <a:rect l="l" t="t" r="r" b="b"/>
            <a:pathLst>
              <a:path w="3424" h="1018">
                <a:moveTo>
                  <a:pt x="11286" y="3448"/>
                </a:moveTo>
                <a:cubicBezTo>
                  <a:pt x="11391" y="3448"/>
                  <a:pt x="11479" y="3446"/>
                  <a:pt x="11584" y="3423"/>
                </a:cubicBezTo>
                <a:cubicBezTo>
                  <a:pt x="11666" y="3405"/>
                  <a:pt x="11724" y="3398"/>
                  <a:pt x="11807" y="3398"/>
                </a:cubicBezTo>
              </a:path>
              <a:path w="3424" h="1018">
                <a:moveTo>
                  <a:pt x="12378" y="3076"/>
                </a:moveTo>
                <a:cubicBezTo>
                  <a:pt x="12309" y="3127"/>
                  <a:pt x="12285" y="3304"/>
                  <a:pt x="12278" y="3398"/>
                </a:cubicBezTo>
                <a:cubicBezTo>
                  <a:pt x="12269" y="3523"/>
                  <a:pt x="12263" y="3645"/>
                  <a:pt x="12254" y="3770"/>
                </a:cubicBezTo>
              </a:path>
              <a:path w="3424" h="1018">
                <a:moveTo>
                  <a:pt x="12626" y="3175"/>
                </a:moveTo>
                <a:cubicBezTo>
                  <a:pt x="12602" y="3247"/>
                  <a:pt x="12561" y="3295"/>
                  <a:pt x="12551" y="3373"/>
                </a:cubicBezTo>
                <a:cubicBezTo>
                  <a:pt x="12647" y="3373"/>
                  <a:pt x="12800" y="3343"/>
                  <a:pt x="12874" y="3398"/>
                </a:cubicBezTo>
                <a:cubicBezTo>
                  <a:pt x="12948" y="3453"/>
                  <a:pt x="12945" y="3509"/>
                  <a:pt x="12948" y="3597"/>
                </a:cubicBezTo>
                <a:cubicBezTo>
                  <a:pt x="12950" y="3654"/>
                  <a:pt x="12955" y="3775"/>
                  <a:pt x="12874" y="3795"/>
                </a:cubicBezTo>
                <a:cubicBezTo>
                  <a:pt x="12790" y="3816"/>
                  <a:pt x="12665" y="3795"/>
                  <a:pt x="12576" y="3795"/>
                </a:cubicBezTo>
              </a:path>
              <a:path w="3424" h="1018">
                <a:moveTo>
                  <a:pt x="12626" y="3274"/>
                </a:moveTo>
                <a:cubicBezTo>
                  <a:pt x="12698" y="3255"/>
                  <a:pt x="12765" y="3229"/>
                  <a:pt x="12849" y="3225"/>
                </a:cubicBezTo>
                <a:cubicBezTo>
                  <a:pt x="12906" y="3222"/>
                  <a:pt x="12965" y="3225"/>
                  <a:pt x="13022" y="3225"/>
                </a:cubicBezTo>
              </a:path>
              <a:path w="3424" h="1018">
                <a:moveTo>
                  <a:pt x="13395" y="3522"/>
                </a:moveTo>
                <a:cubicBezTo>
                  <a:pt x="13521" y="3522"/>
                  <a:pt x="13647" y="3507"/>
                  <a:pt x="13767" y="3547"/>
                </a:cubicBezTo>
                <a:cubicBezTo>
                  <a:pt x="13829" y="3568"/>
                  <a:pt x="13896" y="3587"/>
                  <a:pt x="13965" y="3572"/>
                </a:cubicBezTo>
                <a:cubicBezTo>
                  <a:pt x="14047" y="3544"/>
                  <a:pt x="14080" y="3534"/>
                  <a:pt x="14139" y="3522"/>
                </a:cubicBezTo>
              </a:path>
              <a:path w="3424" h="1018">
                <a:moveTo>
                  <a:pt x="14709" y="3349"/>
                </a:moveTo>
                <a:cubicBezTo>
                  <a:pt x="14694" y="3275"/>
                  <a:pt x="14662" y="3272"/>
                  <a:pt x="14610" y="3225"/>
                </a:cubicBezTo>
                <a:cubicBezTo>
                  <a:pt x="14522" y="3147"/>
                  <a:pt x="14478" y="3136"/>
                  <a:pt x="14362" y="3101"/>
                </a:cubicBezTo>
                <a:cubicBezTo>
                  <a:pt x="14301" y="3083"/>
                  <a:pt x="14291" y="3076"/>
                  <a:pt x="14238" y="3076"/>
                </a:cubicBezTo>
                <a:cubicBezTo>
                  <a:pt x="14225" y="3097"/>
                  <a:pt x="14161" y="3198"/>
                  <a:pt x="14163" y="3225"/>
                </a:cubicBezTo>
                <a:cubicBezTo>
                  <a:pt x="14169" y="3325"/>
                  <a:pt x="14259" y="3320"/>
                  <a:pt x="14337" y="3324"/>
                </a:cubicBezTo>
                <a:cubicBezTo>
                  <a:pt x="14401" y="3327"/>
                  <a:pt x="14483" y="3326"/>
                  <a:pt x="14536" y="3299"/>
                </a:cubicBezTo>
                <a:cubicBezTo>
                  <a:pt x="14555" y="3290"/>
                  <a:pt x="14653" y="3236"/>
                  <a:pt x="14660" y="3225"/>
                </a:cubicBezTo>
                <a:cubicBezTo>
                  <a:pt x="14660" y="3200"/>
                  <a:pt x="14660" y="3192"/>
                  <a:pt x="14684" y="3200"/>
                </a:cubicBezTo>
                <a:cubicBezTo>
                  <a:pt x="14675" y="3279"/>
                  <a:pt x="14638" y="3346"/>
                  <a:pt x="14635" y="3423"/>
                </a:cubicBezTo>
                <a:cubicBezTo>
                  <a:pt x="14631" y="3525"/>
                  <a:pt x="14610" y="3616"/>
                  <a:pt x="14610" y="3721"/>
                </a:cubicBezTo>
                <a:cubicBezTo>
                  <a:pt x="14610" y="3779"/>
                  <a:pt x="14598" y="3815"/>
                  <a:pt x="14585" y="3870"/>
                </a:cubicBezTo>
                <a:cubicBezTo>
                  <a:pt x="14585" y="3894"/>
                  <a:pt x="14585" y="3902"/>
                  <a:pt x="14610" y="3894"/>
                </a:cubicBezTo>
              </a:path>
              <a:path w="3424" h="1018">
                <a:moveTo>
                  <a:pt x="13643" y="3125"/>
                </a:moveTo>
                <a:cubicBezTo>
                  <a:pt x="13643" y="3155"/>
                  <a:pt x="13650" y="3192"/>
                  <a:pt x="13667" y="3200"/>
                </a:cubicBezTo>
                <a:cubicBezTo>
                  <a:pt x="13732" y="3233"/>
                  <a:pt x="13651" y="3329"/>
                  <a:pt x="13643" y="3398"/>
                </a:cubicBezTo>
                <a:cubicBezTo>
                  <a:pt x="13630" y="3508"/>
                  <a:pt x="13598" y="3611"/>
                  <a:pt x="13593" y="3721"/>
                </a:cubicBezTo>
                <a:cubicBezTo>
                  <a:pt x="13590" y="3787"/>
                  <a:pt x="13579" y="3841"/>
                  <a:pt x="13568" y="3894"/>
                </a:cubicBezTo>
                <a:cubicBezTo>
                  <a:pt x="13568" y="3939"/>
                  <a:pt x="13571" y="3952"/>
                  <a:pt x="13543" y="3969"/>
                </a:cubicBezTo>
              </a:path>
              <a:path w="3424" h="1018">
                <a:moveTo>
                  <a:pt x="13643" y="2952"/>
                </a:moveTo>
                <a:cubicBezTo>
                  <a:pt x="13800" y="2952"/>
                  <a:pt x="13957" y="2952"/>
                  <a:pt x="14114" y="2952"/>
                </a:cubicBezTo>
                <a:cubicBezTo>
                  <a:pt x="14136" y="2986"/>
                  <a:pt x="14162" y="2977"/>
                  <a:pt x="14213" y="2977"/>
                </a:cubicBezTo>
                <a:cubicBezTo>
                  <a:pt x="14188" y="2977"/>
                  <a:pt x="14180" y="2977"/>
                  <a:pt x="14163" y="29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5760" y="1973160"/>
            <a:ext cx="482400" cy="492120"/>
          </a:xfrm>
          <a:custGeom>
            <a:avLst/>
            <a:gdLst/>
            <a:ahLst/>
            <a:rect l="l" t="t" r="r" b="b"/>
            <a:pathLst>
              <a:path w="1340" h="1365">
                <a:moveTo>
                  <a:pt x="2307" y="5655"/>
                </a:moveTo>
                <a:cubicBezTo>
                  <a:pt x="2292" y="5595"/>
                  <a:pt x="2338" y="5587"/>
                  <a:pt x="2257" y="5556"/>
                </a:cubicBezTo>
                <a:cubicBezTo>
                  <a:pt x="2093" y="5493"/>
                  <a:pt x="1931" y="5485"/>
                  <a:pt x="1761" y="5507"/>
                </a:cubicBezTo>
                <a:cubicBezTo>
                  <a:pt x="1566" y="5532"/>
                  <a:pt x="1584" y="5530"/>
                  <a:pt x="1488" y="5655"/>
                </a:cubicBezTo>
                <a:cubicBezTo>
                  <a:pt x="1403" y="5766"/>
                  <a:pt x="1324" y="5867"/>
                  <a:pt x="1290" y="6003"/>
                </a:cubicBezTo>
                <a:cubicBezTo>
                  <a:pt x="1256" y="6137"/>
                  <a:pt x="1252" y="6268"/>
                  <a:pt x="1290" y="6400"/>
                </a:cubicBezTo>
                <a:cubicBezTo>
                  <a:pt x="1333" y="6549"/>
                  <a:pt x="1404" y="6601"/>
                  <a:pt x="1513" y="6697"/>
                </a:cubicBezTo>
                <a:cubicBezTo>
                  <a:pt x="1604" y="6778"/>
                  <a:pt x="1688" y="6837"/>
                  <a:pt x="1811" y="6846"/>
                </a:cubicBezTo>
                <a:cubicBezTo>
                  <a:pt x="1931" y="6855"/>
                  <a:pt x="2021" y="6833"/>
                  <a:pt x="2133" y="6796"/>
                </a:cubicBezTo>
                <a:cubicBezTo>
                  <a:pt x="2237" y="6762"/>
                  <a:pt x="2321" y="6716"/>
                  <a:pt x="2406" y="6648"/>
                </a:cubicBezTo>
                <a:cubicBezTo>
                  <a:pt x="2476" y="6591"/>
                  <a:pt x="2515" y="6527"/>
                  <a:pt x="2555" y="6449"/>
                </a:cubicBezTo>
                <a:cubicBezTo>
                  <a:pt x="2583" y="6394"/>
                  <a:pt x="2601" y="6345"/>
                  <a:pt x="2604" y="6276"/>
                </a:cubicBezTo>
                <a:cubicBezTo>
                  <a:pt x="2607" y="6198"/>
                  <a:pt x="2583" y="6102"/>
                  <a:pt x="2555" y="6028"/>
                </a:cubicBezTo>
                <a:cubicBezTo>
                  <a:pt x="2531" y="5965"/>
                  <a:pt x="2477" y="5927"/>
                  <a:pt x="2431" y="5879"/>
                </a:cubicBezTo>
                <a:cubicBezTo>
                  <a:pt x="2374" y="5820"/>
                  <a:pt x="2326" y="5789"/>
                  <a:pt x="2307" y="5705"/>
                </a:cubicBezTo>
                <a:cubicBezTo>
                  <a:pt x="2307" y="5680"/>
                  <a:pt x="2307" y="5656"/>
                  <a:pt x="2307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1760" y="1847880"/>
            <a:ext cx="563400" cy="287280"/>
          </a:xfrm>
          <a:custGeom>
            <a:avLst/>
            <a:gdLst/>
            <a:ahLst/>
            <a:rect l="l" t="t" r="r" b="b"/>
            <a:pathLst>
              <a:path w="1564" h="794">
                <a:moveTo>
                  <a:pt x="7615" y="5680"/>
                </a:moveTo>
                <a:cubicBezTo>
                  <a:pt x="7719" y="5698"/>
                  <a:pt x="7828" y="5724"/>
                  <a:pt x="7938" y="5705"/>
                </a:cubicBezTo>
                <a:cubicBezTo>
                  <a:pt x="7981" y="5683"/>
                  <a:pt x="7993" y="5679"/>
                  <a:pt x="8012" y="5655"/>
                </a:cubicBezTo>
              </a:path>
              <a:path w="1564" h="794">
                <a:moveTo>
                  <a:pt x="8161" y="5283"/>
                </a:moveTo>
                <a:cubicBezTo>
                  <a:pt x="8281" y="5244"/>
                  <a:pt x="8362" y="5222"/>
                  <a:pt x="8483" y="5283"/>
                </a:cubicBezTo>
                <a:cubicBezTo>
                  <a:pt x="8604" y="5343"/>
                  <a:pt x="8660" y="5473"/>
                  <a:pt x="8657" y="5606"/>
                </a:cubicBezTo>
                <a:cubicBezTo>
                  <a:pt x="8654" y="5732"/>
                  <a:pt x="8596" y="5928"/>
                  <a:pt x="8434" y="5928"/>
                </a:cubicBezTo>
                <a:cubicBezTo>
                  <a:pt x="8329" y="5928"/>
                  <a:pt x="8269" y="5845"/>
                  <a:pt x="8260" y="5755"/>
                </a:cubicBezTo>
                <a:cubicBezTo>
                  <a:pt x="8251" y="5675"/>
                  <a:pt x="8332" y="5618"/>
                  <a:pt x="8409" y="5631"/>
                </a:cubicBezTo>
                <a:cubicBezTo>
                  <a:pt x="8489" y="5644"/>
                  <a:pt x="8589" y="5709"/>
                  <a:pt x="8657" y="5755"/>
                </a:cubicBezTo>
                <a:cubicBezTo>
                  <a:pt x="8711" y="5792"/>
                  <a:pt x="8757" y="5820"/>
                  <a:pt x="8781" y="5879"/>
                </a:cubicBezTo>
              </a:path>
              <a:path w="1564" h="794">
                <a:moveTo>
                  <a:pt x="8756" y="5159"/>
                </a:moveTo>
                <a:cubicBezTo>
                  <a:pt x="8756" y="5262"/>
                  <a:pt x="8750" y="5356"/>
                  <a:pt x="8781" y="5457"/>
                </a:cubicBezTo>
                <a:cubicBezTo>
                  <a:pt x="8805" y="5533"/>
                  <a:pt x="8858" y="5553"/>
                  <a:pt x="8930" y="5556"/>
                </a:cubicBezTo>
                <a:cubicBezTo>
                  <a:pt x="9059" y="5562"/>
                  <a:pt x="9111" y="5381"/>
                  <a:pt x="9178" y="5283"/>
                </a:cubicBezTo>
              </a:path>
              <a:path w="1564" h="794">
                <a:moveTo>
                  <a:pt x="9128" y="5135"/>
                </a:moveTo>
                <a:cubicBezTo>
                  <a:pt x="9058" y="5288"/>
                  <a:pt x="9077" y="5437"/>
                  <a:pt x="9054" y="5606"/>
                </a:cubicBezTo>
                <a:cubicBezTo>
                  <a:pt x="9038" y="5719"/>
                  <a:pt x="9035" y="5827"/>
                  <a:pt x="9079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81320" y="1901880"/>
            <a:ext cx="1017720" cy="349200"/>
          </a:xfrm>
          <a:custGeom>
            <a:avLst/>
            <a:gdLst/>
            <a:ahLst/>
            <a:rect l="l" t="t" r="r" b="b"/>
            <a:pathLst>
              <a:path w="2828" h="969">
                <a:moveTo>
                  <a:pt x="11782" y="5829"/>
                </a:moveTo>
                <a:cubicBezTo>
                  <a:pt x="11723" y="5789"/>
                  <a:pt x="11696" y="5743"/>
                  <a:pt x="11609" y="5730"/>
                </a:cubicBezTo>
                <a:cubicBezTo>
                  <a:pt x="11537" y="5719"/>
                  <a:pt x="11404" y="5731"/>
                  <a:pt x="11361" y="5804"/>
                </a:cubicBezTo>
                <a:cubicBezTo>
                  <a:pt x="11302" y="5905"/>
                  <a:pt x="11348" y="6013"/>
                  <a:pt x="11460" y="6028"/>
                </a:cubicBezTo>
                <a:cubicBezTo>
                  <a:pt x="11576" y="6044"/>
                  <a:pt x="11620" y="5991"/>
                  <a:pt x="11683" y="5904"/>
                </a:cubicBezTo>
                <a:cubicBezTo>
                  <a:pt x="11770" y="5783"/>
                  <a:pt x="11816" y="5605"/>
                  <a:pt x="11832" y="5457"/>
                </a:cubicBezTo>
                <a:cubicBezTo>
                  <a:pt x="11838" y="5402"/>
                  <a:pt x="11832" y="5339"/>
                  <a:pt x="11832" y="5283"/>
                </a:cubicBezTo>
                <a:cubicBezTo>
                  <a:pt x="11785" y="5434"/>
                  <a:pt x="11794" y="5527"/>
                  <a:pt x="11807" y="5680"/>
                </a:cubicBezTo>
                <a:cubicBezTo>
                  <a:pt x="11815" y="5778"/>
                  <a:pt x="11805" y="5864"/>
                  <a:pt x="11832" y="5953"/>
                </a:cubicBezTo>
                <a:cubicBezTo>
                  <a:pt x="11852" y="5994"/>
                  <a:pt x="11861" y="6000"/>
                  <a:pt x="11857" y="6028"/>
                </a:cubicBezTo>
              </a:path>
              <a:path w="2828" h="969">
                <a:moveTo>
                  <a:pt x="12154" y="5507"/>
                </a:moveTo>
                <a:cubicBezTo>
                  <a:pt x="12231" y="5481"/>
                  <a:pt x="12294" y="5482"/>
                  <a:pt x="12378" y="5482"/>
                </a:cubicBezTo>
                <a:cubicBezTo>
                  <a:pt x="12411" y="5482"/>
                  <a:pt x="12427" y="5482"/>
                  <a:pt x="12452" y="5482"/>
                </a:cubicBezTo>
              </a:path>
              <a:path w="2828" h="969">
                <a:moveTo>
                  <a:pt x="12154" y="5854"/>
                </a:moveTo>
                <a:cubicBezTo>
                  <a:pt x="12245" y="5854"/>
                  <a:pt x="12336" y="5854"/>
                  <a:pt x="12427" y="5854"/>
                </a:cubicBezTo>
              </a:path>
              <a:path w="2828" h="969">
                <a:moveTo>
                  <a:pt x="12923" y="5730"/>
                </a:moveTo>
                <a:cubicBezTo>
                  <a:pt x="12989" y="5705"/>
                  <a:pt x="13051" y="5686"/>
                  <a:pt x="13122" y="5680"/>
                </a:cubicBezTo>
                <a:cubicBezTo>
                  <a:pt x="13220" y="5672"/>
                  <a:pt x="13321" y="5680"/>
                  <a:pt x="13419" y="5680"/>
                </a:cubicBezTo>
              </a:path>
              <a:path w="2828" h="969">
                <a:moveTo>
                  <a:pt x="13767" y="5383"/>
                </a:moveTo>
                <a:cubicBezTo>
                  <a:pt x="13750" y="5465"/>
                  <a:pt x="13738" y="5547"/>
                  <a:pt x="13717" y="5631"/>
                </a:cubicBezTo>
                <a:cubicBezTo>
                  <a:pt x="13694" y="5727"/>
                  <a:pt x="13649" y="5775"/>
                  <a:pt x="13618" y="5854"/>
                </a:cubicBezTo>
                <a:cubicBezTo>
                  <a:pt x="13646" y="5897"/>
                  <a:pt x="13822" y="5921"/>
                  <a:pt x="13891" y="5928"/>
                </a:cubicBezTo>
                <a:cubicBezTo>
                  <a:pt x="13958" y="5935"/>
                  <a:pt x="14076" y="5911"/>
                  <a:pt x="14139" y="5879"/>
                </a:cubicBezTo>
                <a:cubicBezTo>
                  <a:pt x="14147" y="5871"/>
                  <a:pt x="14155" y="5862"/>
                  <a:pt x="14163" y="5854"/>
                </a:cubicBezTo>
              </a:path>
              <a:path w="2828" h="969">
                <a:moveTo>
                  <a:pt x="14139" y="5457"/>
                </a:moveTo>
                <a:cubicBezTo>
                  <a:pt x="14139" y="5601"/>
                  <a:pt x="14124" y="5737"/>
                  <a:pt x="14114" y="5879"/>
                </a:cubicBezTo>
                <a:cubicBezTo>
                  <a:pt x="14106" y="5989"/>
                  <a:pt x="14139" y="6090"/>
                  <a:pt x="14139" y="6201"/>
                </a:cubicBezTo>
                <a:cubicBezTo>
                  <a:pt x="14139" y="6226"/>
                  <a:pt x="14139" y="6234"/>
                  <a:pt x="14139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03680" y="2205000"/>
            <a:ext cx="598320" cy="304920"/>
          </a:xfrm>
          <a:custGeom>
            <a:avLst/>
            <a:gdLst/>
            <a:ahLst/>
            <a:rect l="l" t="t" r="r" b="b"/>
            <a:pathLst>
              <a:path w="1663" h="844">
                <a:moveTo>
                  <a:pt x="7789" y="6176"/>
                </a:moveTo>
                <a:cubicBezTo>
                  <a:pt x="7849" y="6185"/>
                  <a:pt x="7869" y="6198"/>
                  <a:pt x="7938" y="6201"/>
                </a:cubicBezTo>
                <a:cubicBezTo>
                  <a:pt x="8073" y="6206"/>
                  <a:pt x="8200" y="6180"/>
                  <a:pt x="8334" y="6176"/>
                </a:cubicBezTo>
                <a:cubicBezTo>
                  <a:pt x="8535" y="6171"/>
                  <a:pt x="8732" y="6168"/>
                  <a:pt x="8930" y="6152"/>
                </a:cubicBezTo>
                <a:cubicBezTo>
                  <a:pt x="9094" y="6138"/>
                  <a:pt x="9329" y="6173"/>
                  <a:pt x="9451" y="6127"/>
                </a:cubicBezTo>
              </a:path>
              <a:path w="1663" h="844">
                <a:moveTo>
                  <a:pt x="8731" y="6276"/>
                </a:moveTo>
                <a:cubicBezTo>
                  <a:pt x="8713" y="6347"/>
                  <a:pt x="8698" y="6421"/>
                  <a:pt x="8682" y="6499"/>
                </a:cubicBezTo>
                <a:cubicBezTo>
                  <a:pt x="8664" y="6590"/>
                  <a:pt x="8606" y="6674"/>
                  <a:pt x="8632" y="6772"/>
                </a:cubicBezTo>
                <a:cubicBezTo>
                  <a:pt x="8647" y="6827"/>
                  <a:pt x="8717" y="6902"/>
                  <a:pt x="8756" y="6921"/>
                </a:cubicBezTo>
                <a:cubicBezTo>
                  <a:pt x="8848" y="6965"/>
                  <a:pt x="8906" y="6861"/>
                  <a:pt x="8930" y="6772"/>
                </a:cubicBezTo>
                <a:cubicBezTo>
                  <a:pt x="8930" y="6730"/>
                  <a:pt x="8930" y="6722"/>
                  <a:pt x="8930" y="6697"/>
                </a:cubicBezTo>
                <a:cubicBezTo>
                  <a:pt x="8866" y="6705"/>
                  <a:pt x="8764" y="6726"/>
                  <a:pt x="8731" y="6796"/>
                </a:cubicBezTo>
                <a:cubicBezTo>
                  <a:pt x="8711" y="6839"/>
                  <a:pt x="8707" y="6909"/>
                  <a:pt x="8731" y="6945"/>
                </a:cubicBezTo>
                <a:cubicBezTo>
                  <a:pt x="8739" y="6953"/>
                  <a:pt x="8748" y="6962"/>
                  <a:pt x="8756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03200" y="2259000"/>
            <a:ext cx="4492800" cy="777960"/>
          </a:xfrm>
          <a:custGeom>
            <a:avLst/>
            <a:gdLst/>
            <a:ahLst/>
            <a:rect l="l" t="t" r="r" b="b"/>
            <a:pathLst>
              <a:path w="12478" h="2159">
                <a:moveTo>
                  <a:pt x="4936" y="7689"/>
                </a:moveTo>
                <a:cubicBezTo>
                  <a:pt x="4983" y="7655"/>
                  <a:pt x="5022" y="7665"/>
                  <a:pt x="5085" y="7665"/>
                </a:cubicBezTo>
                <a:cubicBezTo>
                  <a:pt x="5173" y="7665"/>
                  <a:pt x="5247" y="7680"/>
                  <a:pt x="5333" y="7689"/>
                </a:cubicBezTo>
              </a:path>
              <a:path w="12478" h="2159">
                <a:moveTo>
                  <a:pt x="5581" y="7293"/>
                </a:moveTo>
                <a:cubicBezTo>
                  <a:pt x="5646" y="7244"/>
                  <a:pt x="5746" y="7290"/>
                  <a:pt x="5829" y="7293"/>
                </a:cubicBezTo>
                <a:cubicBezTo>
                  <a:pt x="5870" y="7294"/>
                  <a:pt x="5912" y="7293"/>
                  <a:pt x="5953" y="7293"/>
                </a:cubicBezTo>
                <a:cubicBezTo>
                  <a:pt x="5953" y="7389"/>
                  <a:pt x="5931" y="7469"/>
                  <a:pt x="5928" y="7565"/>
                </a:cubicBezTo>
                <a:cubicBezTo>
                  <a:pt x="5926" y="7638"/>
                  <a:pt x="5908" y="7697"/>
                  <a:pt x="5904" y="7764"/>
                </a:cubicBezTo>
                <a:cubicBezTo>
                  <a:pt x="5904" y="7805"/>
                  <a:pt x="5904" y="7813"/>
                  <a:pt x="5904" y="7838"/>
                </a:cubicBezTo>
              </a:path>
              <a:path w="12478" h="2159">
                <a:moveTo>
                  <a:pt x="6970" y="7689"/>
                </a:moveTo>
                <a:cubicBezTo>
                  <a:pt x="7106" y="7689"/>
                  <a:pt x="7235" y="7682"/>
                  <a:pt x="7367" y="7665"/>
                </a:cubicBezTo>
                <a:cubicBezTo>
                  <a:pt x="7452" y="7654"/>
                  <a:pt x="7491" y="7650"/>
                  <a:pt x="7541" y="7590"/>
                </a:cubicBezTo>
              </a:path>
              <a:path w="12478" h="2159">
                <a:moveTo>
                  <a:pt x="7714" y="7342"/>
                </a:moveTo>
                <a:cubicBezTo>
                  <a:pt x="7807" y="7296"/>
                  <a:pt x="7866" y="7315"/>
                  <a:pt x="7962" y="7293"/>
                </a:cubicBezTo>
                <a:cubicBezTo>
                  <a:pt x="8003" y="7273"/>
                  <a:pt x="8009" y="7264"/>
                  <a:pt x="8037" y="7268"/>
                </a:cubicBezTo>
                <a:cubicBezTo>
                  <a:pt x="8017" y="7365"/>
                  <a:pt x="7974" y="7462"/>
                  <a:pt x="7962" y="7565"/>
                </a:cubicBezTo>
                <a:cubicBezTo>
                  <a:pt x="7954" y="7630"/>
                  <a:pt x="7955" y="7701"/>
                  <a:pt x="7938" y="7764"/>
                </a:cubicBezTo>
                <a:cubicBezTo>
                  <a:pt x="7919" y="7821"/>
                  <a:pt x="7928" y="7846"/>
                  <a:pt x="7888" y="7838"/>
                </a:cubicBezTo>
              </a:path>
              <a:path w="12478" h="2159">
                <a:moveTo>
                  <a:pt x="3621" y="8111"/>
                </a:moveTo>
                <a:cubicBezTo>
                  <a:pt x="3853" y="8111"/>
                  <a:pt x="4085" y="8104"/>
                  <a:pt x="4316" y="8086"/>
                </a:cubicBezTo>
                <a:cubicBezTo>
                  <a:pt x="4598" y="8065"/>
                  <a:pt x="4877" y="8041"/>
                  <a:pt x="5159" y="8037"/>
                </a:cubicBezTo>
                <a:cubicBezTo>
                  <a:pt x="5441" y="8033"/>
                  <a:pt x="5724" y="8025"/>
                  <a:pt x="6003" y="8062"/>
                </a:cubicBezTo>
                <a:cubicBezTo>
                  <a:pt x="6704" y="8156"/>
                  <a:pt x="7408" y="8229"/>
                  <a:pt x="8111" y="8310"/>
                </a:cubicBezTo>
                <a:cubicBezTo>
                  <a:pt x="8367" y="8339"/>
                  <a:pt x="8626" y="8355"/>
                  <a:pt x="8880" y="8384"/>
                </a:cubicBezTo>
                <a:cubicBezTo>
                  <a:pt x="9022" y="8400"/>
                  <a:pt x="9160" y="8424"/>
                  <a:pt x="9302" y="8434"/>
                </a:cubicBezTo>
                <a:cubicBezTo>
                  <a:pt x="9343" y="8434"/>
                  <a:pt x="9351" y="8434"/>
                  <a:pt x="9376" y="8434"/>
                </a:cubicBezTo>
              </a:path>
              <a:path w="12478" h="2159">
                <a:moveTo>
                  <a:pt x="5308" y="6697"/>
                </a:moveTo>
                <a:cubicBezTo>
                  <a:pt x="5438" y="6990"/>
                  <a:pt x="5602" y="7264"/>
                  <a:pt x="5705" y="7565"/>
                </a:cubicBezTo>
                <a:cubicBezTo>
                  <a:pt x="5710" y="7579"/>
                  <a:pt x="5861" y="8073"/>
                  <a:pt x="5804" y="7789"/>
                </a:cubicBezTo>
              </a:path>
              <a:path w="12478" h="2159">
                <a:moveTo>
                  <a:pt x="6300" y="6276"/>
                </a:moveTo>
                <a:cubicBezTo>
                  <a:pt x="6131" y="6584"/>
                  <a:pt x="5912" y="6860"/>
                  <a:pt x="5705" y="7144"/>
                </a:cubicBezTo>
                <a:cubicBezTo>
                  <a:pt x="5492" y="7436"/>
                  <a:pt x="5301" y="7742"/>
                  <a:pt x="5060" y="8012"/>
                </a:cubicBezTo>
                <a:cubicBezTo>
                  <a:pt x="5005" y="8067"/>
                  <a:pt x="4980" y="8065"/>
                  <a:pt x="4986" y="8111"/>
                </a:cubicBezTo>
              </a:path>
              <a:path w="12478" h="2159">
                <a:moveTo>
                  <a:pt x="10864" y="7739"/>
                </a:moveTo>
                <a:cubicBezTo>
                  <a:pt x="10954" y="7762"/>
                  <a:pt x="11117" y="7829"/>
                  <a:pt x="11212" y="7789"/>
                </a:cubicBezTo>
                <a:cubicBezTo>
                  <a:pt x="11212" y="7781"/>
                  <a:pt x="11212" y="7772"/>
                  <a:pt x="11212" y="7764"/>
                </a:cubicBezTo>
              </a:path>
              <a:path w="12478" h="2159">
                <a:moveTo>
                  <a:pt x="11410" y="7441"/>
                </a:moveTo>
                <a:cubicBezTo>
                  <a:pt x="11478" y="7402"/>
                  <a:pt x="11603" y="7407"/>
                  <a:pt x="11683" y="7417"/>
                </a:cubicBezTo>
                <a:cubicBezTo>
                  <a:pt x="11775" y="7439"/>
                  <a:pt x="11800" y="7450"/>
                  <a:pt x="11857" y="7417"/>
                </a:cubicBezTo>
                <a:cubicBezTo>
                  <a:pt x="11857" y="7497"/>
                  <a:pt x="11846" y="7557"/>
                  <a:pt x="11832" y="7640"/>
                </a:cubicBezTo>
                <a:cubicBezTo>
                  <a:pt x="11808" y="7782"/>
                  <a:pt x="11765" y="7920"/>
                  <a:pt x="11757" y="8062"/>
                </a:cubicBezTo>
                <a:cubicBezTo>
                  <a:pt x="11756" y="8086"/>
                  <a:pt x="11757" y="8112"/>
                  <a:pt x="11757" y="8136"/>
                </a:cubicBezTo>
              </a:path>
              <a:path w="12478" h="2159">
                <a:moveTo>
                  <a:pt x="12402" y="7813"/>
                </a:moveTo>
                <a:cubicBezTo>
                  <a:pt x="12519" y="7813"/>
                  <a:pt x="12612" y="7803"/>
                  <a:pt x="12725" y="7813"/>
                </a:cubicBezTo>
                <a:cubicBezTo>
                  <a:pt x="12733" y="7813"/>
                  <a:pt x="12742" y="7813"/>
                  <a:pt x="12750" y="7813"/>
                </a:cubicBezTo>
              </a:path>
              <a:path w="12478" h="2159">
                <a:moveTo>
                  <a:pt x="12799" y="7293"/>
                </a:moveTo>
                <a:cubicBezTo>
                  <a:pt x="12926" y="7293"/>
                  <a:pt x="13046" y="7308"/>
                  <a:pt x="13171" y="7317"/>
                </a:cubicBezTo>
                <a:cubicBezTo>
                  <a:pt x="13248" y="7323"/>
                  <a:pt x="13319" y="7342"/>
                  <a:pt x="13395" y="7342"/>
                </a:cubicBezTo>
                <a:cubicBezTo>
                  <a:pt x="13370" y="7443"/>
                  <a:pt x="13301" y="7557"/>
                  <a:pt x="13271" y="7665"/>
                </a:cubicBezTo>
                <a:cubicBezTo>
                  <a:pt x="13241" y="7772"/>
                  <a:pt x="13202" y="7902"/>
                  <a:pt x="13196" y="8012"/>
                </a:cubicBezTo>
                <a:cubicBezTo>
                  <a:pt x="13194" y="8053"/>
                  <a:pt x="13196" y="8127"/>
                  <a:pt x="13196" y="8086"/>
                </a:cubicBezTo>
                <a:cubicBezTo>
                  <a:pt x="13196" y="8070"/>
                  <a:pt x="13196" y="8053"/>
                  <a:pt x="13196" y="8037"/>
                </a:cubicBezTo>
              </a:path>
              <a:path w="12478" h="2159">
                <a:moveTo>
                  <a:pt x="12576" y="7615"/>
                </a:moveTo>
                <a:cubicBezTo>
                  <a:pt x="12616" y="7628"/>
                  <a:pt x="12577" y="7760"/>
                  <a:pt x="12576" y="7813"/>
                </a:cubicBezTo>
                <a:cubicBezTo>
                  <a:pt x="12574" y="7896"/>
                  <a:pt x="12576" y="7979"/>
                  <a:pt x="12576" y="8062"/>
                </a:cubicBezTo>
              </a:path>
              <a:path w="12478" h="2159">
                <a:moveTo>
                  <a:pt x="12204" y="7268"/>
                </a:moveTo>
                <a:cubicBezTo>
                  <a:pt x="12223" y="7210"/>
                  <a:pt x="12271" y="7262"/>
                  <a:pt x="12328" y="7268"/>
                </a:cubicBezTo>
                <a:cubicBezTo>
                  <a:pt x="12392" y="7274"/>
                  <a:pt x="12462" y="7268"/>
                  <a:pt x="12526" y="7268"/>
                </a:cubicBezTo>
              </a:path>
              <a:path w="12478" h="2159">
                <a:moveTo>
                  <a:pt x="13841" y="7665"/>
                </a:moveTo>
                <a:cubicBezTo>
                  <a:pt x="13995" y="7665"/>
                  <a:pt x="14081" y="7633"/>
                  <a:pt x="14163" y="7739"/>
                </a:cubicBezTo>
              </a:path>
              <a:path w="12478" h="2159">
                <a:moveTo>
                  <a:pt x="13717" y="7987"/>
                </a:moveTo>
                <a:cubicBezTo>
                  <a:pt x="13826" y="7980"/>
                  <a:pt x="13929" y="7962"/>
                  <a:pt x="14039" y="7962"/>
                </a:cubicBezTo>
                <a:cubicBezTo>
                  <a:pt x="14047" y="7962"/>
                  <a:pt x="14056" y="7962"/>
                  <a:pt x="14064" y="7962"/>
                </a:cubicBezTo>
              </a:path>
              <a:path w="12478" h="2159">
                <a:moveTo>
                  <a:pt x="14585" y="7913"/>
                </a:moveTo>
                <a:cubicBezTo>
                  <a:pt x="14687" y="7875"/>
                  <a:pt x="14823" y="7871"/>
                  <a:pt x="14932" y="7863"/>
                </a:cubicBezTo>
                <a:cubicBezTo>
                  <a:pt x="15023" y="7863"/>
                  <a:pt x="15048" y="7863"/>
                  <a:pt x="15106" y="7863"/>
                </a:cubicBezTo>
              </a:path>
              <a:path w="12478" h="2159">
                <a:moveTo>
                  <a:pt x="15478" y="7441"/>
                </a:moveTo>
                <a:cubicBezTo>
                  <a:pt x="15455" y="7510"/>
                  <a:pt x="15442" y="7614"/>
                  <a:pt x="15429" y="7714"/>
                </a:cubicBezTo>
                <a:cubicBezTo>
                  <a:pt x="15409" y="7865"/>
                  <a:pt x="15404" y="8007"/>
                  <a:pt x="15404" y="8161"/>
                </a:cubicBezTo>
                <a:cubicBezTo>
                  <a:pt x="15404" y="8216"/>
                  <a:pt x="15422" y="8256"/>
                  <a:pt x="15429" y="8310"/>
                </a:cubicBezTo>
              </a:path>
              <a:path w="12478" h="2159">
                <a:moveTo>
                  <a:pt x="15801" y="7491"/>
                </a:moveTo>
                <a:cubicBezTo>
                  <a:pt x="15761" y="7518"/>
                  <a:pt x="15735" y="7626"/>
                  <a:pt x="15701" y="7689"/>
                </a:cubicBezTo>
                <a:cubicBezTo>
                  <a:pt x="15683" y="7721"/>
                  <a:pt x="15598" y="7811"/>
                  <a:pt x="15627" y="7863"/>
                </a:cubicBezTo>
                <a:cubicBezTo>
                  <a:pt x="15671" y="7941"/>
                  <a:pt x="15827" y="7946"/>
                  <a:pt x="15900" y="7938"/>
                </a:cubicBezTo>
                <a:cubicBezTo>
                  <a:pt x="15974" y="7930"/>
                  <a:pt x="16028" y="7897"/>
                  <a:pt x="16098" y="7888"/>
                </a:cubicBezTo>
              </a:path>
              <a:path w="12478" h="2159">
                <a:moveTo>
                  <a:pt x="16098" y="7367"/>
                </a:moveTo>
                <a:cubicBezTo>
                  <a:pt x="16047" y="7495"/>
                  <a:pt x="16030" y="7629"/>
                  <a:pt x="15999" y="7764"/>
                </a:cubicBezTo>
                <a:cubicBezTo>
                  <a:pt x="15967" y="7907"/>
                  <a:pt x="15959" y="8064"/>
                  <a:pt x="15949" y="8210"/>
                </a:cubicBezTo>
                <a:cubicBezTo>
                  <a:pt x="15946" y="8262"/>
                  <a:pt x="15969" y="8319"/>
                  <a:pt x="15925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82800" y="2955960"/>
            <a:ext cx="2589120" cy="696960"/>
          </a:xfrm>
          <a:custGeom>
            <a:avLst/>
            <a:gdLst/>
            <a:ahLst/>
            <a:rect l="l" t="t" r="r" b="b"/>
            <a:pathLst>
              <a:path w="7194" h="1936">
                <a:moveTo>
                  <a:pt x="7293" y="8905"/>
                </a:moveTo>
                <a:cubicBezTo>
                  <a:pt x="7360" y="8864"/>
                  <a:pt x="7473" y="8883"/>
                  <a:pt x="7541" y="8830"/>
                </a:cubicBezTo>
                <a:cubicBezTo>
                  <a:pt x="7549" y="8814"/>
                  <a:pt x="7557" y="8797"/>
                  <a:pt x="7565" y="8781"/>
                </a:cubicBezTo>
              </a:path>
              <a:path w="7194" h="1936">
                <a:moveTo>
                  <a:pt x="7913" y="8483"/>
                </a:moveTo>
                <a:cubicBezTo>
                  <a:pt x="7901" y="8640"/>
                  <a:pt x="7882" y="8771"/>
                  <a:pt x="7913" y="8930"/>
                </a:cubicBezTo>
                <a:cubicBezTo>
                  <a:pt x="7932" y="9004"/>
                  <a:pt x="7966" y="9037"/>
                  <a:pt x="7913" y="9029"/>
                </a:cubicBezTo>
              </a:path>
              <a:path w="7194" h="1936">
                <a:moveTo>
                  <a:pt x="8210" y="8458"/>
                </a:moveTo>
                <a:cubicBezTo>
                  <a:pt x="8228" y="8546"/>
                  <a:pt x="8215" y="8612"/>
                  <a:pt x="8210" y="8706"/>
                </a:cubicBezTo>
                <a:cubicBezTo>
                  <a:pt x="8203" y="8823"/>
                  <a:pt x="8406" y="8721"/>
                  <a:pt x="8434" y="8706"/>
                </a:cubicBezTo>
                <a:cubicBezTo>
                  <a:pt x="8528" y="8636"/>
                  <a:pt x="8556" y="8616"/>
                  <a:pt x="8607" y="8558"/>
                </a:cubicBezTo>
              </a:path>
              <a:path w="7194" h="1936">
                <a:moveTo>
                  <a:pt x="8657" y="8359"/>
                </a:moveTo>
                <a:cubicBezTo>
                  <a:pt x="8580" y="8435"/>
                  <a:pt x="8579" y="8567"/>
                  <a:pt x="8558" y="8682"/>
                </a:cubicBezTo>
                <a:cubicBezTo>
                  <a:pt x="8530" y="8840"/>
                  <a:pt x="8575" y="8975"/>
                  <a:pt x="8558" y="9128"/>
                </a:cubicBezTo>
                <a:cubicBezTo>
                  <a:pt x="8551" y="9187"/>
                  <a:pt x="8533" y="9311"/>
                  <a:pt x="8533" y="9252"/>
                </a:cubicBezTo>
              </a:path>
              <a:path w="7194" h="1936">
                <a:moveTo>
                  <a:pt x="6276" y="8756"/>
                </a:moveTo>
                <a:cubicBezTo>
                  <a:pt x="6340" y="8756"/>
                  <a:pt x="6383" y="8736"/>
                  <a:pt x="6449" y="8731"/>
                </a:cubicBezTo>
                <a:cubicBezTo>
                  <a:pt x="6557" y="8731"/>
                  <a:pt x="6582" y="8731"/>
                  <a:pt x="6648" y="8731"/>
                </a:cubicBezTo>
              </a:path>
              <a:path w="7194" h="1936">
                <a:moveTo>
                  <a:pt x="6350" y="8979"/>
                </a:moveTo>
                <a:cubicBezTo>
                  <a:pt x="6411" y="9028"/>
                  <a:pt x="6492" y="9053"/>
                  <a:pt x="6573" y="9029"/>
                </a:cubicBezTo>
                <a:cubicBezTo>
                  <a:pt x="6581" y="9021"/>
                  <a:pt x="6590" y="9012"/>
                  <a:pt x="6598" y="9004"/>
                </a:cubicBezTo>
              </a:path>
              <a:path w="7194" h="1936">
                <a:moveTo>
                  <a:pt x="4638" y="8384"/>
                </a:moveTo>
                <a:cubicBezTo>
                  <a:pt x="4638" y="8450"/>
                  <a:pt x="4638" y="8516"/>
                  <a:pt x="4638" y="8582"/>
                </a:cubicBezTo>
                <a:cubicBezTo>
                  <a:pt x="4638" y="8641"/>
                  <a:pt x="4657" y="8497"/>
                  <a:pt x="4663" y="8483"/>
                </a:cubicBezTo>
                <a:cubicBezTo>
                  <a:pt x="4685" y="8440"/>
                  <a:pt x="4689" y="8428"/>
                  <a:pt x="4713" y="8409"/>
                </a:cubicBezTo>
                <a:cubicBezTo>
                  <a:pt x="4772" y="8476"/>
                  <a:pt x="4823" y="8544"/>
                  <a:pt x="4887" y="8607"/>
                </a:cubicBezTo>
                <a:cubicBezTo>
                  <a:pt x="4943" y="8523"/>
                  <a:pt x="5013" y="8456"/>
                  <a:pt x="5085" y="8384"/>
                </a:cubicBezTo>
                <a:cubicBezTo>
                  <a:pt x="5174" y="8451"/>
                  <a:pt x="5176" y="8518"/>
                  <a:pt x="5234" y="8607"/>
                </a:cubicBezTo>
                <a:cubicBezTo>
                  <a:pt x="5257" y="8630"/>
                  <a:pt x="5265" y="8634"/>
                  <a:pt x="5259" y="8657"/>
                </a:cubicBezTo>
              </a:path>
              <a:path w="7194" h="1936">
                <a:moveTo>
                  <a:pt x="4514" y="9004"/>
                </a:moveTo>
                <a:cubicBezTo>
                  <a:pt x="4739" y="9004"/>
                  <a:pt x="4960" y="9008"/>
                  <a:pt x="5184" y="8979"/>
                </a:cubicBezTo>
                <a:cubicBezTo>
                  <a:pt x="5275" y="8967"/>
                  <a:pt x="5315" y="8954"/>
                  <a:pt x="5407" y="8954"/>
                </a:cubicBezTo>
              </a:path>
              <a:path w="7194" h="1936">
                <a:moveTo>
                  <a:pt x="4936" y="9227"/>
                </a:moveTo>
                <a:cubicBezTo>
                  <a:pt x="4899" y="9293"/>
                  <a:pt x="4852" y="9348"/>
                  <a:pt x="4837" y="9426"/>
                </a:cubicBezTo>
                <a:cubicBezTo>
                  <a:pt x="4810" y="9564"/>
                  <a:pt x="4944" y="9458"/>
                  <a:pt x="4986" y="9426"/>
                </a:cubicBezTo>
              </a:path>
              <a:path w="7194" h="1936">
                <a:moveTo>
                  <a:pt x="4961" y="9178"/>
                </a:moveTo>
                <a:cubicBezTo>
                  <a:pt x="5007" y="9238"/>
                  <a:pt x="4986" y="9324"/>
                  <a:pt x="4986" y="9401"/>
                </a:cubicBezTo>
                <a:cubicBezTo>
                  <a:pt x="4986" y="9506"/>
                  <a:pt x="4988" y="9608"/>
                  <a:pt x="5011" y="9699"/>
                </a:cubicBezTo>
                <a:cubicBezTo>
                  <a:pt x="5011" y="9707"/>
                  <a:pt x="5011" y="9715"/>
                  <a:pt x="5011" y="9723"/>
                </a:cubicBezTo>
              </a:path>
              <a:path w="7194" h="1936">
                <a:moveTo>
                  <a:pt x="4192" y="8979"/>
                </a:moveTo>
                <a:cubicBezTo>
                  <a:pt x="4153" y="8999"/>
                  <a:pt x="4098" y="9029"/>
                  <a:pt x="4142" y="9029"/>
                </a:cubicBezTo>
                <a:cubicBezTo>
                  <a:pt x="4167" y="9029"/>
                  <a:pt x="4175" y="9029"/>
                  <a:pt x="4167" y="9054"/>
                </a:cubicBezTo>
                <a:cubicBezTo>
                  <a:pt x="4167" y="8997"/>
                  <a:pt x="4155" y="8985"/>
                  <a:pt x="4093" y="8979"/>
                </a:cubicBezTo>
                <a:cubicBezTo>
                  <a:pt x="4044" y="8974"/>
                  <a:pt x="4070" y="8996"/>
                  <a:pt x="4093" y="9004"/>
                </a:cubicBezTo>
              </a:path>
              <a:path w="7194" h="1936">
                <a:moveTo>
                  <a:pt x="3175" y="8359"/>
                </a:moveTo>
                <a:cubicBezTo>
                  <a:pt x="3175" y="8456"/>
                  <a:pt x="3164" y="8542"/>
                  <a:pt x="3150" y="8632"/>
                </a:cubicBezTo>
                <a:cubicBezTo>
                  <a:pt x="3135" y="8728"/>
                  <a:pt x="3229" y="8728"/>
                  <a:pt x="3299" y="8731"/>
                </a:cubicBezTo>
                <a:cubicBezTo>
                  <a:pt x="3421" y="8736"/>
                  <a:pt x="3481" y="8685"/>
                  <a:pt x="3572" y="8607"/>
                </a:cubicBezTo>
              </a:path>
              <a:path w="7194" h="1936">
                <a:moveTo>
                  <a:pt x="3572" y="8359"/>
                </a:moveTo>
                <a:cubicBezTo>
                  <a:pt x="3483" y="8404"/>
                  <a:pt x="3522" y="8562"/>
                  <a:pt x="3522" y="8657"/>
                </a:cubicBezTo>
                <a:cubicBezTo>
                  <a:pt x="3522" y="8756"/>
                  <a:pt x="3522" y="8855"/>
                  <a:pt x="3522" y="8954"/>
                </a:cubicBezTo>
              </a:path>
              <a:path w="7194" h="1936">
                <a:moveTo>
                  <a:pt x="2803" y="9475"/>
                </a:moveTo>
                <a:cubicBezTo>
                  <a:pt x="2979" y="9475"/>
                  <a:pt x="3151" y="9485"/>
                  <a:pt x="3324" y="9451"/>
                </a:cubicBezTo>
                <a:cubicBezTo>
                  <a:pt x="3409" y="9434"/>
                  <a:pt x="3422" y="9426"/>
                  <a:pt x="3497" y="9426"/>
                </a:cubicBezTo>
              </a:path>
              <a:path w="7194" h="1936">
                <a:moveTo>
                  <a:pt x="3423" y="9649"/>
                </a:moveTo>
                <a:cubicBezTo>
                  <a:pt x="3403" y="9709"/>
                  <a:pt x="3415" y="9734"/>
                  <a:pt x="3423" y="9823"/>
                </a:cubicBezTo>
                <a:cubicBezTo>
                  <a:pt x="3432" y="9921"/>
                  <a:pt x="3447" y="10011"/>
                  <a:pt x="3473" y="10096"/>
                </a:cubicBezTo>
                <a:cubicBezTo>
                  <a:pt x="3486" y="10138"/>
                  <a:pt x="3454" y="10130"/>
                  <a:pt x="3497" y="10145"/>
                </a:cubicBezTo>
              </a:path>
              <a:path w="7194" h="1936">
                <a:moveTo>
                  <a:pt x="9103" y="9203"/>
                </a:moveTo>
                <a:cubicBezTo>
                  <a:pt x="9041" y="9213"/>
                  <a:pt x="9054" y="9194"/>
                  <a:pt x="9054" y="9252"/>
                </a:cubicBezTo>
                <a:cubicBezTo>
                  <a:pt x="9068" y="9211"/>
                  <a:pt x="9088" y="9227"/>
                  <a:pt x="9029" y="9227"/>
                </a:cubicBezTo>
                <a:cubicBezTo>
                  <a:pt x="9021" y="9227"/>
                  <a:pt x="9012" y="9227"/>
                  <a:pt x="9004" y="9227"/>
                </a:cubicBezTo>
              </a:path>
              <a:path w="7194" h="1936">
                <a:moveTo>
                  <a:pt x="9599" y="8657"/>
                </a:moveTo>
                <a:cubicBezTo>
                  <a:pt x="9561" y="8772"/>
                  <a:pt x="9534" y="8888"/>
                  <a:pt x="9500" y="9004"/>
                </a:cubicBezTo>
                <a:cubicBezTo>
                  <a:pt x="9483" y="9063"/>
                  <a:pt x="9400" y="9165"/>
                  <a:pt x="9500" y="9203"/>
                </a:cubicBezTo>
                <a:cubicBezTo>
                  <a:pt x="9639" y="9257"/>
                  <a:pt x="9783" y="9216"/>
                  <a:pt x="9922" y="9203"/>
                </a:cubicBezTo>
              </a:path>
              <a:path w="7194" h="1936">
                <a:moveTo>
                  <a:pt x="9897" y="8756"/>
                </a:moveTo>
                <a:cubicBezTo>
                  <a:pt x="9880" y="8855"/>
                  <a:pt x="9833" y="8953"/>
                  <a:pt x="9823" y="9054"/>
                </a:cubicBezTo>
                <a:cubicBezTo>
                  <a:pt x="9809" y="9203"/>
                  <a:pt x="9798" y="9350"/>
                  <a:pt x="9798" y="9500"/>
                </a:cubicBezTo>
                <a:cubicBezTo>
                  <a:pt x="9798" y="9585"/>
                  <a:pt x="9711" y="9690"/>
                  <a:pt x="9773" y="9748"/>
                </a:cubicBezTo>
                <a:cubicBezTo>
                  <a:pt x="9808" y="9713"/>
                  <a:pt x="9812" y="9691"/>
                  <a:pt x="9773" y="9649"/>
                </a:cubicBezTo>
              </a:path>
              <a:path w="7194" h="1936">
                <a:moveTo>
                  <a:pt x="2729" y="8210"/>
                </a:moveTo>
                <a:cubicBezTo>
                  <a:pt x="2762" y="8231"/>
                  <a:pt x="2784" y="8235"/>
                  <a:pt x="2828" y="8285"/>
                </a:cubicBezTo>
                <a:cubicBezTo>
                  <a:pt x="2929" y="8400"/>
                  <a:pt x="3030" y="8473"/>
                  <a:pt x="3150" y="8558"/>
                </a:cubicBezTo>
                <a:cubicBezTo>
                  <a:pt x="3244" y="8625"/>
                  <a:pt x="3312" y="8740"/>
                  <a:pt x="3398" y="8806"/>
                </a:cubicBezTo>
                <a:cubicBezTo>
                  <a:pt x="3466" y="8858"/>
                  <a:pt x="3550" y="8905"/>
                  <a:pt x="3621" y="8954"/>
                </a:cubicBezTo>
                <a:cubicBezTo>
                  <a:pt x="3718" y="9022"/>
                  <a:pt x="3818" y="9072"/>
                  <a:pt x="3919" y="9128"/>
                </a:cubicBezTo>
                <a:cubicBezTo>
                  <a:pt x="4038" y="9194"/>
                  <a:pt x="4166" y="9240"/>
                  <a:pt x="4291" y="9302"/>
                </a:cubicBezTo>
                <a:cubicBezTo>
                  <a:pt x="4403" y="9358"/>
                  <a:pt x="4521" y="9382"/>
                  <a:pt x="4638" y="9426"/>
                </a:cubicBezTo>
                <a:cubicBezTo>
                  <a:pt x="4728" y="9460"/>
                  <a:pt x="4819" y="9494"/>
                  <a:pt x="4911" y="9525"/>
                </a:cubicBezTo>
                <a:cubicBezTo>
                  <a:pt x="5009" y="9558"/>
                  <a:pt x="5093" y="9586"/>
                  <a:pt x="5184" y="9624"/>
                </a:cubicBezTo>
                <a:cubicBezTo>
                  <a:pt x="5250" y="9651"/>
                  <a:pt x="5318" y="9666"/>
                  <a:pt x="5383" y="9699"/>
                </a:cubicBezTo>
                <a:cubicBezTo>
                  <a:pt x="5406" y="9711"/>
                  <a:pt x="5452" y="9760"/>
                  <a:pt x="5482" y="9748"/>
                </a:cubicBezTo>
                <a:cubicBezTo>
                  <a:pt x="5482" y="9732"/>
                  <a:pt x="5482" y="9715"/>
                  <a:pt x="5482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70240" y="3125880"/>
            <a:ext cx="1928880" cy="714240"/>
          </a:xfrm>
          <a:custGeom>
            <a:avLst/>
            <a:gdLst/>
            <a:ahLst/>
            <a:rect l="l" t="t" r="r" b="b"/>
            <a:pathLst>
              <a:path w="5359" h="1985">
                <a:moveTo>
                  <a:pt x="12080" y="9723"/>
                </a:moveTo>
                <a:cubicBezTo>
                  <a:pt x="12122" y="9684"/>
                  <a:pt x="12105" y="9958"/>
                  <a:pt x="12105" y="10021"/>
                </a:cubicBezTo>
                <a:cubicBezTo>
                  <a:pt x="12105" y="10112"/>
                  <a:pt x="12105" y="10120"/>
                  <a:pt x="12105" y="10170"/>
                </a:cubicBezTo>
                <a:cubicBezTo>
                  <a:pt x="12162" y="10030"/>
                  <a:pt x="12184" y="9827"/>
                  <a:pt x="12303" y="9723"/>
                </a:cubicBezTo>
                <a:cubicBezTo>
                  <a:pt x="12364" y="9704"/>
                  <a:pt x="12378" y="9685"/>
                  <a:pt x="12402" y="9723"/>
                </a:cubicBezTo>
                <a:cubicBezTo>
                  <a:pt x="12468" y="9854"/>
                  <a:pt x="12477" y="9949"/>
                  <a:pt x="12477" y="10096"/>
                </a:cubicBezTo>
                <a:cubicBezTo>
                  <a:pt x="12497" y="9998"/>
                  <a:pt x="12572" y="9863"/>
                  <a:pt x="12650" y="9798"/>
                </a:cubicBezTo>
                <a:cubicBezTo>
                  <a:pt x="12729" y="9731"/>
                  <a:pt x="12754" y="9728"/>
                  <a:pt x="12824" y="9748"/>
                </a:cubicBezTo>
                <a:cubicBezTo>
                  <a:pt x="12866" y="9885"/>
                  <a:pt x="12894" y="10002"/>
                  <a:pt x="12898" y="10145"/>
                </a:cubicBezTo>
                <a:cubicBezTo>
                  <a:pt x="12900" y="10205"/>
                  <a:pt x="12875" y="10292"/>
                  <a:pt x="12898" y="10195"/>
                </a:cubicBezTo>
              </a:path>
              <a:path w="5359" h="1985">
                <a:moveTo>
                  <a:pt x="13171" y="9624"/>
                </a:moveTo>
                <a:cubicBezTo>
                  <a:pt x="13289" y="9634"/>
                  <a:pt x="13399" y="9668"/>
                  <a:pt x="13519" y="9674"/>
                </a:cubicBezTo>
                <a:cubicBezTo>
                  <a:pt x="13527" y="9674"/>
                  <a:pt x="13535" y="9674"/>
                  <a:pt x="13543" y="9674"/>
                </a:cubicBezTo>
              </a:path>
              <a:path w="5359" h="1985">
                <a:moveTo>
                  <a:pt x="13221" y="9996"/>
                </a:moveTo>
                <a:cubicBezTo>
                  <a:pt x="13323" y="10004"/>
                  <a:pt x="13416" y="10021"/>
                  <a:pt x="13519" y="10021"/>
                </a:cubicBezTo>
              </a:path>
              <a:path w="5359" h="1985">
                <a:moveTo>
                  <a:pt x="13965" y="9872"/>
                </a:moveTo>
                <a:cubicBezTo>
                  <a:pt x="14098" y="9872"/>
                  <a:pt x="14228" y="9850"/>
                  <a:pt x="14362" y="9847"/>
                </a:cubicBezTo>
                <a:cubicBezTo>
                  <a:pt x="14443" y="9845"/>
                  <a:pt x="14544" y="9870"/>
                  <a:pt x="14610" y="9823"/>
                </a:cubicBezTo>
              </a:path>
              <a:path w="5359" h="1985">
                <a:moveTo>
                  <a:pt x="14908" y="9351"/>
                </a:moveTo>
                <a:cubicBezTo>
                  <a:pt x="14908" y="9454"/>
                  <a:pt x="14888" y="9548"/>
                  <a:pt x="14883" y="9649"/>
                </a:cubicBezTo>
                <a:cubicBezTo>
                  <a:pt x="14883" y="9666"/>
                  <a:pt x="14883" y="9682"/>
                  <a:pt x="14883" y="9699"/>
                </a:cubicBezTo>
                <a:cubicBezTo>
                  <a:pt x="15011" y="9714"/>
                  <a:pt x="15156" y="9735"/>
                  <a:pt x="15280" y="9773"/>
                </a:cubicBezTo>
                <a:cubicBezTo>
                  <a:pt x="15388" y="9806"/>
                  <a:pt x="15403" y="9952"/>
                  <a:pt x="15379" y="10046"/>
                </a:cubicBezTo>
                <a:cubicBezTo>
                  <a:pt x="15348" y="10168"/>
                  <a:pt x="15142" y="10124"/>
                  <a:pt x="15081" y="10071"/>
                </a:cubicBezTo>
                <a:cubicBezTo>
                  <a:pt x="15048" y="10030"/>
                  <a:pt x="15015" y="9988"/>
                  <a:pt x="14982" y="9947"/>
                </a:cubicBezTo>
              </a:path>
              <a:path w="5359" h="1985">
                <a:moveTo>
                  <a:pt x="14957" y="9475"/>
                </a:moveTo>
                <a:cubicBezTo>
                  <a:pt x="14957" y="9386"/>
                  <a:pt x="15032" y="9404"/>
                  <a:pt x="15106" y="9401"/>
                </a:cubicBezTo>
                <a:cubicBezTo>
                  <a:pt x="15170" y="9398"/>
                  <a:pt x="15195" y="9399"/>
                  <a:pt x="15255" y="9376"/>
                </a:cubicBezTo>
              </a:path>
              <a:path w="5359" h="1985">
                <a:moveTo>
                  <a:pt x="15825" y="9227"/>
                </a:moveTo>
                <a:cubicBezTo>
                  <a:pt x="15741" y="9330"/>
                  <a:pt x="15690" y="9440"/>
                  <a:pt x="15677" y="9575"/>
                </a:cubicBezTo>
                <a:cubicBezTo>
                  <a:pt x="15658" y="9765"/>
                  <a:pt x="15701" y="9865"/>
                  <a:pt x="15825" y="9996"/>
                </a:cubicBezTo>
                <a:cubicBezTo>
                  <a:pt x="15905" y="10081"/>
                  <a:pt x="15990" y="10093"/>
                  <a:pt x="16098" y="10046"/>
                </a:cubicBezTo>
                <a:cubicBezTo>
                  <a:pt x="16164" y="10017"/>
                  <a:pt x="16299" y="9880"/>
                  <a:pt x="16272" y="9798"/>
                </a:cubicBezTo>
                <a:cubicBezTo>
                  <a:pt x="16225" y="9657"/>
                  <a:pt x="16128" y="9702"/>
                  <a:pt x="16049" y="9773"/>
                </a:cubicBezTo>
                <a:cubicBezTo>
                  <a:pt x="15948" y="9863"/>
                  <a:pt x="16017" y="9906"/>
                  <a:pt x="16073" y="9996"/>
                </a:cubicBezTo>
                <a:cubicBezTo>
                  <a:pt x="16107" y="10051"/>
                  <a:pt x="16110" y="10032"/>
                  <a:pt x="16123" y="10071"/>
                </a:cubicBezTo>
              </a:path>
              <a:path w="5359" h="1985">
                <a:moveTo>
                  <a:pt x="16818" y="9624"/>
                </a:moveTo>
                <a:cubicBezTo>
                  <a:pt x="16738" y="9479"/>
                  <a:pt x="16686" y="9382"/>
                  <a:pt x="16545" y="9277"/>
                </a:cubicBezTo>
                <a:cubicBezTo>
                  <a:pt x="16300" y="9094"/>
                  <a:pt x="15989" y="8997"/>
                  <a:pt x="15701" y="8905"/>
                </a:cubicBezTo>
                <a:cubicBezTo>
                  <a:pt x="15363" y="8798"/>
                  <a:pt x="14964" y="8715"/>
                  <a:pt x="14610" y="8682"/>
                </a:cubicBezTo>
                <a:cubicBezTo>
                  <a:pt x="14270" y="8651"/>
                  <a:pt x="13907" y="8677"/>
                  <a:pt x="13568" y="8706"/>
                </a:cubicBezTo>
                <a:cubicBezTo>
                  <a:pt x="13254" y="8733"/>
                  <a:pt x="12949" y="8776"/>
                  <a:pt x="12650" y="8880"/>
                </a:cubicBezTo>
                <a:cubicBezTo>
                  <a:pt x="12358" y="8982"/>
                  <a:pt x="12087" y="9117"/>
                  <a:pt x="11881" y="9351"/>
                </a:cubicBezTo>
                <a:cubicBezTo>
                  <a:pt x="11792" y="9452"/>
                  <a:pt x="11629" y="9631"/>
                  <a:pt x="11609" y="9773"/>
                </a:cubicBezTo>
                <a:cubicBezTo>
                  <a:pt x="11583" y="9958"/>
                  <a:pt x="11643" y="10081"/>
                  <a:pt x="11782" y="10220"/>
                </a:cubicBezTo>
                <a:cubicBezTo>
                  <a:pt x="12018" y="10456"/>
                  <a:pt x="12354" y="10517"/>
                  <a:pt x="12675" y="10542"/>
                </a:cubicBezTo>
                <a:cubicBezTo>
                  <a:pt x="13021" y="10569"/>
                  <a:pt x="13370" y="10586"/>
                  <a:pt x="13717" y="10616"/>
                </a:cubicBezTo>
                <a:cubicBezTo>
                  <a:pt x="14101" y="10649"/>
                  <a:pt x="14475" y="10648"/>
                  <a:pt x="14858" y="10641"/>
                </a:cubicBezTo>
                <a:cubicBezTo>
                  <a:pt x="15243" y="10634"/>
                  <a:pt x="15643" y="10635"/>
                  <a:pt x="16024" y="10567"/>
                </a:cubicBezTo>
                <a:cubicBezTo>
                  <a:pt x="16272" y="10523"/>
                  <a:pt x="16573" y="10449"/>
                  <a:pt x="16768" y="10294"/>
                </a:cubicBezTo>
                <a:cubicBezTo>
                  <a:pt x="16829" y="10245"/>
                  <a:pt x="16922" y="10131"/>
                  <a:pt x="16942" y="10046"/>
                </a:cubicBezTo>
                <a:cubicBezTo>
                  <a:pt x="16966" y="9946"/>
                  <a:pt x="16936" y="9837"/>
                  <a:pt x="16892" y="9748"/>
                </a:cubicBezTo>
                <a:cubicBezTo>
                  <a:pt x="16865" y="9694"/>
                  <a:pt x="16827" y="9648"/>
                  <a:pt x="16793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0680" y="3705120"/>
            <a:ext cx="1420560" cy="920880"/>
          </a:xfrm>
          <a:custGeom>
            <a:avLst/>
            <a:gdLst/>
            <a:ahLst/>
            <a:rect l="l" t="t" r="r" b="b"/>
            <a:pathLst>
              <a:path w="3945" h="2556">
                <a:moveTo>
                  <a:pt x="2778" y="10418"/>
                </a:moveTo>
                <a:cubicBezTo>
                  <a:pt x="2723" y="10397"/>
                  <a:pt x="2668" y="10387"/>
                  <a:pt x="2604" y="10368"/>
                </a:cubicBezTo>
                <a:cubicBezTo>
                  <a:pt x="2461" y="10325"/>
                  <a:pt x="2333" y="10298"/>
                  <a:pt x="2183" y="10294"/>
                </a:cubicBezTo>
                <a:cubicBezTo>
                  <a:pt x="2060" y="10291"/>
                  <a:pt x="1915" y="10325"/>
                  <a:pt x="1811" y="10393"/>
                </a:cubicBezTo>
                <a:cubicBezTo>
                  <a:pt x="1707" y="10461"/>
                  <a:pt x="1669" y="10521"/>
                  <a:pt x="1588" y="10616"/>
                </a:cubicBezTo>
                <a:cubicBezTo>
                  <a:pt x="1488" y="10733"/>
                  <a:pt x="1431" y="10813"/>
                  <a:pt x="1389" y="10964"/>
                </a:cubicBezTo>
                <a:cubicBezTo>
                  <a:pt x="1339" y="11142"/>
                  <a:pt x="1417" y="11309"/>
                  <a:pt x="1513" y="11460"/>
                </a:cubicBezTo>
                <a:cubicBezTo>
                  <a:pt x="1601" y="11598"/>
                  <a:pt x="1707" y="11733"/>
                  <a:pt x="1836" y="11832"/>
                </a:cubicBezTo>
                <a:cubicBezTo>
                  <a:pt x="1987" y="11947"/>
                  <a:pt x="2244" y="11998"/>
                  <a:pt x="2431" y="11956"/>
                </a:cubicBezTo>
                <a:cubicBezTo>
                  <a:pt x="2628" y="11912"/>
                  <a:pt x="2714" y="11781"/>
                  <a:pt x="2778" y="11609"/>
                </a:cubicBezTo>
                <a:cubicBezTo>
                  <a:pt x="2851" y="11413"/>
                  <a:pt x="2887" y="11219"/>
                  <a:pt x="2902" y="11013"/>
                </a:cubicBezTo>
                <a:cubicBezTo>
                  <a:pt x="2912" y="10882"/>
                  <a:pt x="2903" y="10715"/>
                  <a:pt x="2853" y="10592"/>
                </a:cubicBezTo>
                <a:cubicBezTo>
                  <a:pt x="2821" y="10513"/>
                  <a:pt x="2743" y="10394"/>
                  <a:pt x="2704" y="10344"/>
                </a:cubicBezTo>
                <a:cubicBezTo>
                  <a:pt x="2678" y="10311"/>
                  <a:pt x="2659" y="10309"/>
                  <a:pt x="2629" y="10294"/>
                </a:cubicBezTo>
              </a:path>
              <a:path w="3945" h="2556">
                <a:moveTo>
                  <a:pt x="3845" y="11336"/>
                </a:moveTo>
                <a:cubicBezTo>
                  <a:pt x="3954" y="11344"/>
                  <a:pt x="4077" y="11353"/>
                  <a:pt x="4142" y="11460"/>
                </a:cubicBezTo>
                <a:cubicBezTo>
                  <a:pt x="4187" y="11534"/>
                  <a:pt x="4220" y="11699"/>
                  <a:pt x="4192" y="11782"/>
                </a:cubicBezTo>
                <a:cubicBezTo>
                  <a:pt x="4151" y="11904"/>
                  <a:pt x="4083" y="11962"/>
                  <a:pt x="3969" y="11931"/>
                </a:cubicBezTo>
                <a:cubicBezTo>
                  <a:pt x="3895" y="11911"/>
                  <a:pt x="3791" y="11896"/>
                  <a:pt x="3770" y="11807"/>
                </a:cubicBezTo>
                <a:cubicBezTo>
                  <a:pt x="3770" y="11766"/>
                  <a:pt x="3770" y="11758"/>
                  <a:pt x="3770" y="11733"/>
                </a:cubicBezTo>
                <a:cubicBezTo>
                  <a:pt x="3890" y="11705"/>
                  <a:pt x="3998" y="11692"/>
                  <a:pt x="4118" y="11733"/>
                </a:cubicBezTo>
                <a:cubicBezTo>
                  <a:pt x="4205" y="11763"/>
                  <a:pt x="4240" y="11844"/>
                  <a:pt x="4341" y="11857"/>
                </a:cubicBezTo>
                <a:cubicBezTo>
                  <a:pt x="4374" y="11857"/>
                  <a:pt x="4407" y="11857"/>
                  <a:pt x="4440" y="11857"/>
                </a:cubicBezTo>
              </a:path>
              <a:path w="3945" h="2556">
                <a:moveTo>
                  <a:pt x="4738" y="11385"/>
                </a:moveTo>
                <a:cubicBezTo>
                  <a:pt x="4660" y="11340"/>
                  <a:pt x="4591" y="11354"/>
                  <a:pt x="4514" y="11410"/>
                </a:cubicBezTo>
                <a:cubicBezTo>
                  <a:pt x="4433" y="11469"/>
                  <a:pt x="4400" y="11636"/>
                  <a:pt x="4539" y="11658"/>
                </a:cubicBezTo>
                <a:cubicBezTo>
                  <a:pt x="4634" y="11673"/>
                  <a:pt x="4650" y="11560"/>
                  <a:pt x="4688" y="11509"/>
                </a:cubicBezTo>
                <a:cubicBezTo>
                  <a:pt x="4688" y="11604"/>
                  <a:pt x="4724" y="11690"/>
                  <a:pt x="4738" y="11782"/>
                </a:cubicBezTo>
                <a:cubicBezTo>
                  <a:pt x="4746" y="11836"/>
                  <a:pt x="4744" y="11861"/>
                  <a:pt x="4713" y="11881"/>
                </a:cubicBezTo>
              </a:path>
              <a:path w="3945" h="2556">
                <a:moveTo>
                  <a:pt x="3001" y="12378"/>
                </a:moveTo>
                <a:cubicBezTo>
                  <a:pt x="3178" y="12313"/>
                  <a:pt x="3336" y="12320"/>
                  <a:pt x="3522" y="12303"/>
                </a:cubicBezTo>
                <a:cubicBezTo>
                  <a:pt x="3820" y="12275"/>
                  <a:pt x="4117" y="12275"/>
                  <a:pt x="4415" y="12254"/>
                </a:cubicBezTo>
                <a:cubicBezTo>
                  <a:pt x="4632" y="12239"/>
                  <a:pt x="4842" y="12229"/>
                  <a:pt x="5060" y="12229"/>
                </a:cubicBezTo>
                <a:cubicBezTo>
                  <a:pt x="5149" y="12229"/>
                  <a:pt x="5252" y="12210"/>
                  <a:pt x="5308" y="12204"/>
                </a:cubicBezTo>
              </a:path>
              <a:path w="3945" h="2556">
                <a:moveTo>
                  <a:pt x="3001" y="11733"/>
                </a:moveTo>
                <a:cubicBezTo>
                  <a:pt x="3055" y="11701"/>
                  <a:pt x="3133" y="11678"/>
                  <a:pt x="3200" y="11658"/>
                </a:cubicBezTo>
                <a:cubicBezTo>
                  <a:pt x="3298" y="11629"/>
                  <a:pt x="3396" y="11568"/>
                  <a:pt x="3497" y="11559"/>
                </a:cubicBezTo>
                <a:cubicBezTo>
                  <a:pt x="3525" y="11559"/>
                  <a:pt x="3536" y="11557"/>
                  <a:pt x="3547" y="11534"/>
                </a:cubicBezTo>
              </a:path>
              <a:path w="3945" h="2556">
                <a:moveTo>
                  <a:pt x="4738" y="12576"/>
                </a:moveTo>
                <a:cubicBezTo>
                  <a:pt x="4663" y="12632"/>
                  <a:pt x="4667" y="12744"/>
                  <a:pt x="4738" y="12824"/>
                </a:cubicBezTo>
                <a:cubicBezTo>
                  <a:pt x="4798" y="12892"/>
                  <a:pt x="4858" y="12823"/>
                  <a:pt x="4887" y="12774"/>
                </a:cubicBezTo>
                <a:cubicBezTo>
                  <a:pt x="4923" y="12713"/>
                  <a:pt x="4921" y="12650"/>
                  <a:pt x="4911" y="12601"/>
                </a:cubicBezTo>
                <a:cubicBezTo>
                  <a:pt x="4905" y="12573"/>
                  <a:pt x="4848" y="12555"/>
                  <a:pt x="4812" y="12551"/>
                </a:cubicBezTo>
                <a:cubicBezTo>
                  <a:pt x="4804" y="12551"/>
                  <a:pt x="4795" y="12551"/>
                  <a:pt x="4787" y="12551"/>
                </a:cubicBezTo>
              </a:path>
              <a:path w="3945" h="2556">
                <a:moveTo>
                  <a:pt x="3646" y="10964"/>
                </a:moveTo>
                <a:cubicBezTo>
                  <a:pt x="3744" y="10948"/>
                  <a:pt x="3778" y="10943"/>
                  <a:pt x="3870" y="11013"/>
                </a:cubicBezTo>
                <a:cubicBezTo>
                  <a:pt x="4091" y="11181"/>
                  <a:pt x="4268" y="11412"/>
                  <a:pt x="4465" y="11609"/>
                </a:cubicBezTo>
                <a:cubicBezTo>
                  <a:pt x="4540" y="11684"/>
                  <a:pt x="4763" y="11819"/>
                  <a:pt x="4688" y="11857"/>
                </a:cubicBezTo>
              </a:path>
              <a:path w="3945" h="2556">
                <a:moveTo>
                  <a:pt x="4440" y="10815"/>
                </a:moveTo>
                <a:cubicBezTo>
                  <a:pt x="4417" y="10954"/>
                  <a:pt x="4406" y="11094"/>
                  <a:pt x="4390" y="11237"/>
                </a:cubicBezTo>
                <a:cubicBezTo>
                  <a:pt x="4365" y="11458"/>
                  <a:pt x="4347" y="11639"/>
                  <a:pt x="4366" y="11857"/>
                </a:cubicBezTo>
                <a:cubicBezTo>
                  <a:pt x="4366" y="11925"/>
                  <a:pt x="4363" y="11944"/>
                  <a:pt x="4390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4116240"/>
            <a:ext cx="750600" cy="428760"/>
          </a:xfrm>
          <a:custGeom>
            <a:avLst/>
            <a:gdLst/>
            <a:ahLst/>
            <a:rect l="l" t="t" r="r" b="b"/>
            <a:pathLst>
              <a:path w="2084" h="1192">
                <a:moveTo>
                  <a:pt x="7392" y="11931"/>
                </a:moveTo>
                <a:cubicBezTo>
                  <a:pt x="7436" y="11920"/>
                  <a:pt x="7479" y="11890"/>
                  <a:pt x="7516" y="11857"/>
                </a:cubicBezTo>
                <a:cubicBezTo>
                  <a:pt x="7546" y="11827"/>
                  <a:pt x="7557" y="11813"/>
                  <a:pt x="7565" y="11782"/>
                </a:cubicBezTo>
              </a:path>
              <a:path w="2084" h="1192">
                <a:moveTo>
                  <a:pt x="8012" y="11633"/>
                </a:moveTo>
                <a:cubicBezTo>
                  <a:pt x="8107" y="11592"/>
                  <a:pt x="8216" y="11512"/>
                  <a:pt x="8310" y="11485"/>
                </a:cubicBezTo>
                <a:cubicBezTo>
                  <a:pt x="8424" y="11453"/>
                  <a:pt x="8476" y="11510"/>
                  <a:pt x="8508" y="11609"/>
                </a:cubicBezTo>
                <a:cubicBezTo>
                  <a:pt x="8551" y="11741"/>
                  <a:pt x="8532" y="11839"/>
                  <a:pt x="8458" y="11956"/>
                </a:cubicBezTo>
                <a:cubicBezTo>
                  <a:pt x="8399" y="12049"/>
                  <a:pt x="8236" y="12189"/>
                  <a:pt x="8111" y="12154"/>
                </a:cubicBezTo>
                <a:cubicBezTo>
                  <a:pt x="8024" y="12130"/>
                  <a:pt x="8037" y="12072"/>
                  <a:pt x="8012" y="12005"/>
                </a:cubicBezTo>
                <a:cubicBezTo>
                  <a:pt x="8090" y="11929"/>
                  <a:pt x="8177" y="11956"/>
                  <a:pt x="8285" y="11956"/>
                </a:cubicBezTo>
                <a:cubicBezTo>
                  <a:pt x="8371" y="11956"/>
                  <a:pt x="8462" y="11983"/>
                  <a:pt x="8508" y="12005"/>
                </a:cubicBezTo>
                <a:cubicBezTo>
                  <a:pt x="8516" y="12005"/>
                  <a:pt x="8525" y="12005"/>
                  <a:pt x="8533" y="12005"/>
                </a:cubicBezTo>
              </a:path>
              <a:path w="2084" h="1192">
                <a:moveTo>
                  <a:pt x="8855" y="11460"/>
                </a:moveTo>
                <a:cubicBezTo>
                  <a:pt x="8842" y="11421"/>
                  <a:pt x="8792" y="11434"/>
                  <a:pt x="8756" y="11460"/>
                </a:cubicBezTo>
                <a:cubicBezTo>
                  <a:pt x="8661" y="11528"/>
                  <a:pt x="8625" y="11640"/>
                  <a:pt x="8632" y="11757"/>
                </a:cubicBezTo>
                <a:cubicBezTo>
                  <a:pt x="8638" y="11857"/>
                  <a:pt x="8736" y="11924"/>
                  <a:pt x="8830" y="11906"/>
                </a:cubicBezTo>
                <a:cubicBezTo>
                  <a:pt x="8913" y="11890"/>
                  <a:pt x="8947" y="11753"/>
                  <a:pt x="8930" y="11683"/>
                </a:cubicBezTo>
                <a:cubicBezTo>
                  <a:pt x="8920" y="11642"/>
                  <a:pt x="8890" y="11639"/>
                  <a:pt x="8880" y="11609"/>
                </a:cubicBezTo>
                <a:cubicBezTo>
                  <a:pt x="8847" y="11620"/>
                  <a:pt x="8844" y="11661"/>
                  <a:pt x="8855" y="11708"/>
                </a:cubicBezTo>
                <a:cubicBezTo>
                  <a:pt x="8871" y="11777"/>
                  <a:pt x="8887" y="11847"/>
                  <a:pt x="8905" y="11906"/>
                </a:cubicBezTo>
                <a:cubicBezTo>
                  <a:pt x="8922" y="11962"/>
                  <a:pt x="8901" y="12032"/>
                  <a:pt x="8954" y="12080"/>
                </a:cubicBezTo>
                <a:cubicBezTo>
                  <a:pt x="8980" y="12103"/>
                  <a:pt x="8988" y="12094"/>
                  <a:pt x="9004" y="12129"/>
                </a:cubicBezTo>
                <a:cubicBezTo>
                  <a:pt x="9012" y="12146"/>
                  <a:pt x="9021" y="12162"/>
                  <a:pt x="9029" y="12179"/>
                </a:cubicBezTo>
              </a:path>
              <a:path w="2084" h="1192">
                <a:moveTo>
                  <a:pt x="7615" y="12526"/>
                </a:moveTo>
                <a:cubicBezTo>
                  <a:pt x="7895" y="12534"/>
                  <a:pt x="8129" y="12496"/>
                  <a:pt x="8409" y="12452"/>
                </a:cubicBezTo>
                <a:cubicBezTo>
                  <a:pt x="8736" y="12400"/>
                  <a:pt x="9070" y="12363"/>
                  <a:pt x="9401" y="12353"/>
                </a:cubicBezTo>
                <a:cubicBezTo>
                  <a:pt x="9479" y="12351"/>
                  <a:pt x="9467" y="12306"/>
                  <a:pt x="9475" y="12229"/>
                </a:cubicBezTo>
              </a:path>
              <a:path w="2084" h="1192">
                <a:moveTo>
                  <a:pt x="8210" y="12626"/>
                </a:moveTo>
                <a:lnTo>
                  <a:pt x="8210" y="12626"/>
                </a:lnTo>
              </a:path>
              <a:path w="2084" h="1192">
                <a:moveTo>
                  <a:pt x="8210" y="12626"/>
                </a:moveTo>
                <a:cubicBezTo>
                  <a:pt x="8210" y="12598"/>
                  <a:pt x="8208" y="12587"/>
                  <a:pt x="8186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3813120"/>
            <a:ext cx="1170000" cy="446040"/>
          </a:xfrm>
          <a:custGeom>
            <a:avLst/>
            <a:gdLst/>
            <a:ahLst/>
            <a:rect l="l" t="t" r="r" b="b"/>
            <a:pathLst>
              <a:path w="3250" h="1241">
                <a:moveTo>
                  <a:pt x="10790" y="11063"/>
                </a:moveTo>
                <a:cubicBezTo>
                  <a:pt x="10815" y="11160"/>
                  <a:pt x="10853" y="11282"/>
                  <a:pt x="10889" y="11385"/>
                </a:cubicBezTo>
                <a:cubicBezTo>
                  <a:pt x="10927" y="11492"/>
                  <a:pt x="10970" y="11596"/>
                  <a:pt x="10988" y="11708"/>
                </a:cubicBezTo>
              </a:path>
              <a:path w="3250" h="1241">
                <a:moveTo>
                  <a:pt x="11137" y="11038"/>
                </a:moveTo>
                <a:cubicBezTo>
                  <a:pt x="11229" y="10989"/>
                  <a:pt x="11296" y="10938"/>
                  <a:pt x="11385" y="10964"/>
                </a:cubicBezTo>
                <a:cubicBezTo>
                  <a:pt x="11353" y="11112"/>
                  <a:pt x="11272" y="11229"/>
                  <a:pt x="11187" y="11361"/>
                </a:cubicBezTo>
                <a:cubicBezTo>
                  <a:pt x="11287" y="11345"/>
                  <a:pt x="11401" y="11279"/>
                  <a:pt x="11509" y="11311"/>
                </a:cubicBezTo>
                <a:cubicBezTo>
                  <a:pt x="11561" y="11326"/>
                  <a:pt x="11581" y="11464"/>
                  <a:pt x="11584" y="11509"/>
                </a:cubicBezTo>
                <a:cubicBezTo>
                  <a:pt x="11590" y="11620"/>
                  <a:pt x="11422" y="11639"/>
                  <a:pt x="11336" y="11658"/>
                </a:cubicBezTo>
                <a:cubicBezTo>
                  <a:pt x="11280" y="11670"/>
                  <a:pt x="11291" y="11617"/>
                  <a:pt x="11286" y="11584"/>
                </a:cubicBezTo>
              </a:path>
              <a:path w="3250" h="1241">
                <a:moveTo>
                  <a:pt x="12030" y="11187"/>
                </a:moveTo>
                <a:cubicBezTo>
                  <a:pt x="12134" y="11257"/>
                  <a:pt x="12208" y="11236"/>
                  <a:pt x="12328" y="11212"/>
                </a:cubicBezTo>
                <a:cubicBezTo>
                  <a:pt x="12369" y="11204"/>
                  <a:pt x="12411" y="11195"/>
                  <a:pt x="12452" y="11187"/>
                </a:cubicBezTo>
              </a:path>
              <a:path w="3250" h="1241">
                <a:moveTo>
                  <a:pt x="12650" y="10988"/>
                </a:moveTo>
                <a:cubicBezTo>
                  <a:pt x="12802" y="10951"/>
                  <a:pt x="12905" y="10910"/>
                  <a:pt x="13047" y="10988"/>
                </a:cubicBezTo>
                <a:cubicBezTo>
                  <a:pt x="13143" y="11041"/>
                  <a:pt x="13223" y="11145"/>
                  <a:pt x="13196" y="11261"/>
                </a:cubicBezTo>
                <a:cubicBezTo>
                  <a:pt x="13156" y="11431"/>
                  <a:pt x="13065" y="11548"/>
                  <a:pt x="12923" y="11633"/>
                </a:cubicBezTo>
                <a:cubicBezTo>
                  <a:pt x="12826" y="11691"/>
                  <a:pt x="12731" y="11610"/>
                  <a:pt x="12650" y="11559"/>
                </a:cubicBezTo>
                <a:cubicBezTo>
                  <a:pt x="12650" y="11457"/>
                  <a:pt x="12747" y="11410"/>
                  <a:pt x="12849" y="11410"/>
                </a:cubicBezTo>
                <a:cubicBezTo>
                  <a:pt x="12940" y="11410"/>
                  <a:pt x="12985" y="11486"/>
                  <a:pt x="13047" y="11534"/>
                </a:cubicBezTo>
                <a:cubicBezTo>
                  <a:pt x="13115" y="11587"/>
                  <a:pt x="13166" y="11647"/>
                  <a:pt x="13246" y="11658"/>
                </a:cubicBezTo>
              </a:path>
              <a:path w="3250" h="1241">
                <a:moveTo>
                  <a:pt x="14039" y="11063"/>
                </a:moveTo>
                <a:cubicBezTo>
                  <a:pt x="13999" y="10962"/>
                  <a:pt x="13935" y="10963"/>
                  <a:pt x="13841" y="10939"/>
                </a:cubicBezTo>
                <a:cubicBezTo>
                  <a:pt x="13720" y="10907"/>
                  <a:pt x="13598" y="10936"/>
                  <a:pt x="13494" y="11013"/>
                </a:cubicBezTo>
                <a:cubicBezTo>
                  <a:pt x="13397" y="11085"/>
                  <a:pt x="13424" y="11142"/>
                  <a:pt x="13469" y="11237"/>
                </a:cubicBezTo>
                <a:cubicBezTo>
                  <a:pt x="13524" y="11351"/>
                  <a:pt x="13663" y="11314"/>
                  <a:pt x="13742" y="11237"/>
                </a:cubicBezTo>
                <a:cubicBezTo>
                  <a:pt x="13760" y="11220"/>
                  <a:pt x="13884" y="11078"/>
                  <a:pt x="13891" y="11063"/>
                </a:cubicBezTo>
                <a:cubicBezTo>
                  <a:pt x="13907" y="11031"/>
                  <a:pt x="13901" y="11042"/>
                  <a:pt x="13940" y="11013"/>
                </a:cubicBezTo>
                <a:cubicBezTo>
                  <a:pt x="13940" y="11099"/>
                  <a:pt x="13917" y="11171"/>
                  <a:pt x="13915" y="11261"/>
                </a:cubicBezTo>
                <a:cubicBezTo>
                  <a:pt x="13912" y="11405"/>
                  <a:pt x="13900" y="11541"/>
                  <a:pt x="13891" y="11683"/>
                </a:cubicBezTo>
                <a:cubicBezTo>
                  <a:pt x="13888" y="11732"/>
                  <a:pt x="13915" y="11778"/>
                  <a:pt x="13915" y="11832"/>
                </a:cubicBezTo>
              </a:path>
              <a:path w="3250" h="1241">
                <a:moveTo>
                  <a:pt x="12278" y="11137"/>
                </a:moveTo>
                <a:cubicBezTo>
                  <a:pt x="12236" y="11105"/>
                  <a:pt x="12229" y="11118"/>
                  <a:pt x="12229" y="11063"/>
                </a:cubicBezTo>
                <a:cubicBezTo>
                  <a:pt x="12229" y="11038"/>
                  <a:pt x="12229" y="11013"/>
                  <a:pt x="12229" y="10988"/>
                </a:cubicBezTo>
                <a:cubicBezTo>
                  <a:pt x="12267" y="11113"/>
                  <a:pt x="12296" y="11231"/>
                  <a:pt x="12303" y="11361"/>
                </a:cubicBezTo>
                <a:cubicBezTo>
                  <a:pt x="12304" y="11385"/>
                  <a:pt x="12303" y="11410"/>
                  <a:pt x="12303" y="11435"/>
                </a:cubicBezTo>
              </a:path>
              <a:path w="3250" h="1241">
                <a:moveTo>
                  <a:pt x="12105" y="10641"/>
                </a:moveTo>
                <a:cubicBezTo>
                  <a:pt x="12209" y="10641"/>
                  <a:pt x="12301" y="10628"/>
                  <a:pt x="12402" y="10616"/>
                </a:cubicBezTo>
                <a:cubicBezTo>
                  <a:pt x="12463" y="10609"/>
                  <a:pt x="12519" y="10598"/>
                  <a:pt x="12576" y="10592"/>
                </a:cubicBezTo>
                <a:cubicBezTo>
                  <a:pt x="12584" y="10592"/>
                  <a:pt x="12593" y="10592"/>
                  <a:pt x="12601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67240" y="3705120"/>
            <a:ext cx="1963800" cy="608040"/>
          </a:xfrm>
          <a:custGeom>
            <a:avLst/>
            <a:gdLst/>
            <a:ahLst/>
            <a:rect l="l" t="t" r="r" b="b"/>
            <a:pathLst>
              <a:path w="5458" h="1688">
                <a:moveTo>
                  <a:pt x="16470" y="11584"/>
                </a:moveTo>
                <a:cubicBezTo>
                  <a:pt x="16328" y="11706"/>
                  <a:pt x="16300" y="11727"/>
                  <a:pt x="16222" y="11807"/>
                </a:cubicBezTo>
              </a:path>
              <a:path w="5458" h="1688">
                <a:moveTo>
                  <a:pt x="16297" y="11088"/>
                </a:moveTo>
                <a:cubicBezTo>
                  <a:pt x="16272" y="11088"/>
                  <a:pt x="16247" y="11088"/>
                  <a:pt x="16222" y="11088"/>
                </a:cubicBezTo>
                <a:cubicBezTo>
                  <a:pt x="16233" y="11228"/>
                  <a:pt x="16279" y="11351"/>
                  <a:pt x="16321" y="11485"/>
                </a:cubicBezTo>
                <a:cubicBezTo>
                  <a:pt x="16327" y="11504"/>
                  <a:pt x="16428" y="11841"/>
                  <a:pt x="16446" y="11832"/>
                </a:cubicBezTo>
                <a:cubicBezTo>
                  <a:pt x="16446" y="11815"/>
                  <a:pt x="16446" y="11799"/>
                  <a:pt x="16446" y="11782"/>
                </a:cubicBezTo>
              </a:path>
              <a:path w="5458" h="1688">
                <a:moveTo>
                  <a:pt x="16669" y="10815"/>
                </a:moveTo>
                <a:cubicBezTo>
                  <a:pt x="16789" y="10802"/>
                  <a:pt x="16917" y="10749"/>
                  <a:pt x="16892" y="10914"/>
                </a:cubicBezTo>
                <a:cubicBezTo>
                  <a:pt x="16881" y="10985"/>
                  <a:pt x="16832" y="11017"/>
                  <a:pt x="16842" y="11038"/>
                </a:cubicBezTo>
                <a:cubicBezTo>
                  <a:pt x="16945" y="11059"/>
                  <a:pt x="17053" y="11044"/>
                  <a:pt x="17165" y="11063"/>
                </a:cubicBezTo>
                <a:cubicBezTo>
                  <a:pt x="17241" y="11076"/>
                  <a:pt x="17255" y="11247"/>
                  <a:pt x="17239" y="11311"/>
                </a:cubicBezTo>
                <a:cubicBezTo>
                  <a:pt x="17216" y="11403"/>
                  <a:pt x="17112" y="11577"/>
                  <a:pt x="16991" y="11534"/>
                </a:cubicBezTo>
                <a:cubicBezTo>
                  <a:pt x="16928" y="11511"/>
                  <a:pt x="16880" y="11411"/>
                  <a:pt x="16867" y="11361"/>
                </a:cubicBezTo>
              </a:path>
              <a:path w="5458" h="1688">
                <a:moveTo>
                  <a:pt x="15949" y="11534"/>
                </a:moveTo>
                <a:cubicBezTo>
                  <a:pt x="15922" y="11534"/>
                  <a:pt x="15798" y="11546"/>
                  <a:pt x="15850" y="11534"/>
                </a:cubicBezTo>
                <a:cubicBezTo>
                  <a:pt x="15927" y="11516"/>
                  <a:pt x="16087" y="11496"/>
                  <a:pt x="16123" y="11460"/>
                </a:cubicBezTo>
              </a:path>
              <a:path w="5458" h="1688">
                <a:moveTo>
                  <a:pt x="14908" y="11509"/>
                </a:moveTo>
                <a:cubicBezTo>
                  <a:pt x="14989" y="11435"/>
                  <a:pt x="15059" y="11367"/>
                  <a:pt x="15180" y="11385"/>
                </a:cubicBezTo>
                <a:cubicBezTo>
                  <a:pt x="15281" y="11400"/>
                  <a:pt x="15374" y="11504"/>
                  <a:pt x="15354" y="11609"/>
                </a:cubicBezTo>
                <a:cubicBezTo>
                  <a:pt x="15334" y="11715"/>
                  <a:pt x="15223" y="11943"/>
                  <a:pt x="15106" y="11981"/>
                </a:cubicBezTo>
                <a:cubicBezTo>
                  <a:pt x="15021" y="12008"/>
                  <a:pt x="14986" y="11978"/>
                  <a:pt x="14982" y="11906"/>
                </a:cubicBezTo>
                <a:cubicBezTo>
                  <a:pt x="14982" y="11890"/>
                  <a:pt x="14982" y="11873"/>
                  <a:pt x="14982" y="11857"/>
                </a:cubicBezTo>
                <a:cubicBezTo>
                  <a:pt x="15090" y="11832"/>
                  <a:pt x="15150" y="11850"/>
                  <a:pt x="15255" y="11857"/>
                </a:cubicBezTo>
                <a:cubicBezTo>
                  <a:pt x="15271" y="11857"/>
                  <a:pt x="15288" y="11857"/>
                  <a:pt x="15304" y="11857"/>
                </a:cubicBezTo>
              </a:path>
              <a:path w="5458" h="1688">
                <a:moveTo>
                  <a:pt x="15751" y="11361"/>
                </a:moveTo>
                <a:cubicBezTo>
                  <a:pt x="15680" y="11334"/>
                  <a:pt x="15592" y="11321"/>
                  <a:pt x="15528" y="11385"/>
                </a:cubicBezTo>
                <a:cubicBezTo>
                  <a:pt x="15496" y="11417"/>
                  <a:pt x="15449" y="11531"/>
                  <a:pt x="15453" y="11559"/>
                </a:cubicBezTo>
                <a:cubicBezTo>
                  <a:pt x="15465" y="11651"/>
                  <a:pt x="15575" y="11606"/>
                  <a:pt x="15627" y="11584"/>
                </a:cubicBezTo>
                <a:cubicBezTo>
                  <a:pt x="15689" y="11558"/>
                  <a:pt x="15716" y="11501"/>
                  <a:pt x="15726" y="11435"/>
                </a:cubicBezTo>
                <a:cubicBezTo>
                  <a:pt x="15726" y="11427"/>
                  <a:pt x="15726" y="11418"/>
                  <a:pt x="15726" y="11410"/>
                </a:cubicBezTo>
                <a:cubicBezTo>
                  <a:pt x="15739" y="11487"/>
                  <a:pt x="15764" y="11587"/>
                  <a:pt x="15801" y="11658"/>
                </a:cubicBezTo>
                <a:cubicBezTo>
                  <a:pt x="15834" y="11723"/>
                  <a:pt x="15893" y="11758"/>
                  <a:pt x="15900" y="11832"/>
                </a:cubicBezTo>
                <a:cubicBezTo>
                  <a:pt x="15900" y="11840"/>
                  <a:pt x="15900" y="11849"/>
                  <a:pt x="15900" y="11857"/>
                </a:cubicBezTo>
              </a:path>
              <a:path w="5458" h="1688">
                <a:moveTo>
                  <a:pt x="17835" y="10988"/>
                </a:moveTo>
                <a:cubicBezTo>
                  <a:pt x="17924" y="10958"/>
                  <a:pt x="18049" y="10918"/>
                  <a:pt x="18132" y="10864"/>
                </a:cubicBezTo>
                <a:cubicBezTo>
                  <a:pt x="18171" y="10826"/>
                  <a:pt x="18203" y="10809"/>
                  <a:pt x="18157" y="10815"/>
                </a:cubicBezTo>
              </a:path>
              <a:path w="5458" h="1688">
                <a:moveTo>
                  <a:pt x="17959" y="11212"/>
                </a:moveTo>
                <a:cubicBezTo>
                  <a:pt x="18092" y="11176"/>
                  <a:pt x="18147" y="11168"/>
                  <a:pt x="18231" y="11063"/>
                </a:cubicBezTo>
              </a:path>
              <a:path w="5458" h="1688">
                <a:moveTo>
                  <a:pt x="19124" y="10418"/>
                </a:moveTo>
                <a:cubicBezTo>
                  <a:pt x="19211" y="10522"/>
                  <a:pt x="19255" y="10648"/>
                  <a:pt x="19323" y="10765"/>
                </a:cubicBezTo>
                <a:cubicBezTo>
                  <a:pt x="19377" y="10858"/>
                  <a:pt x="19460" y="10970"/>
                  <a:pt x="19496" y="11063"/>
                </a:cubicBezTo>
              </a:path>
              <a:path w="5458" h="1688">
                <a:moveTo>
                  <a:pt x="19670" y="10294"/>
                </a:moveTo>
                <a:cubicBezTo>
                  <a:pt x="19670" y="10426"/>
                  <a:pt x="19676" y="10565"/>
                  <a:pt x="19720" y="10691"/>
                </a:cubicBezTo>
                <a:cubicBezTo>
                  <a:pt x="19758" y="10799"/>
                  <a:pt x="19828" y="10939"/>
                  <a:pt x="19918" y="11013"/>
                </a:cubicBezTo>
                <a:cubicBezTo>
                  <a:pt x="20017" y="11095"/>
                  <a:pt x="20167" y="11070"/>
                  <a:pt x="20265" y="10988"/>
                </a:cubicBezTo>
                <a:cubicBezTo>
                  <a:pt x="20369" y="10900"/>
                  <a:pt x="20369" y="10807"/>
                  <a:pt x="20340" y="10691"/>
                </a:cubicBezTo>
                <a:cubicBezTo>
                  <a:pt x="20223" y="10691"/>
                  <a:pt x="20154" y="10707"/>
                  <a:pt x="20092" y="10815"/>
                </a:cubicBezTo>
                <a:cubicBezTo>
                  <a:pt x="20044" y="10899"/>
                  <a:pt x="20040" y="11004"/>
                  <a:pt x="20141" y="11038"/>
                </a:cubicBezTo>
                <a:cubicBezTo>
                  <a:pt x="20166" y="11038"/>
                  <a:pt x="20174" y="11038"/>
                  <a:pt x="20191" y="11038"/>
                </a:cubicBezTo>
              </a:path>
              <a:path w="5458" h="1688">
                <a:moveTo>
                  <a:pt x="18604" y="11063"/>
                </a:moveTo>
                <a:cubicBezTo>
                  <a:pt x="18670" y="11063"/>
                  <a:pt x="18712" y="11055"/>
                  <a:pt x="18777" y="11038"/>
                </a:cubicBezTo>
                <a:cubicBezTo>
                  <a:pt x="18878" y="11012"/>
                  <a:pt x="18983" y="10970"/>
                  <a:pt x="19075" y="10939"/>
                </a:cubicBezTo>
                <a:cubicBezTo>
                  <a:pt x="19100" y="10939"/>
                  <a:pt x="19108" y="10939"/>
                  <a:pt x="19075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0160" y="4394160"/>
            <a:ext cx="884160" cy="463680"/>
          </a:xfrm>
          <a:custGeom>
            <a:avLst/>
            <a:gdLst/>
            <a:ahLst/>
            <a:rect l="l" t="t" r="r" b="b"/>
            <a:pathLst>
              <a:path w="2457" h="1291">
                <a:moveTo>
                  <a:pt x="12179" y="12774"/>
                </a:moveTo>
                <a:cubicBezTo>
                  <a:pt x="12287" y="12828"/>
                  <a:pt x="12405" y="12918"/>
                  <a:pt x="12526" y="12973"/>
                </a:cubicBezTo>
                <a:cubicBezTo>
                  <a:pt x="12551" y="12981"/>
                  <a:pt x="12576" y="12990"/>
                  <a:pt x="12601" y="12998"/>
                </a:cubicBezTo>
              </a:path>
              <a:path w="2457" h="1291">
                <a:moveTo>
                  <a:pt x="12526" y="12650"/>
                </a:moveTo>
                <a:cubicBezTo>
                  <a:pt x="12526" y="12725"/>
                  <a:pt x="12475" y="12792"/>
                  <a:pt x="12427" y="12849"/>
                </a:cubicBezTo>
                <a:cubicBezTo>
                  <a:pt x="12369" y="12917"/>
                  <a:pt x="12303" y="13047"/>
                  <a:pt x="12229" y="13097"/>
                </a:cubicBezTo>
                <a:cubicBezTo>
                  <a:pt x="12177" y="13132"/>
                  <a:pt x="12138" y="13137"/>
                  <a:pt x="12105" y="13196"/>
                </a:cubicBezTo>
                <a:cubicBezTo>
                  <a:pt x="12083" y="13240"/>
                  <a:pt x="12080" y="13252"/>
                  <a:pt x="12055" y="13271"/>
                </a:cubicBezTo>
              </a:path>
              <a:path w="2457" h="1291">
                <a:moveTo>
                  <a:pt x="12973" y="12849"/>
                </a:moveTo>
                <a:cubicBezTo>
                  <a:pt x="13043" y="12849"/>
                  <a:pt x="13099" y="12885"/>
                  <a:pt x="13171" y="12874"/>
                </a:cubicBezTo>
                <a:cubicBezTo>
                  <a:pt x="13242" y="12863"/>
                  <a:pt x="13303" y="12813"/>
                  <a:pt x="13345" y="12799"/>
                </a:cubicBezTo>
              </a:path>
              <a:path w="2457" h="1291">
                <a:moveTo>
                  <a:pt x="13072" y="13320"/>
                </a:moveTo>
                <a:cubicBezTo>
                  <a:pt x="13200" y="13320"/>
                  <a:pt x="13319" y="13307"/>
                  <a:pt x="13444" y="13295"/>
                </a:cubicBezTo>
                <a:cubicBezTo>
                  <a:pt x="13502" y="13295"/>
                  <a:pt x="13527" y="13312"/>
                  <a:pt x="13519" y="13271"/>
                </a:cubicBezTo>
              </a:path>
              <a:path w="2457" h="1291">
                <a:moveTo>
                  <a:pt x="14238" y="12898"/>
                </a:moveTo>
                <a:cubicBezTo>
                  <a:pt x="14261" y="12921"/>
                  <a:pt x="14237" y="12904"/>
                  <a:pt x="14263" y="12923"/>
                </a:cubicBezTo>
                <a:cubicBezTo>
                  <a:pt x="14321" y="12965"/>
                  <a:pt x="14385" y="12982"/>
                  <a:pt x="14436" y="13022"/>
                </a:cubicBezTo>
                <a:cubicBezTo>
                  <a:pt x="14450" y="13033"/>
                  <a:pt x="14501" y="13092"/>
                  <a:pt x="14511" y="13122"/>
                </a:cubicBezTo>
                <a:cubicBezTo>
                  <a:pt x="14539" y="13206"/>
                  <a:pt x="14515" y="13346"/>
                  <a:pt x="14461" y="13419"/>
                </a:cubicBezTo>
                <a:cubicBezTo>
                  <a:pt x="14391" y="13514"/>
                  <a:pt x="14245" y="13509"/>
                  <a:pt x="14139" y="13494"/>
                </a:cubicBezTo>
                <a:cubicBezTo>
                  <a:pt x="13983" y="13472"/>
                  <a:pt x="13903" y="13433"/>
                  <a:pt x="13866" y="13271"/>
                </a:cubicBezTo>
                <a:cubicBezTo>
                  <a:pt x="13837" y="13143"/>
                  <a:pt x="13956" y="13054"/>
                  <a:pt x="14039" y="12998"/>
                </a:cubicBezTo>
                <a:cubicBezTo>
                  <a:pt x="14133" y="12934"/>
                  <a:pt x="14222" y="12866"/>
                  <a:pt x="14312" y="12799"/>
                </a:cubicBezTo>
                <a:cubicBezTo>
                  <a:pt x="14374" y="12753"/>
                  <a:pt x="14464" y="12682"/>
                  <a:pt x="14486" y="12601"/>
                </a:cubicBezTo>
                <a:cubicBezTo>
                  <a:pt x="14506" y="12531"/>
                  <a:pt x="14456" y="12401"/>
                  <a:pt x="14412" y="12353"/>
                </a:cubicBezTo>
                <a:cubicBezTo>
                  <a:pt x="14350" y="12285"/>
                  <a:pt x="14176" y="12219"/>
                  <a:pt x="14089" y="12204"/>
                </a:cubicBezTo>
                <a:cubicBezTo>
                  <a:pt x="14010" y="12191"/>
                  <a:pt x="13899" y="12227"/>
                  <a:pt x="13841" y="12278"/>
                </a:cubicBezTo>
                <a:cubicBezTo>
                  <a:pt x="13731" y="12374"/>
                  <a:pt x="13772" y="12430"/>
                  <a:pt x="13816" y="12551"/>
                </a:cubicBezTo>
                <a:cubicBezTo>
                  <a:pt x="13835" y="12603"/>
                  <a:pt x="13886" y="12722"/>
                  <a:pt x="13940" y="12750"/>
                </a:cubicBezTo>
                <a:cubicBezTo>
                  <a:pt x="13994" y="12778"/>
                  <a:pt x="14065" y="12776"/>
                  <a:pt x="14114" y="12799"/>
                </a:cubicBezTo>
                <a:cubicBezTo>
                  <a:pt x="14197" y="12838"/>
                  <a:pt x="14054" y="12879"/>
                  <a:pt x="14015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83240" y="4660920"/>
            <a:ext cx="2313000" cy="1920960"/>
          </a:xfrm>
          <a:custGeom>
            <a:avLst/>
            <a:gdLst/>
            <a:ahLst/>
            <a:rect l="l" t="t" r="r" b="b"/>
            <a:pathLst>
              <a:path w="6426" h="5334">
                <a:moveTo>
                  <a:pt x="18678" y="13940"/>
                </a:moveTo>
                <a:cubicBezTo>
                  <a:pt x="18795" y="13893"/>
                  <a:pt x="18918" y="13854"/>
                  <a:pt x="19000" y="13990"/>
                </a:cubicBezTo>
                <a:cubicBezTo>
                  <a:pt x="19083" y="14129"/>
                  <a:pt x="19043" y="14314"/>
                  <a:pt x="18951" y="14436"/>
                </a:cubicBezTo>
                <a:cubicBezTo>
                  <a:pt x="18849" y="14571"/>
                  <a:pt x="18735" y="14613"/>
                  <a:pt x="18579" y="14560"/>
                </a:cubicBezTo>
                <a:cubicBezTo>
                  <a:pt x="18562" y="14552"/>
                  <a:pt x="18546" y="14544"/>
                  <a:pt x="18529" y="14536"/>
                </a:cubicBezTo>
                <a:cubicBezTo>
                  <a:pt x="18529" y="14472"/>
                  <a:pt x="18534" y="14399"/>
                  <a:pt x="18628" y="14412"/>
                </a:cubicBezTo>
                <a:cubicBezTo>
                  <a:pt x="18733" y="14426"/>
                  <a:pt x="18853" y="14518"/>
                  <a:pt x="18951" y="14560"/>
                </a:cubicBezTo>
                <a:cubicBezTo>
                  <a:pt x="18991" y="14580"/>
                  <a:pt x="19007" y="14579"/>
                  <a:pt x="19000" y="14610"/>
                </a:cubicBezTo>
              </a:path>
              <a:path w="6426" h="5334">
                <a:moveTo>
                  <a:pt x="19149" y="13990"/>
                </a:moveTo>
                <a:cubicBezTo>
                  <a:pt x="19149" y="14075"/>
                  <a:pt x="19127" y="14153"/>
                  <a:pt x="19124" y="14238"/>
                </a:cubicBezTo>
                <a:cubicBezTo>
                  <a:pt x="19121" y="14322"/>
                  <a:pt x="19116" y="14358"/>
                  <a:pt x="19124" y="14436"/>
                </a:cubicBezTo>
                <a:cubicBezTo>
                  <a:pt x="19135" y="14554"/>
                  <a:pt x="19322" y="14458"/>
                  <a:pt x="19372" y="14436"/>
                </a:cubicBezTo>
                <a:cubicBezTo>
                  <a:pt x="19462" y="14392"/>
                  <a:pt x="19492" y="14386"/>
                  <a:pt x="19496" y="14312"/>
                </a:cubicBezTo>
              </a:path>
              <a:path w="6426" h="5334">
                <a:moveTo>
                  <a:pt x="19447" y="13940"/>
                </a:moveTo>
                <a:cubicBezTo>
                  <a:pt x="19447" y="14059"/>
                  <a:pt x="19410" y="14169"/>
                  <a:pt x="19422" y="14288"/>
                </a:cubicBezTo>
                <a:cubicBezTo>
                  <a:pt x="19435" y="14413"/>
                  <a:pt x="19466" y="14535"/>
                  <a:pt x="19472" y="14660"/>
                </a:cubicBezTo>
                <a:cubicBezTo>
                  <a:pt x="19472" y="14704"/>
                  <a:pt x="19475" y="14718"/>
                  <a:pt x="19447" y="14734"/>
                </a:cubicBezTo>
              </a:path>
              <a:path w="6426" h="5334">
                <a:moveTo>
                  <a:pt x="18529" y="14957"/>
                </a:moveTo>
                <a:cubicBezTo>
                  <a:pt x="18843" y="14917"/>
                  <a:pt x="19133" y="14986"/>
                  <a:pt x="19447" y="14982"/>
                </a:cubicBezTo>
                <a:cubicBezTo>
                  <a:pt x="19522" y="14981"/>
                  <a:pt x="19646" y="14957"/>
                  <a:pt x="19571" y="14957"/>
                </a:cubicBezTo>
              </a:path>
              <a:path w="6426" h="5334">
                <a:moveTo>
                  <a:pt x="18976" y="15280"/>
                </a:moveTo>
                <a:cubicBezTo>
                  <a:pt x="19002" y="15379"/>
                  <a:pt x="19007" y="15478"/>
                  <a:pt x="19025" y="15577"/>
                </a:cubicBezTo>
                <a:cubicBezTo>
                  <a:pt x="19039" y="15656"/>
                  <a:pt x="19032" y="15790"/>
                  <a:pt x="19075" y="15776"/>
                </a:cubicBezTo>
              </a:path>
              <a:path w="6426" h="5334">
                <a:moveTo>
                  <a:pt x="19844" y="14635"/>
                </a:moveTo>
                <a:cubicBezTo>
                  <a:pt x="19836" y="14635"/>
                  <a:pt x="19827" y="14635"/>
                  <a:pt x="19819" y="14635"/>
                </a:cubicBezTo>
                <a:cubicBezTo>
                  <a:pt x="19821" y="14641"/>
                  <a:pt x="19838" y="14703"/>
                  <a:pt x="19844" y="14709"/>
                </a:cubicBezTo>
                <a:cubicBezTo>
                  <a:pt x="19941" y="14798"/>
                  <a:pt x="20061" y="14902"/>
                  <a:pt x="20166" y="14982"/>
                </a:cubicBezTo>
                <a:cubicBezTo>
                  <a:pt x="20238" y="15036"/>
                  <a:pt x="20397" y="15167"/>
                  <a:pt x="20464" y="15205"/>
                </a:cubicBezTo>
                <a:cubicBezTo>
                  <a:pt x="20489" y="15205"/>
                  <a:pt x="20497" y="15205"/>
                  <a:pt x="20489" y="15180"/>
                </a:cubicBezTo>
              </a:path>
              <a:path w="6426" h="5334">
                <a:moveTo>
                  <a:pt x="20389" y="14560"/>
                </a:moveTo>
                <a:cubicBezTo>
                  <a:pt x="20298" y="14616"/>
                  <a:pt x="20195" y="14754"/>
                  <a:pt x="20141" y="14858"/>
                </a:cubicBezTo>
                <a:cubicBezTo>
                  <a:pt x="20084" y="14968"/>
                  <a:pt x="20026" y="15110"/>
                  <a:pt x="19993" y="15230"/>
                </a:cubicBezTo>
                <a:cubicBezTo>
                  <a:pt x="19987" y="15250"/>
                  <a:pt x="19993" y="15283"/>
                  <a:pt x="19993" y="15304"/>
                </a:cubicBezTo>
              </a:path>
              <a:path w="6426" h="5334">
                <a:moveTo>
                  <a:pt x="21109" y="14238"/>
                </a:moveTo>
                <a:cubicBezTo>
                  <a:pt x="21239" y="14272"/>
                  <a:pt x="21378" y="14296"/>
                  <a:pt x="21456" y="14412"/>
                </a:cubicBezTo>
                <a:cubicBezTo>
                  <a:pt x="21530" y="14523"/>
                  <a:pt x="21339" y="14595"/>
                  <a:pt x="21258" y="14610"/>
                </a:cubicBezTo>
                <a:cubicBezTo>
                  <a:pt x="21099" y="14640"/>
                  <a:pt x="21036" y="14582"/>
                  <a:pt x="21010" y="14436"/>
                </a:cubicBezTo>
                <a:cubicBezTo>
                  <a:pt x="20995" y="14350"/>
                  <a:pt x="21102" y="14305"/>
                  <a:pt x="21158" y="14263"/>
                </a:cubicBezTo>
                <a:cubicBezTo>
                  <a:pt x="21256" y="14190"/>
                  <a:pt x="21337" y="14159"/>
                  <a:pt x="21357" y="14039"/>
                </a:cubicBezTo>
                <a:cubicBezTo>
                  <a:pt x="21367" y="13981"/>
                  <a:pt x="21354" y="13906"/>
                  <a:pt x="21307" y="13866"/>
                </a:cubicBezTo>
                <a:cubicBezTo>
                  <a:pt x="21237" y="13806"/>
                  <a:pt x="21089" y="13794"/>
                  <a:pt x="21010" y="13841"/>
                </a:cubicBezTo>
                <a:cubicBezTo>
                  <a:pt x="20906" y="13903"/>
                  <a:pt x="20972" y="13997"/>
                  <a:pt x="21010" y="14064"/>
                </a:cubicBezTo>
                <a:cubicBezTo>
                  <a:pt x="21051" y="14137"/>
                  <a:pt x="21068" y="14188"/>
                  <a:pt x="21109" y="14263"/>
                </a:cubicBezTo>
              </a:path>
              <a:path w="6426" h="5334">
                <a:moveTo>
                  <a:pt x="20811" y="14957"/>
                </a:moveTo>
                <a:cubicBezTo>
                  <a:pt x="20961" y="14957"/>
                  <a:pt x="21085" y="14898"/>
                  <a:pt x="21233" y="14883"/>
                </a:cubicBezTo>
                <a:cubicBezTo>
                  <a:pt x="21386" y="14868"/>
                  <a:pt x="21585" y="14937"/>
                  <a:pt x="21729" y="14908"/>
                </a:cubicBezTo>
                <a:cubicBezTo>
                  <a:pt x="21777" y="14884"/>
                  <a:pt x="21796" y="14876"/>
                  <a:pt x="21729" y="14883"/>
                </a:cubicBezTo>
              </a:path>
              <a:path w="6426" h="5334">
                <a:moveTo>
                  <a:pt x="21183" y="15304"/>
                </a:moveTo>
                <a:cubicBezTo>
                  <a:pt x="21329" y="15253"/>
                  <a:pt x="21431" y="15210"/>
                  <a:pt x="21580" y="15255"/>
                </a:cubicBezTo>
                <a:cubicBezTo>
                  <a:pt x="21564" y="15397"/>
                  <a:pt x="21530" y="15455"/>
                  <a:pt x="21406" y="15528"/>
                </a:cubicBezTo>
                <a:cubicBezTo>
                  <a:pt x="21309" y="15576"/>
                  <a:pt x="21279" y="15591"/>
                  <a:pt x="21208" y="15602"/>
                </a:cubicBezTo>
                <a:cubicBezTo>
                  <a:pt x="21285" y="15649"/>
                  <a:pt x="21388" y="15619"/>
                  <a:pt x="21481" y="15652"/>
                </a:cubicBezTo>
                <a:cubicBezTo>
                  <a:pt x="21605" y="15695"/>
                  <a:pt x="21542" y="15862"/>
                  <a:pt x="21481" y="15925"/>
                </a:cubicBezTo>
                <a:cubicBezTo>
                  <a:pt x="21373" y="16037"/>
                  <a:pt x="21200" y="15944"/>
                  <a:pt x="21084" y="15900"/>
                </a:cubicBezTo>
                <a:cubicBezTo>
                  <a:pt x="20952" y="15850"/>
                  <a:pt x="20931" y="15874"/>
                  <a:pt x="20960" y="15776"/>
                </a:cubicBezTo>
              </a:path>
              <a:path w="6426" h="5334">
                <a:moveTo>
                  <a:pt x="18306" y="13767"/>
                </a:moveTo>
                <a:cubicBezTo>
                  <a:pt x="18346" y="13794"/>
                  <a:pt x="18342" y="13786"/>
                  <a:pt x="18380" y="13816"/>
                </a:cubicBezTo>
                <a:cubicBezTo>
                  <a:pt x="18579" y="13973"/>
                  <a:pt x="18780" y="14127"/>
                  <a:pt x="18976" y="14288"/>
                </a:cubicBezTo>
                <a:cubicBezTo>
                  <a:pt x="19114" y="14401"/>
                  <a:pt x="19242" y="14531"/>
                  <a:pt x="19348" y="14660"/>
                </a:cubicBezTo>
                <a:cubicBezTo>
                  <a:pt x="19372" y="14660"/>
                  <a:pt x="19380" y="14660"/>
                  <a:pt x="19372" y="14684"/>
                </a:cubicBezTo>
              </a:path>
              <a:path w="6426" h="5334">
                <a:moveTo>
                  <a:pt x="21158" y="15304"/>
                </a:moveTo>
                <a:cubicBezTo>
                  <a:pt x="21254" y="15400"/>
                  <a:pt x="21341" y="15477"/>
                  <a:pt x="21456" y="15553"/>
                </a:cubicBezTo>
                <a:cubicBezTo>
                  <a:pt x="21638" y="15674"/>
                  <a:pt x="21833" y="15788"/>
                  <a:pt x="22002" y="15925"/>
                </a:cubicBezTo>
                <a:cubicBezTo>
                  <a:pt x="22048" y="15971"/>
                  <a:pt x="22068" y="15989"/>
                  <a:pt x="22002" y="15949"/>
                </a:cubicBezTo>
              </a:path>
              <a:path w="6426" h="5334">
                <a:moveTo>
                  <a:pt x="18207" y="13345"/>
                </a:moveTo>
                <a:cubicBezTo>
                  <a:pt x="18216" y="13422"/>
                  <a:pt x="18272" y="13471"/>
                  <a:pt x="18281" y="13543"/>
                </a:cubicBezTo>
                <a:cubicBezTo>
                  <a:pt x="18281" y="13560"/>
                  <a:pt x="18281" y="13576"/>
                  <a:pt x="18281" y="13593"/>
                </a:cubicBezTo>
                <a:cubicBezTo>
                  <a:pt x="18230" y="13593"/>
                  <a:pt x="18042" y="13609"/>
                  <a:pt x="18008" y="13568"/>
                </a:cubicBezTo>
                <a:cubicBezTo>
                  <a:pt x="18008" y="13552"/>
                  <a:pt x="18008" y="13535"/>
                  <a:pt x="18008" y="13519"/>
                </a:cubicBezTo>
                <a:cubicBezTo>
                  <a:pt x="18094" y="13404"/>
                  <a:pt x="18190" y="13412"/>
                  <a:pt x="18306" y="13345"/>
                </a:cubicBezTo>
                <a:cubicBezTo>
                  <a:pt x="18355" y="13316"/>
                  <a:pt x="18410" y="13229"/>
                  <a:pt x="18405" y="13171"/>
                </a:cubicBezTo>
                <a:cubicBezTo>
                  <a:pt x="18395" y="13047"/>
                  <a:pt x="18288" y="12979"/>
                  <a:pt x="18182" y="12948"/>
                </a:cubicBezTo>
                <a:cubicBezTo>
                  <a:pt x="18079" y="12918"/>
                  <a:pt x="18051" y="13060"/>
                  <a:pt x="18058" y="13122"/>
                </a:cubicBezTo>
                <a:cubicBezTo>
                  <a:pt x="18073" y="13264"/>
                  <a:pt x="18188" y="13321"/>
                  <a:pt x="18306" y="13345"/>
                </a:cubicBezTo>
              </a:path>
              <a:path w="6426" h="5334">
                <a:moveTo>
                  <a:pt x="22399" y="15900"/>
                </a:moveTo>
                <a:cubicBezTo>
                  <a:pt x="22399" y="15996"/>
                  <a:pt x="22420" y="16079"/>
                  <a:pt x="22423" y="16173"/>
                </a:cubicBezTo>
                <a:cubicBezTo>
                  <a:pt x="22425" y="16230"/>
                  <a:pt x="22423" y="16289"/>
                  <a:pt x="22423" y="16346"/>
                </a:cubicBezTo>
              </a:path>
              <a:path w="6426" h="5334">
                <a:moveTo>
                  <a:pt x="22448" y="14784"/>
                </a:moveTo>
                <a:cubicBezTo>
                  <a:pt x="22548" y="14773"/>
                  <a:pt x="22647" y="14745"/>
                  <a:pt x="22746" y="14734"/>
                </a:cubicBezTo>
                <a:cubicBezTo>
                  <a:pt x="22810" y="14727"/>
                  <a:pt x="22879" y="14734"/>
                  <a:pt x="22944" y="14734"/>
                </a:cubicBezTo>
              </a:path>
              <a:path w="6426" h="5334">
                <a:moveTo>
                  <a:pt x="22523" y="15131"/>
                </a:moveTo>
                <a:cubicBezTo>
                  <a:pt x="22613" y="15131"/>
                  <a:pt x="22674" y="15132"/>
                  <a:pt x="22746" y="15156"/>
                </a:cubicBezTo>
                <a:cubicBezTo>
                  <a:pt x="22754" y="15156"/>
                  <a:pt x="22763" y="15156"/>
                  <a:pt x="22771" y="15156"/>
                </a:cubicBezTo>
              </a:path>
              <a:path w="6426" h="5334">
                <a:moveTo>
                  <a:pt x="23614" y="13667"/>
                </a:moveTo>
                <a:cubicBezTo>
                  <a:pt x="23596" y="13737"/>
                  <a:pt x="23558" y="13812"/>
                  <a:pt x="23540" y="13891"/>
                </a:cubicBezTo>
                <a:cubicBezTo>
                  <a:pt x="23499" y="14074"/>
                  <a:pt x="23490" y="14204"/>
                  <a:pt x="23664" y="14312"/>
                </a:cubicBezTo>
                <a:cubicBezTo>
                  <a:pt x="23793" y="14392"/>
                  <a:pt x="23922" y="14191"/>
                  <a:pt x="23961" y="14089"/>
                </a:cubicBezTo>
                <a:cubicBezTo>
                  <a:pt x="23961" y="14072"/>
                  <a:pt x="23961" y="14056"/>
                  <a:pt x="23961" y="14039"/>
                </a:cubicBezTo>
                <a:cubicBezTo>
                  <a:pt x="23861" y="14017"/>
                  <a:pt x="23762" y="14038"/>
                  <a:pt x="23738" y="14163"/>
                </a:cubicBezTo>
                <a:cubicBezTo>
                  <a:pt x="23704" y="14339"/>
                  <a:pt x="23764" y="14323"/>
                  <a:pt x="23887" y="14263"/>
                </a:cubicBezTo>
              </a:path>
              <a:path w="6426" h="5334">
                <a:moveTo>
                  <a:pt x="24011" y="13767"/>
                </a:moveTo>
                <a:cubicBezTo>
                  <a:pt x="24011" y="13845"/>
                  <a:pt x="23990" y="13912"/>
                  <a:pt x="23986" y="13990"/>
                </a:cubicBezTo>
                <a:cubicBezTo>
                  <a:pt x="23981" y="14106"/>
                  <a:pt x="24123" y="14098"/>
                  <a:pt x="24209" y="14089"/>
                </a:cubicBezTo>
                <a:cubicBezTo>
                  <a:pt x="24313" y="14078"/>
                  <a:pt x="24361" y="14029"/>
                  <a:pt x="24433" y="13965"/>
                </a:cubicBezTo>
              </a:path>
              <a:path w="6426" h="5334">
                <a:moveTo>
                  <a:pt x="24433" y="13667"/>
                </a:moveTo>
                <a:cubicBezTo>
                  <a:pt x="24385" y="13787"/>
                  <a:pt x="24359" y="13912"/>
                  <a:pt x="24333" y="14039"/>
                </a:cubicBezTo>
                <a:cubicBezTo>
                  <a:pt x="24307" y="14168"/>
                  <a:pt x="24284" y="14280"/>
                  <a:pt x="24284" y="14412"/>
                </a:cubicBezTo>
                <a:cubicBezTo>
                  <a:pt x="24284" y="14420"/>
                  <a:pt x="24284" y="14428"/>
                  <a:pt x="24284" y="14436"/>
                </a:cubicBezTo>
              </a:path>
              <a:path w="6426" h="5334">
                <a:moveTo>
                  <a:pt x="23540" y="14560"/>
                </a:moveTo>
                <a:cubicBezTo>
                  <a:pt x="23699" y="14545"/>
                  <a:pt x="23807" y="14564"/>
                  <a:pt x="23961" y="14610"/>
                </a:cubicBezTo>
                <a:cubicBezTo>
                  <a:pt x="24076" y="14645"/>
                  <a:pt x="24196" y="14630"/>
                  <a:pt x="24309" y="14660"/>
                </a:cubicBezTo>
                <a:cubicBezTo>
                  <a:pt x="24316" y="14662"/>
                  <a:pt x="24422" y="14684"/>
                  <a:pt x="24358" y="14684"/>
                </a:cubicBezTo>
              </a:path>
              <a:path w="6426" h="5334">
                <a:moveTo>
                  <a:pt x="23937" y="14908"/>
                </a:moveTo>
                <a:cubicBezTo>
                  <a:pt x="23988" y="14994"/>
                  <a:pt x="23966" y="15057"/>
                  <a:pt x="23961" y="15156"/>
                </a:cubicBezTo>
                <a:cubicBezTo>
                  <a:pt x="23954" y="15298"/>
                  <a:pt x="23937" y="15434"/>
                  <a:pt x="23937" y="15577"/>
                </a:cubicBezTo>
                <a:cubicBezTo>
                  <a:pt x="23937" y="15634"/>
                  <a:pt x="23952" y="15619"/>
                  <a:pt x="23986" y="15602"/>
                </a:cubicBezTo>
              </a:path>
              <a:path w="6426" h="5334">
                <a:moveTo>
                  <a:pt x="23341" y="17388"/>
                </a:moveTo>
                <a:cubicBezTo>
                  <a:pt x="23278" y="17514"/>
                  <a:pt x="23143" y="17690"/>
                  <a:pt x="23143" y="17835"/>
                </a:cubicBezTo>
                <a:cubicBezTo>
                  <a:pt x="23143" y="17949"/>
                  <a:pt x="23225" y="18119"/>
                  <a:pt x="23366" y="18083"/>
                </a:cubicBezTo>
                <a:cubicBezTo>
                  <a:pt x="23499" y="18049"/>
                  <a:pt x="23618" y="17921"/>
                  <a:pt x="23688" y="17810"/>
                </a:cubicBezTo>
                <a:cubicBezTo>
                  <a:pt x="23730" y="17744"/>
                  <a:pt x="23670" y="17656"/>
                  <a:pt x="23589" y="17661"/>
                </a:cubicBezTo>
                <a:cubicBezTo>
                  <a:pt x="23496" y="17666"/>
                  <a:pt x="23448" y="17837"/>
                  <a:pt x="23465" y="17909"/>
                </a:cubicBezTo>
                <a:cubicBezTo>
                  <a:pt x="23488" y="17932"/>
                  <a:pt x="23496" y="17936"/>
                  <a:pt x="23490" y="17959"/>
                </a:cubicBezTo>
              </a:path>
              <a:path w="6426" h="5334">
                <a:moveTo>
                  <a:pt x="23887" y="17388"/>
                </a:moveTo>
                <a:cubicBezTo>
                  <a:pt x="23873" y="17471"/>
                  <a:pt x="23861" y="17554"/>
                  <a:pt x="23837" y="17636"/>
                </a:cubicBezTo>
                <a:cubicBezTo>
                  <a:pt x="23822" y="17685"/>
                  <a:pt x="23768" y="17759"/>
                  <a:pt x="23812" y="17785"/>
                </a:cubicBezTo>
                <a:cubicBezTo>
                  <a:pt x="23897" y="17836"/>
                  <a:pt x="23976" y="17805"/>
                  <a:pt x="24061" y="17785"/>
                </a:cubicBezTo>
                <a:cubicBezTo>
                  <a:pt x="24010" y="17724"/>
                  <a:pt x="23973" y="17686"/>
                  <a:pt x="23912" y="17636"/>
                </a:cubicBezTo>
              </a:path>
              <a:path w="6426" h="5334">
                <a:moveTo>
                  <a:pt x="23763" y="17363"/>
                </a:moveTo>
                <a:cubicBezTo>
                  <a:pt x="23802" y="17453"/>
                  <a:pt x="23809" y="17580"/>
                  <a:pt x="23812" y="17686"/>
                </a:cubicBezTo>
                <a:cubicBezTo>
                  <a:pt x="23814" y="17740"/>
                  <a:pt x="23789" y="17868"/>
                  <a:pt x="23837" y="17884"/>
                </a:cubicBezTo>
              </a:path>
              <a:path w="6426" h="5334">
                <a:moveTo>
                  <a:pt x="24234" y="17462"/>
                </a:moveTo>
                <a:cubicBezTo>
                  <a:pt x="24094" y="17532"/>
                  <a:pt x="23913" y="17574"/>
                  <a:pt x="23763" y="17636"/>
                </a:cubicBezTo>
                <a:cubicBezTo>
                  <a:pt x="23598" y="17705"/>
                  <a:pt x="23358" y="17909"/>
                  <a:pt x="23738" y="17884"/>
                </a:cubicBezTo>
                <a:cubicBezTo>
                  <a:pt x="23796" y="17868"/>
                  <a:pt x="23854" y="17851"/>
                  <a:pt x="23912" y="17835"/>
                </a:cubicBezTo>
                <a:cubicBezTo>
                  <a:pt x="23885" y="17644"/>
                  <a:pt x="23356" y="17819"/>
                  <a:pt x="23217" y="17884"/>
                </a:cubicBezTo>
                <a:cubicBezTo>
                  <a:pt x="22702" y="18125"/>
                  <a:pt x="23628" y="18111"/>
                  <a:pt x="23688" y="18107"/>
                </a:cubicBezTo>
                <a:cubicBezTo>
                  <a:pt x="23746" y="18099"/>
                  <a:pt x="23804" y="18091"/>
                  <a:pt x="23862" y="18083"/>
                </a:cubicBezTo>
                <a:cubicBezTo>
                  <a:pt x="23845" y="18083"/>
                  <a:pt x="23829" y="18083"/>
                  <a:pt x="23812" y="18083"/>
                </a:cubicBezTo>
                <a:cubicBezTo>
                  <a:pt x="23707" y="18092"/>
                  <a:pt x="22833" y="18307"/>
                  <a:pt x="23391" y="18281"/>
                </a:cubicBezTo>
                <a:cubicBezTo>
                  <a:pt x="23690" y="18267"/>
                  <a:pt x="24271" y="18006"/>
                  <a:pt x="23763" y="17711"/>
                </a:cubicBezTo>
                <a:cubicBezTo>
                  <a:pt x="23509" y="17641"/>
                  <a:pt x="23438" y="17616"/>
                  <a:pt x="23267" y="17636"/>
                </a:cubicBezTo>
                <a:cubicBezTo>
                  <a:pt x="23001" y="17855"/>
                  <a:pt x="23472" y="17731"/>
                  <a:pt x="23589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0680" y="4795920"/>
            <a:ext cx="573120" cy="561960"/>
          </a:xfrm>
          <a:custGeom>
            <a:avLst/>
            <a:gdLst/>
            <a:ahLst/>
            <a:rect l="l" t="t" r="r" b="b"/>
            <a:pathLst>
              <a:path w="1589" h="1564">
                <a:moveTo>
                  <a:pt x="2629" y="13494"/>
                </a:moveTo>
                <a:cubicBezTo>
                  <a:pt x="2601" y="13475"/>
                  <a:pt x="2583" y="13462"/>
                  <a:pt x="2530" y="13444"/>
                </a:cubicBezTo>
                <a:cubicBezTo>
                  <a:pt x="2383" y="13395"/>
                  <a:pt x="2213" y="13327"/>
                  <a:pt x="2059" y="13320"/>
                </a:cubicBezTo>
                <a:cubicBezTo>
                  <a:pt x="1938" y="13314"/>
                  <a:pt x="1870" y="13342"/>
                  <a:pt x="1761" y="13395"/>
                </a:cubicBezTo>
                <a:cubicBezTo>
                  <a:pt x="1638" y="13454"/>
                  <a:pt x="1577" y="13488"/>
                  <a:pt x="1513" y="13593"/>
                </a:cubicBezTo>
                <a:cubicBezTo>
                  <a:pt x="1450" y="13697"/>
                  <a:pt x="1379" y="13789"/>
                  <a:pt x="1364" y="13915"/>
                </a:cubicBezTo>
                <a:cubicBezTo>
                  <a:pt x="1349" y="14040"/>
                  <a:pt x="1354" y="14193"/>
                  <a:pt x="1389" y="14312"/>
                </a:cubicBezTo>
                <a:cubicBezTo>
                  <a:pt x="1421" y="14420"/>
                  <a:pt x="1487" y="14505"/>
                  <a:pt x="1563" y="14585"/>
                </a:cubicBezTo>
                <a:cubicBezTo>
                  <a:pt x="1641" y="14668"/>
                  <a:pt x="1717" y="14723"/>
                  <a:pt x="1811" y="14784"/>
                </a:cubicBezTo>
                <a:cubicBezTo>
                  <a:pt x="1924" y="14858"/>
                  <a:pt x="2024" y="14879"/>
                  <a:pt x="2158" y="14883"/>
                </a:cubicBezTo>
                <a:cubicBezTo>
                  <a:pt x="2288" y="14887"/>
                  <a:pt x="2433" y="14888"/>
                  <a:pt x="2555" y="14833"/>
                </a:cubicBezTo>
                <a:cubicBezTo>
                  <a:pt x="2635" y="14797"/>
                  <a:pt x="2755" y="14681"/>
                  <a:pt x="2803" y="14610"/>
                </a:cubicBezTo>
                <a:cubicBezTo>
                  <a:pt x="2872" y="14508"/>
                  <a:pt x="2946" y="14385"/>
                  <a:pt x="2952" y="14263"/>
                </a:cubicBezTo>
                <a:cubicBezTo>
                  <a:pt x="2957" y="14177"/>
                  <a:pt x="2959" y="13972"/>
                  <a:pt x="2927" y="13891"/>
                </a:cubicBezTo>
                <a:cubicBezTo>
                  <a:pt x="2910" y="13850"/>
                  <a:pt x="2877" y="13783"/>
                  <a:pt x="2853" y="13742"/>
                </a:cubicBezTo>
                <a:cubicBezTo>
                  <a:pt x="2836" y="13717"/>
                  <a:pt x="2820" y="13692"/>
                  <a:pt x="2803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9160" y="2428920"/>
            <a:ext cx="1009800" cy="357120"/>
          </a:xfrm>
          <a:custGeom>
            <a:avLst/>
            <a:gdLst/>
            <a:ahLst/>
            <a:rect l="l" t="t" r="r" b="b"/>
            <a:pathLst>
              <a:path w="2804" h="993">
                <a:moveTo>
                  <a:pt x="18331" y="7367"/>
                </a:moveTo>
                <a:cubicBezTo>
                  <a:pt x="18468" y="7367"/>
                  <a:pt x="18596" y="7370"/>
                  <a:pt x="18728" y="7342"/>
                </a:cubicBezTo>
              </a:path>
              <a:path w="2804" h="993">
                <a:moveTo>
                  <a:pt x="18926" y="6945"/>
                </a:moveTo>
                <a:cubicBezTo>
                  <a:pt x="19019" y="6945"/>
                  <a:pt x="19097" y="6944"/>
                  <a:pt x="19174" y="6970"/>
                </a:cubicBezTo>
                <a:cubicBezTo>
                  <a:pt x="19260" y="6999"/>
                  <a:pt x="19169" y="7185"/>
                  <a:pt x="19149" y="7243"/>
                </a:cubicBezTo>
                <a:cubicBezTo>
                  <a:pt x="19099" y="7386"/>
                  <a:pt x="19033" y="7537"/>
                  <a:pt x="19025" y="7689"/>
                </a:cubicBezTo>
                <a:cubicBezTo>
                  <a:pt x="19025" y="7706"/>
                  <a:pt x="19025" y="7722"/>
                  <a:pt x="19025" y="7739"/>
                </a:cubicBezTo>
              </a:path>
              <a:path w="2804" h="993">
                <a:moveTo>
                  <a:pt x="19571" y="7268"/>
                </a:moveTo>
                <a:cubicBezTo>
                  <a:pt x="19668" y="7268"/>
                  <a:pt x="19748" y="7271"/>
                  <a:pt x="19844" y="7293"/>
                </a:cubicBezTo>
                <a:cubicBezTo>
                  <a:pt x="19953" y="7318"/>
                  <a:pt x="19965" y="7350"/>
                  <a:pt x="19993" y="7268"/>
                </a:cubicBezTo>
              </a:path>
              <a:path w="2804" h="993">
                <a:moveTo>
                  <a:pt x="20290" y="6821"/>
                </a:moveTo>
                <a:cubicBezTo>
                  <a:pt x="20404" y="6830"/>
                  <a:pt x="20530" y="6833"/>
                  <a:pt x="20638" y="6871"/>
                </a:cubicBezTo>
                <a:cubicBezTo>
                  <a:pt x="20692" y="6890"/>
                  <a:pt x="20707" y="6896"/>
                  <a:pt x="20762" y="6896"/>
                </a:cubicBezTo>
                <a:cubicBezTo>
                  <a:pt x="20743" y="6972"/>
                  <a:pt x="20707" y="7071"/>
                  <a:pt x="20662" y="7144"/>
                </a:cubicBezTo>
                <a:cubicBezTo>
                  <a:pt x="20582" y="7275"/>
                  <a:pt x="20539" y="7410"/>
                  <a:pt x="20513" y="7565"/>
                </a:cubicBezTo>
                <a:cubicBezTo>
                  <a:pt x="20513" y="7610"/>
                  <a:pt x="20517" y="7623"/>
                  <a:pt x="20489" y="7640"/>
                </a:cubicBezTo>
              </a:path>
              <a:path w="2804" h="993">
                <a:moveTo>
                  <a:pt x="19869" y="7045"/>
                </a:moveTo>
                <a:cubicBezTo>
                  <a:pt x="19893" y="7045"/>
                  <a:pt x="19901" y="7045"/>
                  <a:pt x="19893" y="7069"/>
                </a:cubicBezTo>
              </a:path>
              <a:path w="2804" h="993">
                <a:moveTo>
                  <a:pt x="19893" y="7069"/>
                </a:moveTo>
                <a:lnTo>
                  <a:pt x="19893" y="7069"/>
                </a:lnTo>
              </a:path>
              <a:path w="2804" h="993">
                <a:moveTo>
                  <a:pt x="19893" y="7069"/>
                </a:moveTo>
                <a:lnTo>
                  <a:pt x="19893" y="7069"/>
                </a:lnTo>
              </a:path>
              <a:path w="2804" h="993">
                <a:moveTo>
                  <a:pt x="19893" y="7119"/>
                </a:moveTo>
                <a:cubicBezTo>
                  <a:pt x="19855" y="7184"/>
                  <a:pt x="19780" y="7289"/>
                  <a:pt x="19769" y="7367"/>
                </a:cubicBezTo>
                <a:cubicBezTo>
                  <a:pt x="19757" y="7449"/>
                  <a:pt x="19767" y="7498"/>
                  <a:pt x="19745" y="7565"/>
                </a:cubicBezTo>
                <a:cubicBezTo>
                  <a:pt x="19736" y="7594"/>
                  <a:pt x="19722" y="7648"/>
                  <a:pt x="19745" y="7615"/>
                </a:cubicBezTo>
                <a:cubicBezTo>
                  <a:pt x="19753" y="7607"/>
                  <a:pt x="19761" y="7598"/>
                  <a:pt x="19769" y="7590"/>
                </a:cubicBezTo>
              </a:path>
              <a:path w="2804" h="993">
                <a:moveTo>
                  <a:pt x="19745" y="6747"/>
                </a:moveTo>
                <a:cubicBezTo>
                  <a:pt x="19824" y="6747"/>
                  <a:pt x="19892" y="6787"/>
                  <a:pt x="19968" y="6796"/>
                </a:cubicBezTo>
                <a:cubicBezTo>
                  <a:pt x="20066" y="6808"/>
                  <a:pt x="20119" y="6816"/>
                  <a:pt x="20216" y="6846"/>
                </a:cubicBezTo>
                <a:cubicBezTo>
                  <a:pt x="20279" y="6866"/>
                  <a:pt x="20304" y="6871"/>
                  <a:pt x="20365" y="6871"/>
                </a:cubicBezTo>
                <a:cubicBezTo>
                  <a:pt x="20373" y="6871"/>
                  <a:pt x="20381" y="6871"/>
                  <a:pt x="20389" y="6871"/>
                </a:cubicBezTo>
              </a:path>
              <a:path w="2804" h="993">
                <a:moveTo>
                  <a:pt x="20985" y="7119"/>
                </a:moveTo>
                <a:cubicBezTo>
                  <a:pt x="21035" y="7119"/>
                  <a:pt x="21084" y="7119"/>
                  <a:pt x="21134" y="7119"/>
                </a:cubicBezTo>
              </a:path>
              <a:path w="2804" h="993">
                <a:moveTo>
                  <a:pt x="20786" y="7293"/>
                </a:moveTo>
                <a:cubicBezTo>
                  <a:pt x="20848" y="7320"/>
                  <a:pt x="20922" y="7370"/>
                  <a:pt x="20960" y="7392"/>
                </a:cubicBezTo>
                <a:cubicBezTo>
                  <a:pt x="20995" y="7392"/>
                  <a:pt x="21012" y="7387"/>
                  <a:pt x="21034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24040" y="4938840"/>
            <a:ext cx="1258920" cy="1008000"/>
          </a:xfrm>
          <a:custGeom>
            <a:avLst/>
            <a:gdLst/>
            <a:ahLst/>
            <a:rect l="l" t="t" r="r" b="b"/>
            <a:pathLst>
              <a:path w="3499" h="2804">
                <a:moveTo>
                  <a:pt x="4911" y="15156"/>
                </a:moveTo>
                <a:cubicBezTo>
                  <a:pt x="4929" y="15206"/>
                  <a:pt x="5055" y="15180"/>
                  <a:pt x="5110" y="15180"/>
                </a:cubicBezTo>
                <a:cubicBezTo>
                  <a:pt x="5234" y="15180"/>
                  <a:pt x="5358" y="15180"/>
                  <a:pt x="5482" y="15180"/>
                </a:cubicBezTo>
              </a:path>
              <a:path w="3499" h="2804">
                <a:moveTo>
                  <a:pt x="5135" y="14932"/>
                </a:moveTo>
                <a:cubicBezTo>
                  <a:pt x="5135" y="15029"/>
                  <a:pt x="5096" y="15110"/>
                  <a:pt x="5085" y="15205"/>
                </a:cubicBezTo>
                <a:cubicBezTo>
                  <a:pt x="5073" y="15311"/>
                  <a:pt x="5101" y="15402"/>
                  <a:pt x="5110" y="15503"/>
                </a:cubicBezTo>
                <a:cubicBezTo>
                  <a:pt x="5110" y="15511"/>
                  <a:pt x="5110" y="15520"/>
                  <a:pt x="5110" y="15528"/>
                </a:cubicBezTo>
              </a:path>
              <a:path w="3499" h="2804">
                <a:moveTo>
                  <a:pt x="5804" y="14932"/>
                </a:moveTo>
                <a:cubicBezTo>
                  <a:pt x="5804" y="15036"/>
                  <a:pt x="5801" y="15127"/>
                  <a:pt x="5779" y="15230"/>
                </a:cubicBezTo>
                <a:cubicBezTo>
                  <a:pt x="5759" y="15320"/>
                  <a:pt x="5739" y="15416"/>
                  <a:pt x="5730" y="15503"/>
                </a:cubicBezTo>
                <a:cubicBezTo>
                  <a:pt x="5730" y="15511"/>
                  <a:pt x="5730" y="15520"/>
                  <a:pt x="5730" y="15528"/>
                </a:cubicBezTo>
              </a:path>
              <a:path w="3499" h="2804">
                <a:moveTo>
                  <a:pt x="6028" y="14957"/>
                </a:moveTo>
                <a:cubicBezTo>
                  <a:pt x="6028" y="15043"/>
                  <a:pt x="5989" y="15102"/>
                  <a:pt x="5953" y="15180"/>
                </a:cubicBezTo>
                <a:cubicBezTo>
                  <a:pt x="5907" y="15281"/>
                  <a:pt x="5978" y="15295"/>
                  <a:pt x="6077" y="15304"/>
                </a:cubicBezTo>
                <a:cubicBezTo>
                  <a:pt x="6214" y="15316"/>
                  <a:pt x="6235" y="15299"/>
                  <a:pt x="6300" y="15205"/>
                </a:cubicBezTo>
              </a:path>
              <a:path w="3499" h="2804">
                <a:moveTo>
                  <a:pt x="6424" y="14883"/>
                </a:moveTo>
                <a:cubicBezTo>
                  <a:pt x="6357" y="14992"/>
                  <a:pt x="6314" y="15131"/>
                  <a:pt x="6276" y="15255"/>
                </a:cubicBezTo>
                <a:cubicBezTo>
                  <a:pt x="6237" y="15383"/>
                  <a:pt x="6231" y="15479"/>
                  <a:pt x="6176" y="15602"/>
                </a:cubicBezTo>
                <a:cubicBezTo>
                  <a:pt x="6168" y="15619"/>
                  <a:pt x="6160" y="15635"/>
                  <a:pt x="6152" y="15652"/>
                </a:cubicBezTo>
              </a:path>
              <a:path w="3499" h="2804">
                <a:moveTo>
                  <a:pt x="4787" y="15751"/>
                </a:moveTo>
                <a:cubicBezTo>
                  <a:pt x="4897" y="15751"/>
                  <a:pt x="5001" y="15770"/>
                  <a:pt x="5110" y="15776"/>
                </a:cubicBezTo>
                <a:cubicBezTo>
                  <a:pt x="5316" y="15787"/>
                  <a:pt x="5525" y="15797"/>
                  <a:pt x="5730" y="15801"/>
                </a:cubicBezTo>
                <a:cubicBezTo>
                  <a:pt x="5876" y="15804"/>
                  <a:pt x="6010" y="15807"/>
                  <a:pt x="6152" y="15825"/>
                </a:cubicBezTo>
                <a:cubicBezTo>
                  <a:pt x="6193" y="15825"/>
                  <a:pt x="6201" y="15825"/>
                  <a:pt x="6226" y="15825"/>
                </a:cubicBezTo>
              </a:path>
              <a:path w="3499" h="2804">
                <a:moveTo>
                  <a:pt x="5606" y="15925"/>
                </a:moveTo>
                <a:cubicBezTo>
                  <a:pt x="5598" y="15969"/>
                  <a:pt x="5557" y="16051"/>
                  <a:pt x="5581" y="16098"/>
                </a:cubicBezTo>
                <a:cubicBezTo>
                  <a:pt x="5610" y="16156"/>
                  <a:pt x="5635" y="16168"/>
                  <a:pt x="5705" y="16173"/>
                </a:cubicBezTo>
                <a:cubicBezTo>
                  <a:pt x="5755" y="16177"/>
                  <a:pt x="5812" y="16148"/>
                  <a:pt x="5829" y="16098"/>
                </a:cubicBezTo>
                <a:cubicBezTo>
                  <a:pt x="5829" y="16057"/>
                  <a:pt x="5829" y="16049"/>
                  <a:pt x="5829" y="16024"/>
                </a:cubicBezTo>
                <a:cubicBezTo>
                  <a:pt x="5797" y="16024"/>
                  <a:pt x="5723" y="16051"/>
                  <a:pt x="5705" y="16049"/>
                </a:cubicBezTo>
                <a:cubicBezTo>
                  <a:pt x="5664" y="16029"/>
                  <a:pt x="5648" y="16031"/>
                  <a:pt x="5655" y="15999"/>
                </a:cubicBezTo>
              </a:path>
              <a:path w="3499" h="2804">
                <a:moveTo>
                  <a:pt x="5259" y="13717"/>
                </a:moveTo>
                <a:cubicBezTo>
                  <a:pt x="5347" y="14005"/>
                  <a:pt x="5450" y="14307"/>
                  <a:pt x="5531" y="14610"/>
                </a:cubicBezTo>
                <a:cubicBezTo>
                  <a:pt x="5634" y="14997"/>
                  <a:pt x="5759" y="15371"/>
                  <a:pt x="5879" y="15751"/>
                </a:cubicBezTo>
                <a:cubicBezTo>
                  <a:pt x="5919" y="15874"/>
                  <a:pt x="5936" y="15896"/>
                  <a:pt x="5928" y="15974"/>
                </a:cubicBezTo>
              </a:path>
              <a:path w="3499" h="2804">
                <a:moveTo>
                  <a:pt x="6350" y="14064"/>
                </a:moveTo>
                <a:cubicBezTo>
                  <a:pt x="6175" y="14254"/>
                  <a:pt x="6014" y="14456"/>
                  <a:pt x="5854" y="14660"/>
                </a:cubicBezTo>
                <a:cubicBezTo>
                  <a:pt x="5540" y="15060"/>
                  <a:pt x="5255" y="15490"/>
                  <a:pt x="4961" y="15900"/>
                </a:cubicBezTo>
                <a:cubicBezTo>
                  <a:pt x="4922" y="15938"/>
                  <a:pt x="4890" y="15955"/>
                  <a:pt x="4936" y="15949"/>
                </a:cubicBezTo>
              </a:path>
              <a:path w="3499" h="2804">
                <a:moveTo>
                  <a:pt x="6846" y="15156"/>
                </a:moveTo>
                <a:cubicBezTo>
                  <a:pt x="6910" y="15193"/>
                  <a:pt x="6950" y="15181"/>
                  <a:pt x="7020" y="15156"/>
                </a:cubicBezTo>
              </a:path>
              <a:path w="3499" h="2804">
                <a:moveTo>
                  <a:pt x="6871" y="15007"/>
                </a:moveTo>
                <a:cubicBezTo>
                  <a:pt x="6871" y="15122"/>
                  <a:pt x="6839" y="15285"/>
                  <a:pt x="6896" y="15379"/>
                </a:cubicBezTo>
              </a:path>
              <a:path w="3499" h="2804">
                <a:moveTo>
                  <a:pt x="7317" y="14883"/>
                </a:moveTo>
                <a:cubicBezTo>
                  <a:pt x="7317" y="15048"/>
                  <a:pt x="7317" y="15214"/>
                  <a:pt x="7317" y="15379"/>
                </a:cubicBezTo>
              </a:path>
              <a:path w="3499" h="2804">
                <a:moveTo>
                  <a:pt x="7615" y="14833"/>
                </a:moveTo>
                <a:cubicBezTo>
                  <a:pt x="7615" y="14896"/>
                  <a:pt x="7597" y="14950"/>
                  <a:pt x="7590" y="15007"/>
                </a:cubicBezTo>
                <a:cubicBezTo>
                  <a:pt x="7587" y="15027"/>
                  <a:pt x="7539" y="15201"/>
                  <a:pt x="7541" y="15205"/>
                </a:cubicBezTo>
                <a:cubicBezTo>
                  <a:pt x="7562" y="15259"/>
                  <a:pt x="7702" y="15216"/>
                  <a:pt x="7739" y="15205"/>
                </a:cubicBezTo>
                <a:cubicBezTo>
                  <a:pt x="7812" y="15183"/>
                  <a:pt x="7836" y="15157"/>
                  <a:pt x="7888" y="15106"/>
                </a:cubicBezTo>
              </a:path>
              <a:path w="3499" h="2804">
                <a:moveTo>
                  <a:pt x="7789" y="14883"/>
                </a:moveTo>
                <a:cubicBezTo>
                  <a:pt x="7756" y="15001"/>
                  <a:pt x="7781" y="15061"/>
                  <a:pt x="7813" y="15180"/>
                </a:cubicBezTo>
                <a:cubicBezTo>
                  <a:pt x="7839" y="15275"/>
                  <a:pt x="7838" y="15357"/>
                  <a:pt x="7838" y="15453"/>
                </a:cubicBezTo>
                <a:cubicBezTo>
                  <a:pt x="7838" y="15478"/>
                  <a:pt x="7838" y="15486"/>
                  <a:pt x="7838" y="15503"/>
                </a:cubicBezTo>
              </a:path>
              <a:path w="3499" h="2804">
                <a:moveTo>
                  <a:pt x="6573" y="15701"/>
                </a:moveTo>
                <a:cubicBezTo>
                  <a:pt x="6809" y="15652"/>
                  <a:pt x="7052" y="15635"/>
                  <a:pt x="7293" y="15627"/>
                </a:cubicBezTo>
                <a:cubicBezTo>
                  <a:pt x="7534" y="15619"/>
                  <a:pt x="7771" y="15602"/>
                  <a:pt x="8012" y="15602"/>
                </a:cubicBezTo>
                <a:cubicBezTo>
                  <a:pt x="8103" y="15602"/>
                  <a:pt x="8194" y="15602"/>
                  <a:pt x="8285" y="15602"/>
                </a:cubicBezTo>
              </a:path>
              <a:path w="3499" h="2804">
                <a:moveTo>
                  <a:pt x="7169" y="15850"/>
                </a:moveTo>
                <a:cubicBezTo>
                  <a:pt x="7248" y="15857"/>
                  <a:pt x="7379" y="15863"/>
                  <a:pt x="7441" y="15925"/>
                </a:cubicBezTo>
                <a:cubicBezTo>
                  <a:pt x="7521" y="16005"/>
                  <a:pt x="7581" y="16132"/>
                  <a:pt x="7565" y="16247"/>
                </a:cubicBezTo>
                <a:cubicBezTo>
                  <a:pt x="7544" y="16400"/>
                  <a:pt x="7439" y="16492"/>
                  <a:pt x="7293" y="16520"/>
                </a:cubicBezTo>
                <a:cubicBezTo>
                  <a:pt x="7221" y="16534"/>
                  <a:pt x="7194" y="16510"/>
                  <a:pt x="7144" y="16470"/>
                </a:cubicBezTo>
                <a:cubicBezTo>
                  <a:pt x="7183" y="16407"/>
                  <a:pt x="7255" y="16316"/>
                  <a:pt x="7342" y="16321"/>
                </a:cubicBezTo>
                <a:cubicBezTo>
                  <a:pt x="7420" y="16325"/>
                  <a:pt x="7430" y="16406"/>
                  <a:pt x="7491" y="16421"/>
                </a:cubicBezTo>
                <a:cubicBezTo>
                  <a:pt x="7508" y="16421"/>
                  <a:pt x="7524" y="16421"/>
                  <a:pt x="7541" y="16421"/>
                </a:cubicBezTo>
              </a:path>
              <a:path w="3499" h="2804">
                <a:moveTo>
                  <a:pt x="7813" y="15875"/>
                </a:moveTo>
                <a:cubicBezTo>
                  <a:pt x="7806" y="15950"/>
                  <a:pt x="7789" y="16022"/>
                  <a:pt x="7789" y="16098"/>
                </a:cubicBezTo>
                <a:cubicBezTo>
                  <a:pt x="7789" y="16157"/>
                  <a:pt x="7922" y="16147"/>
                  <a:pt x="7962" y="16148"/>
                </a:cubicBezTo>
                <a:cubicBezTo>
                  <a:pt x="8061" y="16151"/>
                  <a:pt x="8063" y="16125"/>
                  <a:pt x="8111" y="16049"/>
                </a:cubicBezTo>
              </a:path>
              <a:path w="3499" h="2804">
                <a:moveTo>
                  <a:pt x="8161" y="15850"/>
                </a:moveTo>
                <a:cubicBezTo>
                  <a:pt x="8144" y="15936"/>
                  <a:pt x="8136" y="16004"/>
                  <a:pt x="8136" y="16098"/>
                </a:cubicBezTo>
                <a:cubicBezTo>
                  <a:pt x="8136" y="16193"/>
                  <a:pt x="8078" y="16329"/>
                  <a:pt x="8111" y="16421"/>
                </a:cubicBezTo>
                <a:cubicBezTo>
                  <a:pt x="8139" y="16449"/>
                  <a:pt x="8148" y="16462"/>
                  <a:pt x="8136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21000" y="5419800"/>
            <a:ext cx="1322280" cy="652320"/>
          </a:xfrm>
          <a:custGeom>
            <a:avLst/>
            <a:gdLst/>
            <a:ahLst/>
            <a:rect l="l" t="t" r="r" b="b"/>
            <a:pathLst>
              <a:path w="3672" h="1812">
                <a:moveTo>
                  <a:pt x="9475" y="15106"/>
                </a:moveTo>
                <a:cubicBezTo>
                  <a:pt x="9589" y="15079"/>
                  <a:pt x="9661" y="15065"/>
                  <a:pt x="9773" y="15081"/>
                </a:cubicBezTo>
                <a:cubicBezTo>
                  <a:pt x="9742" y="15185"/>
                  <a:pt x="9676" y="15268"/>
                  <a:pt x="9599" y="15354"/>
                </a:cubicBezTo>
                <a:cubicBezTo>
                  <a:pt x="9591" y="15362"/>
                  <a:pt x="9583" y="15371"/>
                  <a:pt x="9575" y="15379"/>
                </a:cubicBezTo>
                <a:cubicBezTo>
                  <a:pt x="9631" y="15393"/>
                  <a:pt x="9689" y="15404"/>
                  <a:pt x="9748" y="15429"/>
                </a:cubicBezTo>
                <a:cubicBezTo>
                  <a:pt x="9826" y="15461"/>
                  <a:pt x="9804" y="15509"/>
                  <a:pt x="9773" y="15577"/>
                </a:cubicBezTo>
                <a:cubicBezTo>
                  <a:pt x="9723" y="15688"/>
                  <a:pt x="9571" y="15667"/>
                  <a:pt x="9475" y="15652"/>
                </a:cubicBezTo>
              </a:path>
              <a:path w="3672" h="1812">
                <a:moveTo>
                  <a:pt x="9227" y="15900"/>
                </a:moveTo>
                <a:cubicBezTo>
                  <a:pt x="9502" y="15900"/>
                  <a:pt x="9774" y="15904"/>
                  <a:pt x="10046" y="15925"/>
                </a:cubicBezTo>
                <a:cubicBezTo>
                  <a:pt x="10071" y="15925"/>
                  <a:pt x="10095" y="15925"/>
                  <a:pt x="10120" y="15925"/>
                </a:cubicBezTo>
              </a:path>
              <a:path w="3672" h="1812">
                <a:moveTo>
                  <a:pt x="9376" y="16545"/>
                </a:moveTo>
                <a:cubicBezTo>
                  <a:pt x="9409" y="16626"/>
                  <a:pt x="9494" y="16681"/>
                  <a:pt x="9525" y="16743"/>
                </a:cubicBezTo>
                <a:cubicBezTo>
                  <a:pt x="9525" y="16760"/>
                  <a:pt x="9525" y="16776"/>
                  <a:pt x="9525" y="16793"/>
                </a:cubicBezTo>
                <a:cubicBezTo>
                  <a:pt x="9451" y="16850"/>
                  <a:pt x="9343" y="16917"/>
                  <a:pt x="9277" y="16793"/>
                </a:cubicBezTo>
                <a:cubicBezTo>
                  <a:pt x="9233" y="16711"/>
                  <a:pt x="9429" y="16543"/>
                  <a:pt x="9475" y="16495"/>
                </a:cubicBezTo>
                <a:cubicBezTo>
                  <a:pt x="9542" y="16425"/>
                  <a:pt x="9592" y="16369"/>
                  <a:pt x="9599" y="16272"/>
                </a:cubicBezTo>
                <a:cubicBezTo>
                  <a:pt x="9604" y="16208"/>
                  <a:pt x="9503" y="16156"/>
                  <a:pt x="9451" y="16148"/>
                </a:cubicBezTo>
                <a:cubicBezTo>
                  <a:pt x="9358" y="16133"/>
                  <a:pt x="9293" y="16195"/>
                  <a:pt x="9252" y="16272"/>
                </a:cubicBezTo>
                <a:cubicBezTo>
                  <a:pt x="9193" y="16383"/>
                  <a:pt x="9296" y="16466"/>
                  <a:pt x="9401" y="16495"/>
                </a:cubicBezTo>
                <a:cubicBezTo>
                  <a:pt x="9426" y="16495"/>
                  <a:pt x="9450" y="16495"/>
                  <a:pt x="9475" y="16495"/>
                </a:cubicBezTo>
              </a:path>
              <a:path w="3672" h="1812">
                <a:moveTo>
                  <a:pt x="10368" y="15925"/>
                </a:moveTo>
                <a:cubicBezTo>
                  <a:pt x="10348" y="16026"/>
                  <a:pt x="10365" y="16112"/>
                  <a:pt x="10368" y="16222"/>
                </a:cubicBezTo>
                <a:cubicBezTo>
                  <a:pt x="10370" y="16299"/>
                  <a:pt x="10381" y="16348"/>
                  <a:pt x="10393" y="16421"/>
                </a:cubicBezTo>
                <a:cubicBezTo>
                  <a:pt x="10501" y="16353"/>
                  <a:pt x="10575" y="16247"/>
                  <a:pt x="10616" y="16123"/>
                </a:cubicBezTo>
                <a:cubicBezTo>
                  <a:pt x="10616" y="16106"/>
                  <a:pt x="10616" y="16090"/>
                  <a:pt x="10616" y="16073"/>
                </a:cubicBezTo>
                <a:cubicBezTo>
                  <a:pt x="10675" y="16151"/>
                  <a:pt x="10672" y="16261"/>
                  <a:pt x="10716" y="16346"/>
                </a:cubicBezTo>
                <a:cubicBezTo>
                  <a:pt x="10732" y="16363"/>
                  <a:pt x="10749" y="16379"/>
                  <a:pt x="10765" y="16396"/>
                </a:cubicBezTo>
                <a:cubicBezTo>
                  <a:pt x="10901" y="16327"/>
                  <a:pt x="10915" y="16217"/>
                  <a:pt x="10889" y="16073"/>
                </a:cubicBezTo>
                <a:cubicBezTo>
                  <a:pt x="10870" y="16016"/>
                  <a:pt x="10861" y="16009"/>
                  <a:pt x="10864" y="15974"/>
                </a:cubicBezTo>
              </a:path>
              <a:path w="3672" h="1812">
                <a:moveTo>
                  <a:pt x="11286" y="15850"/>
                </a:moveTo>
                <a:cubicBezTo>
                  <a:pt x="11332" y="15869"/>
                  <a:pt x="11442" y="15907"/>
                  <a:pt x="11460" y="15925"/>
                </a:cubicBezTo>
              </a:path>
              <a:path w="3672" h="1812">
                <a:moveTo>
                  <a:pt x="11361" y="16173"/>
                </a:moveTo>
                <a:cubicBezTo>
                  <a:pt x="11419" y="16173"/>
                  <a:pt x="11476" y="16173"/>
                  <a:pt x="11534" y="16173"/>
                </a:cubicBezTo>
              </a:path>
              <a:path w="3672" h="1812">
                <a:moveTo>
                  <a:pt x="12005" y="15701"/>
                </a:moveTo>
                <a:cubicBezTo>
                  <a:pt x="12136" y="15730"/>
                  <a:pt x="12346" y="15736"/>
                  <a:pt x="12378" y="15900"/>
                </a:cubicBezTo>
                <a:cubicBezTo>
                  <a:pt x="12403" y="16028"/>
                  <a:pt x="12339" y="16242"/>
                  <a:pt x="12229" y="16321"/>
                </a:cubicBezTo>
                <a:cubicBezTo>
                  <a:pt x="12098" y="16416"/>
                  <a:pt x="11959" y="16418"/>
                  <a:pt x="11857" y="16297"/>
                </a:cubicBezTo>
                <a:cubicBezTo>
                  <a:pt x="11849" y="16280"/>
                  <a:pt x="11840" y="16264"/>
                  <a:pt x="11832" y="16247"/>
                </a:cubicBezTo>
                <a:cubicBezTo>
                  <a:pt x="11929" y="16178"/>
                  <a:pt x="12012" y="16143"/>
                  <a:pt x="12129" y="16197"/>
                </a:cubicBezTo>
                <a:cubicBezTo>
                  <a:pt x="12223" y="16240"/>
                  <a:pt x="12284" y="16324"/>
                  <a:pt x="12378" y="16371"/>
                </a:cubicBezTo>
                <a:cubicBezTo>
                  <a:pt x="12427" y="16396"/>
                  <a:pt x="12444" y="16404"/>
                  <a:pt x="12477" y="16371"/>
                </a:cubicBezTo>
              </a:path>
              <a:path w="3672" h="1812">
                <a:moveTo>
                  <a:pt x="12601" y="15751"/>
                </a:moveTo>
                <a:cubicBezTo>
                  <a:pt x="12554" y="15767"/>
                  <a:pt x="12554" y="15842"/>
                  <a:pt x="12551" y="15900"/>
                </a:cubicBezTo>
                <a:cubicBezTo>
                  <a:pt x="12551" y="15959"/>
                  <a:pt x="12548" y="15985"/>
                  <a:pt x="12526" y="16024"/>
                </a:cubicBezTo>
                <a:cubicBezTo>
                  <a:pt x="12615" y="16024"/>
                  <a:pt x="12614" y="16082"/>
                  <a:pt x="12725" y="16073"/>
                </a:cubicBezTo>
                <a:cubicBezTo>
                  <a:pt x="12809" y="16053"/>
                  <a:pt x="12828" y="16051"/>
                  <a:pt x="12874" y="16024"/>
                </a:cubicBezTo>
              </a:path>
              <a:path w="3672" h="1812">
                <a:moveTo>
                  <a:pt x="12898" y="15627"/>
                </a:moveTo>
                <a:cubicBezTo>
                  <a:pt x="12850" y="15693"/>
                  <a:pt x="12823" y="15766"/>
                  <a:pt x="12799" y="15850"/>
                </a:cubicBezTo>
                <a:cubicBezTo>
                  <a:pt x="12763" y="15975"/>
                  <a:pt x="12754" y="16117"/>
                  <a:pt x="12750" y="16247"/>
                </a:cubicBezTo>
                <a:cubicBezTo>
                  <a:pt x="12747" y="16356"/>
                  <a:pt x="12733" y="16439"/>
                  <a:pt x="12700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48000" y="5402160"/>
            <a:ext cx="492120" cy="1251000"/>
          </a:xfrm>
          <a:custGeom>
            <a:avLst/>
            <a:gdLst/>
            <a:ahLst/>
            <a:rect l="l" t="t" r="r" b="b"/>
            <a:pathLst>
              <a:path w="1365" h="3473">
                <a:moveTo>
                  <a:pt x="9302" y="15007"/>
                </a:moveTo>
                <a:cubicBezTo>
                  <a:pt x="9333" y="15145"/>
                  <a:pt x="9376" y="15290"/>
                  <a:pt x="9401" y="15429"/>
                </a:cubicBezTo>
                <a:cubicBezTo>
                  <a:pt x="9464" y="15782"/>
                  <a:pt x="9459" y="16147"/>
                  <a:pt x="9550" y="16495"/>
                </a:cubicBezTo>
                <a:cubicBezTo>
                  <a:pt x="9614" y="16740"/>
                  <a:pt x="9717" y="16967"/>
                  <a:pt x="9773" y="17214"/>
                </a:cubicBezTo>
                <a:cubicBezTo>
                  <a:pt x="9803" y="17346"/>
                  <a:pt x="9833" y="17518"/>
                  <a:pt x="9897" y="17636"/>
                </a:cubicBezTo>
                <a:cubicBezTo>
                  <a:pt x="9980" y="17789"/>
                  <a:pt x="10087" y="17924"/>
                  <a:pt x="10195" y="18058"/>
                </a:cubicBezTo>
                <a:cubicBezTo>
                  <a:pt x="10295" y="18182"/>
                  <a:pt x="10403" y="18277"/>
                  <a:pt x="10517" y="18380"/>
                </a:cubicBezTo>
                <a:cubicBezTo>
                  <a:pt x="10565" y="18423"/>
                  <a:pt x="10591" y="18454"/>
                  <a:pt x="10641" y="18479"/>
                </a:cubicBezTo>
                <a:cubicBezTo>
                  <a:pt x="10649" y="18479"/>
                  <a:pt x="10658" y="18479"/>
                  <a:pt x="10666" y="184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87800" y="5965920"/>
            <a:ext cx="1563480" cy="650880"/>
          </a:xfrm>
          <a:custGeom>
            <a:avLst/>
            <a:gdLst/>
            <a:ahLst/>
            <a:rect l="l" t="t" r="r" b="b"/>
            <a:pathLst>
              <a:path w="4342" h="1811">
                <a:moveTo>
                  <a:pt x="8855" y="17190"/>
                </a:moveTo>
                <a:cubicBezTo>
                  <a:pt x="8963" y="17243"/>
                  <a:pt x="9053" y="17261"/>
                  <a:pt x="9178" y="17264"/>
                </a:cubicBezTo>
                <a:cubicBezTo>
                  <a:pt x="9369" y="17269"/>
                  <a:pt x="9536" y="17226"/>
                  <a:pt x="9723" y="17214"/>
                </a:cubicBezTo>
                <a:cubicBezTo>
                  <a:pt x="9923" y="17201"/>
                  <a:pt x="10121" y="17180"/>
                  <a:pt x="10319" y="17165"/>
                </a:cubicBezTo>
                <a:cubicBezTo>
                  <a:pt x="10455" y="17155"/>
                  <a:pt x="10605" y="17160"/>
                  <a:pt x="10740" y="17140"/>
                </a:cubicBezTo>
                <a:cubicBezTo>
                  <a:pt x="10834" y="17126"/>
                  <a:pt x="10915" y="17115"/>
                  <a:pt x="11013" y="17115"/>
                </a:cubicBezTo>
                <a:cubicBezTo>
                  <a:pt x="11021" y="17115"/>
                  <a:pt x="11030" y="17115"/>
                  <a:pt x="11038" y="17115"/>
                </a:cubicBezTo>
              </a:path>
              <a:path w="4342" h="1811">
                <a:moveTo>
                  <a:pt x="9773" y="17462"/>
                </a:moveTo>
                <a:cubicBezTo>
                  <a:pt x="9847" y="17462"/>
                  <a:pt x="9880" y="17437"/>
                  <a:pt x="9872" y="17487"/>
                </a:cubicBezTo>
                <a:cubicBezTo>
                  <a:pt x="9821" y="17546"/>
                  <a:pt x="9774" y="17574"/>
                  <a:pt x="9699" y="17611"/>
                </a:cubicBezTo>
                <a:cubicBezTo>
                  <a:pt x="9725" y="17630"/>
                  <a:pt x="9799" y="17633"/>
                  <a:pt x="9847" y="17661"/>
                </a:cubicBezTo>
                <a:cubicBezTo>
                  <a:pt x="9895" y="17685"/>
                  <a:pt x="9912" y="17691"/>
                  <a:pt x="9897" y="17735"/>
                </a:cubicBezTo>
                <a:cubicBezTo>
                  <a:pt x="9876" y="17777"/>
                  <a:pt x="9811" y="17846"/>
                  <a:pt x="9748" y="17835"/>
                </a:cubicBezTo>
                <a:cubicBezTo>
                  <a:pt x="9690" y="17825"/>
                  <a:pt x="9674" y="17778"/>
                  <a:pt x="9649" y="17735"/>
                </a:cubicBezTo>
              </a:path>
              <a:path w="4342" h="1811">
                <a:moveTo>
                  <a:pt x="10492" y="17462"/>
                </a:moveTo>
                <a:cubicBezTo>
                  <a:pt x="10398" y="17631"/>
                  <a:pt x="10292" y="17783"/>
                  <a:pt x="10170" y="17934"/>
                </a:cubicBezTo>
                <a:cubicBezTo>
                  <a:pt x="10060" y="18070"/>
                  <a:pt x="9942" y="18204"/>
                  <a:pt x="9823" y="18331"/>
                </a:cubicBezTo>
                <a:cubicBezTo>
                  <a:pt x="9789" y="18367"/>
                  <a:pt x="9811" y="18367"/>
                  <a:pt x="9773" y="18380"/>
                </a:cubicBezTo>
              </a:path>
              <a:path w="4342" h="1811">
                <a:moveTo>
                  <a:pt x="10765" y="17983"/>
                </a:moveTo>
                <a:cubicBezTo>
                  <a:pt x="10841" y="18034"/>
                  <a:pt x="10954" y="18071"/>
                  <a:pt x="10964" y="18157"/>
                </a:cubicBezTo>
                <a:cubicBezTo>
                  <a:pt x="10972" y="18221"/>
                  <a:pt x="10973" y="18318"/>
                  <a:pt x="10889" y="18331"/>
                </a:cubicBezTo>
                <a:cubicBezTo>
                  <a:pt x="10787" y="18347"/>
                  <a:pt x="10641" y="18339"/>
                  <a:pt x="10567" y="18256"/>
                </a:cubicBezTo>
                <a:cubicBezTo>
                  <a:pt x="10567" y="18228"/>
                  <a:pt x="10565" y="18217"/>
                  <a:pt x="10542" y="18207"/>
                </a:cubicBezTo>
                <a:cubicBezTo>
                  <a:pt x="10612" y="18114"/>
                  <a:pt x="10702" y="18103"/>
                  <a:pt x="10790" y="18033"/>
                </a:cubicBezTo>
                <a:cubicBezTo>
                  <a:pt x="10829" y="18002"/>
                  <a:pt x="10925" y="17917"/>
                  <a:pt x="10939" y="17859"/>
                </a:cubicBezTo>
                <a:cubicBezTo>
                  <a:pt x="10956" y="17789"/>
                  <a:pt x="10943" y="17745"/>
                  <a:pt x="10889" y="17711"/>
                </a:cubicBezTo>
                <a:cubicBezTo>
                  <a:pt x="10822" y="17669"/>
                  <a:pt x="10773" y="17640"/>
                  <a:pt x="10691" y="17636"/>
                </a:cubicBezTo>
                <a:cubicBezTo>
                  <a:pt x="10631" y="17633"/>
                  <a:pt x="10590" y="17666"/>
                  <a:pt x="10567" y="17711"/>
                </a:cubicBezTo>
                <a:cubicBezTo>
                  <a:pt x="10540" y="17764"/>
                  <a:pt x="10514" y="17837"/>
                  <a:pt x="10567" y="17884"/>
                </a:cubicBezTo>
                <a:cubicBezTo>
                  <a:pt x="10609" y="17922"/>
                  <a:pt x="10634" y="17948"/>
                  <a:pt x="10666" y="17959"/>
                </a:cubicBezTo>
              </a:path>
              <a:path w="4342" h="1811">
                <a:moveTo>
                  <a:pt x="11559" y="16570"/>
                </a:moveTo>
                <a:cubicBezTo>
                  <a:pt x="11713" y="16599"/>
                  <a:pt x="11873" y="16636"/>
                  <a:pt x="12030" y="16644"/>
                </a:cubicBezTo>
                <a:cubicBezTo>
                  <a:pt x="12337" y="16660"/>
                  <a:pt x="12643" y="16635"/>
                  <a:pt x="12948" y="16619"/>
                </a:cubicBezTo>
                <a:cubicBezTo>
                  <a:pt x="13054" y="16613"/>
                  <a:pt x="13102" y="16610"/>
                  <a:pt x="13196" y="16594"/>
                </a:cubicBezTo>
              </a:path>
              <a:path w="4342" h="1811">
                <a:moveTo>
                  <a:pt x="12055" y="17016"/>
                </a:moveTo>
                <a:cubicBezTo>
                  <a:pt x="12116" y="16980"/>
                  <a:pt x="12219" y="16907"/>
                  <a:pt x="12254" y="16942"/>
                </a:cubicBezTo>
                <a:cubicBezTo>
                  <a:pt x="12229" y="17055"/>
                  <a:pt x="12110" y="17075"/>
                  <a:pt x="12080" y="17165"/>
                </a:cubicBezTo>
                <a:cubicBezTo>
                  <a:pt x="12088" y="17165"/>
                  <a:pt x="12097" y="17165"/>
                  <a:pt x="12105" y="17165"/>
                </a:cubicBezTo>
                <a:cubicBezTo>
                  <a:pt x="12187" y="17193"/>
                  <a:pt x="12270" y="17167"/>
                  <a:pt x="12328" y="17239"/>
                </a:cubicBezTo>
                <a:cubicBezTo>
                  <a:pt x="12350" y="17283"/>
                  <a:pt x="12353" y="17295"/>
                  <a:pt x="12378" y="17314"/>
                </a:cubicBezTo>
                <a:cubicBezTo>
                  <a:pt x="12325" y="17345"/>
                  <a:pt x="12220" y="17357"/>
                  <a:pt x="12154" y="17338"/>
                </a:cubicBezTo>
                <a:cubicBezTo>
                  <a:pt x="12146" y="17330"/>
                  <a:pt x="12137" y="17322"/>
                  <a:pt x="12129" y="17314"/>
                </a:cubicBezTo>
              </a:path>
              <a:path w="4342" h="1811">
                <a:moveTo>
                  <a:pt x="11782" y="17562"/>
                </a:moveTo>
                <a:cubicBezTo>
                  <a:pt x="11928" y="17659"/>
                  <a:pt x="12166" y="17617"/>
                  <a:pt x="12353" y="17611"/>
                </a:cubicBezTo>
                <a:cubicBezTo>
                  <a:pt x="12477" y="17607"/>
                  <a:pt x="12601" y="17611"/>
                  <a:pt x="12725" y="17611"/>
                </a:cubicBezTo>
              </a:path>
              <a:path w="4342" h="1811">
                <a:moveTo>
                  <a:pt x="12378" y="17859"/>
                </a:moveTo>
                <a:cubicBezTo>
                  <a:pt x="12390" y="17921"/>
                  <a:pt x="12423" y="17975"/>
                  <a:pt x="12452" y="18033"/>
                </a:cubicBezTo>
                <a:cubicBezTo>
                  <a:pt x="12457" y="18043"/>
                  <a:pt x="12503" y="18170"/>
                  <a:pt x="12477" y="18182"/>
                </a:cubicBezTo>
                <a:cubicBezTo>
                  <a:pt x="12419" y="18208"/>
                  <a:pt x="12247" y="18242"/>
                  <a:pt x="12229" y="18157"/>
                </a:cubicBezTo>
                <a:cubicBezTo>
                  <a:pt x="12211" y="18070"/>
                  <a:pt x="12337" y="17972"/>
                  <a:pt x="12378" y="17909"/>
                </a:cubicBezTo>
                <a:cubicBezTo>
                  <a:pt x="12402" y="17872"/>
                  <a:pt x="12452" y="17756"/>
                  <a:pt x="12477" y="17735"/>
                </a:cubicBezTo>
                <a:cubicBezTo>
                  <a:pt x="12503" y="17713"/>
                  <a:pt x="12502" y="17737"/>
                  <a:pt x="12502" y="17686"/>
                </a:cubicBezTo>
                <a:cubicBezTo>
                  <a:pt x="12438" y="17648"/>
                  <a:pt x="12358" y="17640"/>
                  <a:pt x="12278" y="17636"/>
                </a:cubicBezTo>
                <a:cubicBezTo>
                  <a:pt x="12262" y="17636"/>
                  <a:pt x="12245" y="17636"/>
                  <a:pt x="12229" y="17636"/>
                </a:cubicBezTo>
                <a:cubicBezTo>
                  <a:pt x="12229" y="17686"/>
                  <a:pt x="12240" y="17695"/>
                  <a:pt x="12254" y="17735"/>
                </a:cubicBezTo>
                <a:cubicBezTo>
                  <a:pt x="12271" y="17784"/>
                  <a:pt x="12260" y="17791"/>
                  <a:pt x="12303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26040" y="5286240"/>
            <a:ext cx="438120" cy="768600"/>
          </a:xfrm>
          <a:custGeom>
            <a:avLst/>
            <a:gdLst/>
            <a:ahLst/>
            <a:rect l="l" t="t" r="r" b="b"/>
            <a:pathLst>
              <a:path w="1216" h="2135">
                <a:moveTo>
                  <a:pt x="14362" y="15081"/>
                </a:moveTo>
                <a:cubicBezTo>
                  <a:pt x="14403" y="14938"/>
                  <a:pt x="14488" y="14886"/>
                  <a:pt x="14635" y="14858"/>
                </a:cubicBezTo>
                <a:cubicBezTo>
                  <a:pt x="14794" y="14828"/>
                  <a:pt x="14779" y="15027"/>
                  <a:pt x="14784" y="15131"/>
                </a:cubicBezTo>
                <a:cubicBezTo>
                  <a:pt x="14791" y="15278"/>
                  <a:pt x="14729" y="15477"/>
                  <a:pt x="14610" y="15577"/>
                </a:cubicBezTo>
                <a:cubicBezTo>
                  <a:pt x="14563" y="15617"/>
                  <a:pt x="14377" y="15694"/>
                  <a:pt x="14312" y="15677"/>
                </a:cubicBezTo>
                <a:cubicBezTo>
                  <a:pt x="14238" y="15658"/>
                  <a:pt x="14238" y="15590"/>
                  <a:pt x="14238" y="15528"/>
                </a:cubicBezTo>
                <a:cubicBezTo>
                  <a:pt x="14238" y="15520"/>
                  <a:pt x="14238" y="15511"/>
                  <a:pt x="14238" y="15503"/>
                </a:cubicBezTo>
                <a:cubicBezTo>
                  <a:pt x="14340" y="15477"/>
                  <a:pt x="14458" y="15469"/>
                  <a:pt x="14560" y="15503"/>
                </a:cubicBezTo>
                <a:cubicBezTo>
                  <a:pt x="14609" y="15520"/>
                  <a:pt x="14628" y="15599"/>
                  <a:pt x="14660" y="15627"/>
                </a:cubicBezTo>
                <a:cubicBezTo>
                  <a:pt x="14676" y="15635"/>
                  <a:pt x="14693" y="15644"/>
                  <a:pt x="14709" y="15652"/>
                </a:cubicBezTo>
              </a:path>
              <a:path w="1216" h="2135">
                <a:moveTo>
                  <a:pt x="14883" y="14883"/>
                </a:moveTo>
                <a:cubicBezTo>
                  <a:pt x="14844" y="14948"/>
                  <a:pt x="14858" y="15026"/>
                  <a:pt x="14858" y="15106"/>
                </a:cubicBezTo>
                <a:cubicBezTo>
                  <a:pt x="14858" y="15212"/>
                  <a:pt x="14867" y="15290"/>
                  <a:pt x="14808" y="15379"/>
                </a:cubicBezTo>
                <a:cubicBezTo>
                  <a:pt x="14889" y="15414"/>
                  <a:pt x="14986" y="15404"/>
                  <a:pt x="15081" y="15404"/>
                </a:cubicBezTo>
                <a:cubicBezTo>
                  <a:pt x="15189" y="15404"/>
                  <a:pt x="15184" y="15407"/>
                  <a:pt x="15280" y="15354"/>
                </a:cubicBezTo>
              </a:path>
              <a:path w="1216" h="2135">
                <a:moveTo>
                  <a:pt x="15304" y="14883"/>
                </a:moveTo>
                <a:cubicBezTo>
                  <a:pt x="15263" y="15024"/>
                  <a:pt x="15280" y="15180"/>
                  <a:pt x="15280" y="15329"/>
                </a:cubicBezTo>
                <a:cubicBezTo>
                  <a:pt x="15280" y="15459"/>
                  <a:pt x="15290" y="15603"/>
                  <a:pt x="15329" y="15726"/>
                </a:cubicBezTo>
                <a:cubicBezTo>
                  <a:pt x="15353" y="15803"/>
                  <a:pt x="15343" y="15811"/>
                  <a:pt x="15379" y="15751"/>
                </a:cubicBezTo>
              </a:path>
              <a:path w="1216" h="2135">
                <a:moveTo>
                  <a:pt x="14337" y="15825"/>
                </a:moveTo>
                <a:cubicBezTo>
                  <a:pt x="14318" y="15881"/>
                  <a:pt x="14313" y="15861"/>
                  <a:pt x="14412" y="15900"/>
                </a:cubicBezTo>
                <a:cubicBezTo>
                  <a:pt x="14604" y="15976"/>
                  <a:pt x="14806" y="15955"/>
                  <a:pt x="15007" y="16024"/>
                </a:cubicBezTo>
                <a:cubicBezTo>
                  <a:pt x="15148" y="16073"/>
                  <a:pt x="15256" y="16098"/>
                  <a:pt x="15404" y="16098"/>
                </a:cubicBezTo>
                <a:cubicBezTo>
                  <a:pt x="15429" y="16098"/>
                  <a:pt x="15437" y="16098"/>
                  <a:pt x="15453" y="16098"/>
                </a:cubicBezTo>
              </a:path>
              <a:path w="1216" h="2135">
                <a:moveTo>
                  <a:pt x="14784" y="16272"/>
                </a:moveTo>
                <a:cubicBezTo>
                  <a:pt x="14847" y="16294"/>
                  <a:pt x="14774" y="16369"/>
                  <a:pt x="14759" y="16421"/>
                </a:cubicBezTo>
                <a:cubicBezTo>
                  <a:pt x="14740" y="16489"/>
                  <a:pt x="14750" y="16575"/>
                  <a:pt x="14734" y="16644"/>
                </a:cubicBezTo>
                <a:cubicBezTo>
                  <a:pt x="14719" y="16710"/>
                  <a:pt x="14709" y="16749"/>
                  <a:pt x="14709" y="16818"/>
                </a:cubicBezTo>
              </a:path>
              <a:path w="1216" h="2135">
                <a:moveTo>
                  <a:pt x="14312" y="14684"/>
                </a:moveTo>
                <a:cubicBezTo>
                  <a:pt x="14408" y="14828"/>
                  <a:pt x="14560" y="14934"/>
                  <a:pt x="14684" y="15056"/>
                </a:cubicBezTo>
                <a:cubicBezTo>
                  <a:pt x="14793" y="15163"/>
                  <a:pt x="14951" y="15379"/>
                  <a:pt x="15081" y="15453"/>
                </a:cubicBezTo>
                <a:cubicBezTo>
                  <a:pt x="15106" y="15461"/>
                  <a:pt x="15131" y="15470"/>
                  <a:pt x="15156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13280" y="5286240"/>
            <a:ext cx="509760" cy="571680"/>
          </a:xfrm>
          <a:custGeom>
            <a:avLst/>
            <a:gdLst/>
            <a:ahLst/>
            <a:rect l="l" t="t" r="r" b="b"/>
            <a:pathLst>
              <a:path w="1415" h="1589">
                <a:moveTo>
                  <a:pt x="16148" y="15230"/>
                </a:moveTo>
                <a:cubicBezTo>
                  <a:pt x="16235" y="15230"/>
                  <a:pt x="16312" y="15216"/>
                  <a:pt x="16396" y="15205"/>
                </a:cubicBezTo>
                <a:cubicBezTo>
                  <a:pt x="16413" y="15205"/>
                  <a:pt x="16429" y="15205"/>
                  <a:pt x="16446" y="15205"/>
                </a:cubicBezTo>
              </a:path>
              <a:path w="1415" h="1589">
                <a:moveTo>
                  <a:pt x="16148" y="14833"/>
                </a:moveTo>
                <a:lnTo>
                  <a:pt x="16148" y="14833"/>
                </a:lnTo>
                <a:lnTo>
                  <a:pt x="16148" y="14833"/>
                </a:lnTo>
              </a:path>
              <a:path w="1415" h="1589">
                <a:moveTo>
                  <a:pt x="16321" y="15627"/>
                </a:moveTo>
                <a:cubicBezTo>
                  <a:pt x="16346" y="15602"/>
                  <a:pt x="16354" y="15594"/>
                  <a:pt x="16371" y="15627"/>
                </a:cubicBezTo>
              </a:path>
              <a:path w="1415" h="1589">
                <a:moveTo>
                  <a:pt x="17016" y="14734"/>
                </a:moveTo>
                <a:cubicBezTo>
                  <a:pt x="17100" y="14685"/>
                  <a:pt x="17123" y="14695"/>
                  <a:pt x="17214" y="14709"/>
                </a:cubicBezTo>
                <a:cubicBezTo>
                  <a:pt x="17203" y="14808"/>
                  <a:pt x="17185" y="14839"/>
                  <a:pt x="17115" y="14908"/>
                </a:cubicBezTo>
                <a:cubicBezTo>
                  <a:pt x="17107" y="14916"/>
                  <a:pt x="17098" y="14924"/>
                  <a:pt x="17090" y="14932"/>
                </a:cubicBezTo>
                <a:cubicBezTo>
                  <a:pt x="17176" y="14980"/>
                  <a:pt x="17226" y="15012"/>
                  <a:pt x="17264" y="15106"/>
                </a:cubicBezTo>
                <a:cubicBezTo>
                  <a:pt x="17310" y="15219"/>
                  <a:pt x="17112" y="15240"/>
                  <a:pt x="17066" y="15255"/>
                </a:cubicBezTo>
                <a:cubicBezTo>
                  <a:pt x="16993" y="15278"/>
                  <a:pt x="17032" y="15285"/>
                  <a:pt x="16991" y="15230"/>
                </a:cubicBezTo>
              </a:path>
              <a:path w="1415" h="1589">
                <a:moveTo>
                  <a:pt x="16867" y="15553"/>
                </a:moveTo>
                <a:cubicBezTo>
                  <a:pt x="17067" y="15561"/>
                  <a:pt x="17261" y="15577"/>
                  <a:pt x="17462" y="15577"/>
                </a:cubicBezTo>
                <a:cubicBezTo>
                  <a:pt x="17520" y="15577"/>
                  <a:pt x="17529" y="15577"/>
                  <a:pt x="17562" y="15577"/>
                </a:cubicBezTo>
              </a:path>
              <a:path w="1415" h="1589">
                <a:moveTo>
                  <a:pt x="17016" y="15999"/>
                </a:moveTo>
                <a:cubicBezTo>
                  <a:pt x="17061" y="16040"/>
                  <a:pt x="17149" y="16120"/>
                  <a:pt x="17140" y="16197"/>
                </a:cubicBezTo>
                <a:cubicBezTo>
                  <a:pt x="17129" y="16290"/>
                  <a:pt x="16999" y="16289"/>
                  <a:pt x="16942" y="16247"/>
                </a:cubicBezTo>
                <a:cubicBezTo>
                  <a:pt x="16882" y="16203"/>
                  <a:pt x="16897" y="16139"/>
                  <a:pt x="16966" y="16073"/>
                </a:cubicBezTo>
                <a:cubicBezTo>
                  <a:pt x="17027" y="16016"/>
                  <a:pt x="17111" y="15987"/>
                  <a:pt x="17140" y="15900"/>
                </a:cubicBezTo>
                <a:cubicBezTo>
                  <a:pt x="17153" y="15861"/>
                  <a:pt x="17137" y="15789"/>
                  <a:pt x="17090" y="15776"/>
                </a:cubicBezTo>
                <a:cubicBezTo>
                  <a:pt x="17037" y="15761"/>
                  <a:pt x="16954" y="15770"/>
                  <a:pt x="16942" y="15825"/>
                </a:cubicBezTo>
                <a:cubicBezTo>
                  <a:pt x="16924" y="15906"/>
                  <a:pt x="16940" y="15932"/>
                  <a:pt x="16991" y="15974"/>
                </a:cubicBezTo>
                <a:cubicBezTo>
                  <a:pt x="16999" y="15982"/>
                  <a:pt x="17008" y="15991"/>
                  <a:pt x="17016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32680" y="6375240"/>
            <a:ext cx="277560" cy="277920"/>
          </a:xfrm>
          <a:custGeom>
            <a:avLst/>
            <a:gdLst/>
            <a:ahLst/>
            <a:rect l="l" t="t" r="r" b="b"/>
            <a:pathLst>
              <a:path w="770" h="769">
                <a:moveTo>
                  <a:pt x="17314" y="18132"/>
                </a:moveTo>
                <a:cubicBezTo>
                  <a:pt x="17314" y="18021"/>
                  <a:pt x="17331" y="18176"/>
                  <a:pt x="17338" y="18207"/>
                </a:cubicBezTo>
                <a:cubicBezTo>
                  <a:pt x="17343" y="18229"/>
                  <a:pt x="17367" y="18463"/>
                  <a:pt x="17388" y="18479"/>
                </a:cubicBezTo>
                <a:cubicBezTo>
                  <a:pt x="17396" y="18479"/>
                  <a:pt x="17405" y="18479"/>
                  <a:pt x="17413" y="18479"/>
                </a:cubicBezTo>
                <a:cubicBezTo>
                  <a:pt x="17471" y="18356"/>
                  <a:pt x="17476" y="18252"/>
                  <a:pt x="17512" y="18132"/>
                </a:cubicBezTo>
                <a:cubicBezTo>
                  <a:pt x="17520" y="18116"/>
                  <a:pt x="17529" y="18099"/>
                  <a:pt x="17537" y="18083"/>
                </a:cubicBezTo>
                <a:cubicBezTo>
                  <a:pt x="17616" y="18102"/>
                  <a:pt x="17691" y="18226"/>
                  <a:pt x="17760" y="18281"/>
                </a:cubicBezTo>
                <a:cubicBezTo>
                  <a:pt x="17819" y="18328"/>
                  <a:pt x="17909" y="18388"/>
                  <a:pt x="17959" y="18405"/>
                </a:cubicBezTo>
                <a:cubicBezTo>
                  <a:pt x="17982" y="18309"/>
                  <a:pt x="18037" y="18249"/>
                  <a:pt x="18058" y="18132"/>
                </a:cubicBezTo>
                <a:cubicBezTo>
                  <a:pt x="18083" y="17994"/>
                  <a:pt x="18086" y="17833"/>
                  <a:pt x="18033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61080" y="6340320"/>
            <a:ext cx="152640" cy="115920"/>
          </a:xfrm>
          <a:custGeom>
            <a:avLst/>
            <a:gdLst/>
            <a:ahLst/>
            <a:rect l="l" t="t" r="r" b="b"/>
            <a:pathLst>
              <a:path w="423" h="324">
                <a:moveTo>
                  <a:pt x="18504" y="17686"/>
                </a:moveTo>
                <a:cubicBezTo>
                  <a:pt x="18596" y="17661"/>
                  <a:pt x="18681" y="17642"/>
                  <a:pt x="18777" y="17636"/>
                </a:cubicBezTo>
                <a:cubicBezTo>
                  <a:pt x="18805" y="17636"/>
                  <a:pt x="18816" y="17634"/>
                  <a:pt x="18827" y="17611"/>
                </a:cubicBezTo>
              </a:path>
              <a:path w="423" h="324">
                <a:moveTo>
                  <a:pt x="18604" y="17884"/>
                </a:moveTo>
                <a:cubicBezTo>
                  <a:pt x="18722" y="17921"/>
                  <a:pt x="18784" y="17917"/>
                  <a:pt x="18901" y="17909"/>
                </a:cubicBezTo>
                <a:cubicBezTo>
                  <a:pt x="18909" y="17909"/>
                  <a:pt x="18918" y="17909"/>
                  <a:pt x="18926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91200" y="6224760"/>
            <a:ext cx="482760" cy="339480"/>
          </a:xfrm>
          <a:custGeom>
            <a:avLst/>
            <a:gdLst/>
            <a:ahLst/>
            <a:rect l="l" t="t" r="r" b="b"/>
            <a:pathLst>
              <a:path w="1341" h="943">
                <a:moveTo>
                  <a:pt x="19521" y="17338"/>
                </a:moveTo>
                <a:cubicBezTo>
                  <a:pt x="19509" y="17499"/>
                  <a:pt x="19422" y="17648"/>
                  <a:pt x="19422" y="17810"/>
                </a:cubicBezTo>
                <a:cubicBezTo>
                  <a:pt x="19422" y="18045"/>
                  <a:pt x="19536" y="18192"/>
                  <a:pt x="19769" y="18182"/>
                </a:cubicBezTo>
                <a:cubicBezTo>
                  <a:pt x="19923" y="18175"/>
                  <a:pt x="20095" y="18024"/>
                  <a:pt x="20067" y="17859"/>
                </a:cubicBezTo>
                <a:cubicBezTo>
                  <a:pt x="20059" y="17851"/>
                  <a:pt x="20050" y="17843"/>
                  <a:pt x="20042" y="17835"/>
                </a:cubicBezTo>
                <a:cubicBezTo>
                  <a:pt x="19919" y="17843"/>
                  <a:pt x="19786" y="17861"/>
                  <a:pt x="19745" y="18008"/>
                </a:cubicBezTo>
                <a:cubicBezTo>
                  <a:pt x="19693" y="18195"/>
                  <a:pt x="19838" y="18173"/>
                  <a:pt x="19943" y="18132"/>
                </a:cubicBezTo>
              </a:path>
              <a:path w="1341" h="943">
                <a:moveTo>
                  <a:pt x="20315" y="17289"/>
                </a:moveTo>
                <a:cubicBezTo>
                  <a:pt x="20298" y="17388"/>
                  <a:pt x="20248" y="17461"/>
                  <a:pt x="20241" y="17562"/>
                </a:cubicBezTo>
                <a:cubicBezTo>
                  <a:pt x="20231" y="17697"/>
                  <a:pt x="20271" y="17740"/>
                  <a:pt x="20414" y="17760"/>
                </a:cubicBezTo>
                <a:cubicBezTo>
                  <a:pt x="20536" y="17777"/>
                  <a:pt x="20637" y="17773"/>
                  <a:pt x="20712" y="17686"/>
                </a:cubicBezTo>
              </a:path>
              <a:path w="1341" h="943">
                <a:moveTo>
                  <a:pt x="20762" y="17338"/>
                </a:moveTo>
                <a:cubicBezTo>
                  <a:pt x="20742" y="17419"/>
                  <a:pt x="20696" y="17490"/>
                  <a:pt x="20687" y="17587"/>
                </a:cubicBezTo>
                <a:cubicBezTo>
                  <a:pt x="20672" y="17752"/>
                  <a:pt x="20662" y="17916"/>
                  <a:pt x="20662" y="18083"/>
                </a:cubicBezTo>
                <a:cubicBezTo>
                  <a:pt x="20662" y="18173"/>
                  <a:pt x="20678" y="18177"/>
                  <a:pt x="20638" y="182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3080" y="1795320"/>
            <a:ext cx="2259000" cy="61920"/>
          </a:xfrm>
          <a:custGeom>
            <a:avLst/>
            <a:gdLst/>
            <a:ahLst/>
            <a:rect l="l" t="t" r="r" b="b"/>
            <a:pathLst>
              <a:path w="6276" h="174">
                <a:moveTo>
                  <a:pt x="2729" y="5085"/>
                </a:moveTo>
                <a:cubicBezTo>
                  <a:pt x="2797" y="5095"/>
                  <a:pt x="2786" y="5094"/>
                  <a:pt x="2853" y="5110"/>
                </a:cubicBezTo>
                <a:cubicBezTo>
                  <a:pt x="3066" y="5161"/>
                  <a:pt x="3283" y="5142"/>
                  <a:pt x="3497" y="5135"/>
                </a:cubicBezTo>
                <a:cubicBezTo>
                  <a:pt x="3688" y="5129"/>
                  <a:pt x="3878" y="5113"/>
                  <a:pt x="4068" y="5085"/>
                </a:cubicBezTo>
                <a:cubicBezTo>
                  <a:pt x="4310" y="5049"/>
                  <a:pt x="4568" y="5029"/>
                  <a:pt x="4812" y="5011"/>
                </a:cubicBezTo>
                <a:cubicBezTo>
                  <a:pt x="5019" y="4996"/>
                  <a:pt x="5223" y="4986"/>
                  <a:pt x="5432" y="4986"/>
                </a:cubicBezTo>
                <a:cubicBezTo>
                  <a:pt x="5702" y="4986"/>
                  <a:pt x="5958" y="5005"/>
                  <a:pt x="6226" y="5035"/>
                </a:cubicBezTo>
                <a:cubicBezTo>
                  <a:pt x="6509" y="5067"/>
                  <a:pt x="6784" y="5106"/>
                  <a:pt x="7069" y="5110"/>
                </a:cubicBezTo>
                <a:cubicBezTo>
                  <a:pt x="7590" y="5117"/>
                  <a:pt x="8115" y="5119"/>
                  <a:pt x="8632" y="5085"/>
                </a:cubicBezTo>
                <a:cubicBezTo>
                  <a:pt x="8738" y="5078"/>
                  <a:pt x="8813" y="5080"/>
                  <a:pt x="8905" y="5060"/>
                </a:cubicBezTo>
                <a:cubicBezTo>
                  <a:pt x="8945" y="5040"/>
                  <a:pt x="8951" y="5031"/>
                  <a:pt x="8979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  <p:sndAc>
      <p:stSnd>
        <p:snd r:embed="rId9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400800" cy="774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2425320"/>
            <a:ext cx="77724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E-76 Pizzaz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2:17:36Z</dcterms:created>
  <dc:creator>ccps</dc:creator>
  <dc:description/>
  <dc:language>en-US</dc:language>
  <cp:lastModifiedBy>deanne elizabeth mcgrath</cp:lastModifiedBy>
  <dcterms:modified xsi:type="dcterms:W3CDTF">2011-04-20T16:41:58Z</dcterms:modified>
  <cp:revision>17</cp:revision>
  <dc:subject/>
  <dc:title>Obj 7.5:  To solve two step equations.</dc:title>
</cp:coreProperties>
</file>